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409-28B1-4413-BB43-42322C9F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894-B105-4576-B6DF-5B138A5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70D-C1D3-4C36-B377-87BE716C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934-2FDA-49E5-95F5-E47FD6E3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709-043F-41EE-935E-69F90E3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C9A6-3C10-4BB0-BC19-4C6EFBA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E21D-B183-48C1-9DD5-FDBEC569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3198-68F2-49C8-9A0A-647AE514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09E1-4779-4AFF-A607-9711E6D6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1138-283B-4E34-887E-EE19AE36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CD1F-16D9-4EBD-825D-098916F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144-6C5F-4201-8CBF-27B921B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45E-B335-4A29-8CE3-4D9795D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F66F-6426-481F-9BAF-06E1FDD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D6A-F3C6-44ED-BEC8-8DAD1CA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D3F1-683E-449C-B8C3-BDD49BF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4202-56DA-47AF-B4C6-8C51123D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2A5-29DB-445C-8131-4B1B0CF5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8F4-39FE-45CF-88AB-B707A54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8F1-8C79-4B1A-9185-7011E41F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91D-5F0C-440C-9985-4557DBF0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36B-CCDF-4CDF-9C84-B266078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6E5-3E74-4214-96A0-BCFD836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064-D981-4CAA-ABEF-EBFDE12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33A-E5C8-417D-8E77-19FCA3D04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9A5-EB56-4502-8678-9D640C24D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appy Thanksgiving!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1040" y="1973160"/>
            <a:ext cx="696960" cy="615960"/>
          </a:xfrm>
          <a:custGeom>
            <a:avLst/>
            <a:gdLst/>
            <a:ahLst/>
            <a:rect l="l" t="t" r="r" b="b"/>
            <a:pathLst>
              <a:path w="1936" h="1712">
                <a:moveTo>
                  <a:pt x="2282" y="5755"/>
                </a:moveTo>
                <a:cubicBezTo>
                  <a:pt x="2308" y="5729"/>
                  <a:pt x="2304" y="5739"/>
                  <a:pt x="2307" y="5779"/>
                </a:cubicBezTo>
                <a:cubicBezTo>
                  <a:pt x="2312" y="5839"/>
                  <a:pt x="2282" y="5885"/>
                  <a:pt x="2282" y="5953"/>
                </a:cubicBezTo>
                <a:cubicBezTo>
                  <a:pt x="2282" y="6041"/>
                  <a:pt x="2261" y="6115"/>
                  <a:pt x="2257" y="6201"/>
                </a:cubicBezTo>
                <a:cubicBezTo>
                  <a:pt x="2252" y="6313"/>
                  <a:pt x="2212" y="6417"/>
                  <a:pt x="2208" y="6524"/>
                </a:cubicBezTo>
                <a:cubicBezTo>
                  <a:pt x="2205" y="6597"/>
                  <a:pt x="2183" y="6626"/>
                  <a:pt x="2183" y="6697"/>
                </a:cubicBezTo>
                <a:cubicBezTo>
                  <a:pt x="2183" y="6722"/>
                  <a:pt x="2183" y="6730"/>
                  <a:pt x="2183" y="6747"/>
                </a:cubicBezTo>
              </a:path>
              <a:path w="1936" h="1712">
                <a:moveTo>
                  <a:pt x="2952" y="5829"/>
                </a:moveTo>
                <a:cubicBezTo>
                  <a:pt x="2952" y="5780"/>
                  <a:pt x="2957" y="5730"/>
                  <a:pt x="2902" y="5705"/>
                </a:cubicBezTo>
                <a:cubicBezTo>
                  <a:pt x="2854" y="5684"/>
                  <a:pt x="2789" y="5709"/>
                  <a:pt x="2753" y="5730"/>
                </a:cubicBezTo>
                <a:cubicBezTo>
                  <a:pt x="2678" y="5774"/>
                  <a:pt x="2598" y="5831"/>
                  <a:pt x="2555" y="5904"/>
                </a:cubicBezTo>
                <a:cubicBezTo>
                  <a:pt x="2515" y="5971"/>
                  <a:pt x="2502" y="6034"/>
                  <a:pt x="2480" y="6102"/>
                </a:cubicBezTo>
                <a:cubicBezTo>
                  <a:pt x="2461" y="6162"/>
                  <a:pt x="2435" y="6200"/>
                  <a:pt x="2480" y="6251"/>
                </a:cubicBezTo>
                <a:cubicBezTo>
                  <a:pt x="2508" y="6283"/>
                  <a:pt x="2521" y="6329"/>
                  <a:pt x="2580" y="6300"/>
                </a:cubicBezTo>
                <a:cubicBezTo>
                  <a:pt x="2665" y="6258"/>
                  <a:pt x="2660" y="6263"/>
                  <a:pt x="2729" y="6176"/>
                </a:cubicBezTo>
                <a:cubicBezTo>
                  <a:pt x="2777" y="6115"/>
                  <a:pt x="2799" y="6086"/>
                  <a:pt x="2828" y="6028"/>
                </a:cubicBezTo>
                <a:cubicBezTo>
                  <a:pt x="2852" y="5981"/>
                  <a:pt x="2877" y="5961"/>
                  <a:pt x="2877" y="5904"/>
                </a:cubicBezTo>
                <a:cubicBezTo>
                  <a:pt x="2877" y="5853"/>
                  <a:pt x="2918" y="5874"/>
                  <a:pt x="2877" y="5854"/>
                </a:cubicBezTo>
                <a:cubicBezTo>
                  <a:pt x="2877" y="5984"/>
                  <a:pt x="2938" y="6717"/>
                  <a:pt x="2853" y="6747"/>
                </a:cubicBezTo>
              </a:path>
              <a:path w="1936" h="1712">
                <a:moveTo>
                  <a:pt x="3200" y="5804"/>
                </a:moveTo>
                <a:cubicBezTo>
                  <a:pt x="3157" y="5719"/>
                  <a:pt x="3128" y="5641"/>
                  <a:pt x="3051" y="5581"/>
                </a:cubicBezTo>
                <a:cubicBezTo>
                  <a:pt x="2943" y="5497"/>
                  <a:pt x="2809" y="5482"/>
                  <a:pt x="2679" y="5482"/>
                </a:cubicBezTo>
                <a:cubicBezTo>
                  <a:pt x="2551" y="5482"/>
                  <a:pt x="2455" y="5494"/>
                  <a:pt x="2332" y="5531"/>
                </a:cubicBezTo>
                <a:cubicBezTo>
                  <a:pt x="2238" y="5559"/>
                  <a:pt x="2110" y="5617"/>
                  <a:pt x="2034" y="5680"/>
                </a:cubicBezTo>
                <a:cubicBezTo>
                  <a:pt x="1951" y="5748"/>
                  <a:pt x="1854" y="5850"/>
                  <a:pt x="1786" y="5928"/>
                </a:cubicBezTo>
                <a:cubicBezTo>
                  <a:pt x="1712" y="6013"/>
                  <a:pt x="1688" y="6127"/>
                  <a:pt x="1662" y="6226"/>
                </a:cubicBezTo>
                <a:cubicBezTo>
                  <a:pt x="1633" y="6335"/>
                  <a:pt x="1612" y="6409"/>
                  <a:pt x="1612" y="6524"/>
                </a:cubicBezTo>
                <a:cubicBezTo>
                  <a:pt x="1612" y="6651"/>
                  <a:pt x="1657" y="6760"/>
                  <a:pt x="1712" y="6871"/>
                </a:cubicBezTo>
                <a:cubicBezTo>
                  <a:pt x="1744" y="6936"/>
                  <a:pt x="1820" y="7033"/>
                  <a:pt x="1885" y="7069"/>
                </a:cubicBezTo>
                <a:cubicBezTo>
                  <a:pt x="1992" y="7129"/>
                  <a:pt x="2068" y="7146"/>
                  <a:pt x="2183" y="7169"/>
                </a:cubicBezTo>
                <a:cubicBezTo>
                  <a:pt x="2273" y="7187"/>
                  <a:pt x="2384" y="7184"/>
                  <a:pt x="2480" y="7169"/>
                </a:cubicBezTo>
                <a:cubicBezTo>
                  <a:pt x="2601" y="7150"/>
                  <a:pt x="2723" y="7103"/>
                  <a:pt x="2828" y="7045"/>
                </a:cubicBezTo>
                <a:cubicBezTo>
                  <a:pt x="2967" y="6968"/>
                  <a:pt x="3075" y="6905"/>
                  <a:pt x="3200" y="6796"/>
                </a:cubicBezTo>
                <a:cubicBezTo>
                  <a:pt x="3276" y="6729"/>
                  <a:pt x="3341" y="6655"/>
                  <a:pt x="3398" y="6573"/>
                </a:cubicBezTo>
                <a:cubicBezTo>
                  <a:pt x="3445" y="6505"/>
                  <a:pt x="3508" y="6408"/>
                  <a:pt x="3522" y="6325"/>
                </a:cubicBezTo>
                <a:cubicBezTo>
                  <a:pt x="3535" y="6247"/>
                  <a:pt x="3559" y="6159"/>
                  <a:pt x="3547" y="6077"/>
                </a:cubicBezTo>
                <a:cubicBezTo>
                  <a:pt x="3535" y="5998"/>
                  <a:pt x="3455" y="5877"/>
                  <a:pt x="3398" y="5829"/>
                </a:cubicBezTo>
                <a:cubicBezTo>
                  <a:pt x="3349" y="5788"/>
                  <a:pt x="3282" y="5759"/>
                  <a:pt x="3225" y="5730"/>
                </a:cubicBezTo>
                <a:cubicBezTo>
                  <a:pt x="3149" y="5692"/>
                  <a:pt x="3110" y="5683"/>
                  <a:pt x="3026" y="5680"/>
                </a:cubicBezTo>
                <a:cubicBezTo>
                  <a:pt x="2985" y="5680"/>
                  <a:pt x="2977" y="5680"/>
                  <a:pt x="2952" y="56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55880" y="1901880"/>
            <a:ext cx="3295440" cy="519120"/>
          </a:xfrm>
          <a:custGeom>
            <a:avLst/>
            <a:gdLst/>
            <a:ahLst/>
            <a:rect l="l" t="t" r="r" b="b"/>
            <a:pathLst>
              <a:path w="9154" h="1440">
                <a:moveTo>
                  <a:pt x="5879" y="5953"/>
                </a:moveTo>
                <a:cubicBezTo>
                  <a:pt x="5840" y="5940"/>
                  <a:pt x="5858" y="5893"/>
                  <a:pt x="5829" y="5879"/>
                </a:cubicBezTo>
                <a:cubicBezTo>
                  <a:pt x="5797" y="5863"/>
                  <a:pt x="5804" y="5854"/>
                  <a:pt x="5755" y="5854"/>
                </a:cubicBezTo>
                <a:cubicBezTo>
                  <a:pt x="5702" y="5854"/>
                  <a:pt x="5693" y="5866"/>
                  <a:pt x="5655" y="5904"/>
                </a:cubicBezTo>
                <a:cubicBezTo>
                  <a:pt x="5609" y="5950"/>
                  <a:pt x="5566" y="5970"/>
                  <a:pt x="5531" y="6028"/>
                </a:cubicBezTo>
                <a:cubicBezTo>
                  <a:pt x="5487" y="6102"/>
                  <a:pt x="5481" y="6175"/>
                  <a:pt x="5457" y="6251"/>
                </a:cubicBezTo>
                <a:cubicBezTo>
                  <a:pt x="5437" y="6314"/>
                  <a:pt x="5407" y="6405"/>
                  <a:pt x="5432" y="6474"/>
                </a:cubicBezTo>
                <a:cubicBezTo>
                  <a:pt x="5450" y="6525"/>
                  <a:pt x="5503" y="6614"/>
                  <a:pt x="5556" y="6648"/>
                </a:cubicBezTo>
                <a:cubicBezTo>
                  <a:pt x="5611" y="6683"/>
                  <a:pt x="5668" y="6672"/>
                  <a:pt x="5730" y="6672"/>
                </a:cubicBezTo>
                <a:cubicBezTo>
                  <a:pt x="5799" y="6672"/>
                  <a:pt x="5824" y="6666"/>
                  <a:pt x="5879" y="6623"/>
                </a:cubicBezTo>
              </a:path>
              <a:path w="9154" h="1440">
                <a:moveTo>
                  <a:pt x="6276" y="6028"/>
                </a:moveTo>
                <a:cubicBezTo>
                  <a:pt x="6252" y="6090"/>
                  <a:pt x="6247" y="6143"/>
                  <a:pt x="6226" y="6201"/>
                </a:cubicBezTo>
                <a:cubicBezTo>
                  <a:pt x="6197" y="6283"/>
                  <a:pt x="6176" y="6336"/>
                  <a:pt x="6176" y="6424"/>
                </a:cubicBezTo>
                <a:cubicBezTo>
                  <a:pt x="6176" y="6477"/>
                  <a:pt x="6179" y="6608"/>
                  <a:pt x="6251" y="6623"/>
                </a:cubicBezTo>
                <a:cubicBezTo>
                  <a:pt x="6304" y="6634"/>
                  <a:pt x="6405" y="6630"/>
                  <a:pt x="6449" y="6598"/>
                </a:cubicBezTo>
                <a:cubicBezTo>
                  <a:pt x="6515" y="6550"/>
                  <a:pt x="6549" y="6483"/>
                  <a:pt x="6598" y="6424"/>
                </a:cubicBezTo>
                <a:cubicBezTo>
                  <a:pt x="6663" y="6345"/>
                  <a:pt x="6672" y="6302"/>
                  <a:pt x="6672" y="6201"/>
                </a:cubicBezTo>
                <a:cubicBezTo>
                  <a:pt x="6672" y="6146"/>
                  <a:pt x="6634" y="6091"/>
                  <a:pt x="6598" y="6052"/>
                </a:cubicBezTo>
                <a:cubicBezTo>
                  <a:pt x="6553" y="6003"/>
                  <a:pt x="6500" y="6012"/>
                  <a:pt x="6449" y="5978"/>
                </a:cubicBezTo>
                <a:cubicBezTo>
                  <a:pt x="6409" y="5951"/>
                  <a:pt x="6400" y="5953"/>
                  <a:pt x="6350" y="5953"/>
                </a:cubicBezTo>
                <a:cubicBezTo>
                  <a:pt x="6342" y="5953"/>
                  <a:pt x="6333" y="5953"/>
                  <a:pt x="6325" y="5953"/>
                </a:cubicBezTo>
              </a:path>
              <a:path w="9154" h="1440">
                <a:moveTo>
                  <a:pt x="7193" y="5507"/>
                </a:moveTo>
                <a:cubicBezTo>
                  <a:pt x="7183" y="5546"/>
                  <a:pt x="7169" y="5562"/>
                  <a:pt x="7169" y="5606"/>
                </a:cubicBezTo>
                <a:cubicBezTo>
                  <a:pt x="7169" y="5686"/>
                  <a:pt x="7153" y="5756"/>
                  <a:pt x="7144" y="5829"/>
                </a:cubicBezTo>
                <a:cubicBezTo>
                  <a:pt x="7119" y="6031"/>
                  <a:pt x="7125" y="6282"/>
                  <a:pt x="7169" y="6474"/>
                </a:cubicBezTo>
                <a:cubicBezTo>
                  <a:pt x="7180" y="6523"/>
                  <a:pt x="7169" y="6534"/>
                  <a:pt x="7169" y="6474"/>
                </a:cubicBezTo>
              </a:path>
              <a:path w="9154" h="1440">
                <a:moveTo>
                  <a:pt x="6821" y="6077"/>
                </a:moveTo>
                <a:cubicBezTo>
                  <a:pt x="6915" y="6099"/>
                  <a:pt x="6973" y="6102"/>
                  <a:pt x="7069" y="6102"/>
                </a:cubicBezTo>
                <a:cubicBezTo>
                  <a:pt x="7210" y="6102"/>
                  <a:pt x="7386" y="6133"/>
                  <a:pt x="7516" y="6077"/>
                </a:cubicBezTo>
              </a:path>
              <a:path w="9154" h="1440">
                <a:moveTo>
                  <a:pt x="8235" y="5531"/>
                </a:moveTo>
                <a:cubicBezTo>
                  <a:pt x="8208" y="5567"/>
                  <a:pt x="8191" y="5593"/>
                  <a:pt x="8161" y="5631"/>
                </a:cubicBezTo>
                <a:cubicBezTo>
                  <a:pt x="8086" y="5726"/>
                  <a:pt x="8053" y="5817"/>
                  <a:pt x="8012" y="5928"/>
                </a:cubicBezTo>
                <a:cubicBezTo>
                  <a:pt x="7961" y="6065"/>
                  <a:pt x="7918" y="6185"/>
                  <a:pt x="7913" y="6325"/>
                </a:cubicBezTo>
                <a:cubicBezTo>
                  <a:pt x="7911" y="6387"/>
                  <a:pt x="7926" y="6470"/>
                  <a:pt x="7962" y="6524"/>
                </a:cubicBezTo>
                <a:cubicBezTo>
                  <a:pt x="7982" y="6554"/>
                  <a:pt x="8062" y="6601"/>
                  <a:pt x="8086" y="6598"/>
                </a:cubicBezTo>
                <a:cubicBezTo>
                  <a:pt x="8103" y="6590"/>
                  <a:pt x="8119" y="6581"/>
                  <a:pt x="8136" y="6573"/>
                </a:cubicBezTo>
              </a:path>
              <a:path w="9154" h="1440">
                <a:moveTo>
                  <a:pt x="8334" y="6176"/>
                </a:moveTo>
                <a:cubicBezTo>
                  <a:pt x="8400" y="6176"/>
                  <a:pt x="8444" y="6155"/>
                  <a:pt x="8508" y="6152"/>
                </a:cubicBezTo>
                <a:cubicBezTo>
                  <a:pt x="8571" y="6149"/>
                  <a:pt x="8624" y="6150"/>
                  <a:pt x="8682" y="6127"/>
                </a:cubicBezTo>
                <a:cubicBezTo>
                  <a:pt x="8698" y="6119"/>
                  <a:pt x="8715" y="6110"/>
                  <a:pt x="8731" y="6102"/>
                </a:cubicBezTo>
              </a:path>
              <a:path w="9154" h="1440">
                <a:moveTo>
                  <a:pt x="8905" y="5904"/>
                </a:moveTo>
                <a:cubicBezTo>
                  <a:pt x="8927" y="5977"/>
                  <a:pt x="8945" y="6034"/>
                  <a:pt x="8979" y="6102"/>
                </a:cubicBezTo>
                <a:cubicBezTo>
                  <a:pt x="9016" y="6176"/>
                  <a:pt x="9045" y="6240"/>
                  <a:pt x="9103" y="6300"/>
                </a:cubicBezTo>
                <a:cubicBezTo>
                  <a:pt x="9195" y="6395"/>
                  <a:pt x="9253" y="6406"/>
                  <a:pt x="9351" y="6474"/>
                </a:cubicBezTo>
                <a:cubicBezTo>
                  <a:pt x="9408" y="6514"/>
                  <a:pt x="9419" y="6488"/>
                  <a:pt x="9475" y="6474"/>
                </a:cubicBezTo>
              </a:path>
              <a:path w="9154" h="1440">
                <a:moveTo>
                  <a:pt x="9302" y="5928"/>
                </a:moveTo>
                <a:cubicBezTo>
                  <a:pt x="9199" y="6010"/>
                  <a:pt x="9143" y="6063"/>
                  <a:pt x="9079" y="6176"/>
                </a:cubicBezTo>
                <a:cubicBezTo>
                  <a:pt x="9038" y="6248"/>
                  <a:pt x="9015" y="6326"/>
                  <a:pt x="8979" y="6400"/>
                </a:cubicBezTo>
                <a:cubicBezTo>
                  <a:pt x="8953" y="6455"/>
                  <a:pt x="8927" y="6518"/>
                  <a:pt x="8905" y="6573"/>
                </a:cubicBezTo>
                <a:cubicBezTo>
                  <a:pt x="8905" y="6606"/>
                  <a:pt x="8905" y="6606"/>
                  <a:pt x="8905" y="6548"/>
                </a:cubicBezTo>
              </a:path>
              <a:path w="9154" h="1440">
                <a:moveTo>
                  <a:pt x="9302" y="5283"/>
                </a:moveTo>
                <a:cubicBezTo>
                  <a:pt x="9373" y="5325"/>
                  <a:pt x="9388" y="5357"/>
                  <a:pt x="9426" y="5432"/>
                </a:cubicBezTo>
                <a:cubicBezTo>
                  <a:pt x="9476" y="5532"/>
                  <a:pt x="9533" y="5625"/>
                  <a:pt x="9575" y="5730"/>
                </a:cubicBezTo>
                <a:cubicBezTo>
                  <a:pt x="9619" y="5840"/>
                  <a:pt x="9638" y="5961"/>
                  <a:pt x="9649" y="6077"/>
                </a:cubicBezTo>
                <a:cubicBezTo>
                  <a:pt x="9660" y="6191"/>
                  <a:pt x="9612" y="6345"/>
                  <a:pt x="9575" y="6449"/>
                </a:cubicBezTo>
                <a:cubicBezTo>
                  <a:pt x="9554" y="6509"/>
                  <a:pt x="9493" y="6575"/>
                  <a:pt x="9451" y="6623"/>
                </a:cubicBezTo>
                <a:cubicBezTo>
                  <a:pt x="9421" y="6657"/>
                  <a:pt x="9379" y="6677"/>
                  <a:pt x="9351" y="6697"/>
                </a:cubicBezTo>
                <a:cubicBezTo>
                  <a:pt x="9387" y="6661"/>
                  <a:pt x="9390" y="6659"/>
                  <a:pt x="9426" y="6623"/>
                </a:cubicBezTo>
                <a:cubicBezTo>
                  <a:pt x="9426" y="6588"/>
                  <a:pt x="9435" y="6575"/>
                  <a:pt x="9475" y="6573"/>
                </a:cubicBezTo>
              </a:path>
              <a:path w="9154" h="1440">
                <a:moveTo>
                  <a:pt x="10145" y="6102"/>
                </a:moveTo>
                <a:cubicBezTo>
                  <a:pt x="10206" y="6128"/>
                  <a:pt x="10228" y="6127"/>
                  <a:pt x="10294" y="6127"/>
                </a:cubicBezTo>
                <a:cubicBezTo>
                  <a:pt x="10386" y="6127"/>
                  <a:pt x="10453" y="6106"/>
                  <a:pt x="10542" y="6102"/>
                </a:cubicBezTo>
                <a:cubicBezTo>
                  <a:pt x="10571" y="6101"/>
                  <a:pt x="10698" y="6100"/>
                  <a:pt x="10616" y="6127"/>
                </a:cubicBezTo>
              </a:path>
              <a:path w="9154" h="1440">
                <a:moveTo>
                  <a:pt x="10145" y="6350"/>
                </a:moveTo>
                <a:cubicBezTo>
                  <a:pt x="10292" y="6350"/>
                  <a:pt x="10462" y="6331"/>
                  <a:pt x="10592" y="6375"/>
                </a:cubicBezTo>
                <a:cubicBezTo>
                  <a:pt x="10616" y="6375"/>
                  <a:pt x="10624" y="6375"/>
                  <a:pt x="10616" y="6350"/>
                </a:cubicBezTo>
              </a:path>
              <a:path w="9154" h="1440">
                <a:moveTo>
                  <a:pt x="11559" y="6003"/>
                </a:moveTo>
                <a:cubicBezTo>
                  <a:pt x="11559" y="6028"/>
                  <a:pt x="11559" y="6036"/>
                  <a:pt x="11584" y="6028"/>
                </a:cubicBezTo>
                <a:cubicBezTo>
                  <a:pt x="11575" y="5990"/>
                  <a:pt x="11561" y="5958"/>
                  <a:pt x="11534" y="5928"/>
                </a:cubicBezTo>
                <a:cubicBezTo>
                  <a:pt x="11515" y="5907"/>
                  <a:pt x="11465" y="5888"/>
                  <a:pt x="11435" y="5904"/>
                </a:cubicBezTo>
                <a:cubicBezTo>
                  <a:pt x="11415" y="5914"/>
                  <a:pt x="11322" y="6032"/>
                  <a:pt x="11311" y="6052"/>
                </a:cubicBezTo>
                <a:cubicBezTo>
                  <a:pt x="11266" y="6137"/>
                  <a:pt x="11216" y="6253"/>
                  <a:pt x="11212" y="6350"/>
                </a:cubicBezTo>
                <a:cubicBezTo>
                  <a:pt x="11209" y="6417"/>
                  <a:pt x="11199" y="6490"/>
                  <a:pt x="11237" y="6548"/>
                </a:cubicBezTo>
                <a:cubicBezTo>
                  <a:pt x="11275" y="6605"/>
                  <a:pt x="11375" y="6612"/>
                  <a:pt x="11435" y="6598"/>
                </a:cubicBezTo>
                <a:cubicBezTo>
                  <a:pt x="11485" y="6573"/>
                  <a:pt x="11501" y="6565"/>
                  <a:pt x="11534" y="6548"/>
                </a:cubicBezTo>
              </a:path>
              <a:path w="9154" h="1440">
                <a:moveTo>
                  <a:pt x="11857" y="6102"/>
                </a:moveTo>
                <a:cubicBezTo>
                  <a:pt x="11833" y="6219"/>
                  <a:pt x="11807" y="6307"/>
                  <a:pt x="11807" y="6424"/>
                </a:cubicBezTo>
                <a:cubicBezTo>
                  <a:pt x="11807" y="6485"/>
                  <a:pt x="11825" y="6547"/>
                  <a:pt x="11881" y="6573"/>
                </a:cubicBezTo>
                <a:cubicBezTo>
                  <a:pt x="11923" y="6592"/>
                  <a:pt x="11975" y="6564"/>
                  <a:pt x="12005" y="6548"/>
                </a:cubicBezTo>
                <a:cubicBezTo>
                  <a:pt x="12070" y="6514"/>
                  <a:pt x="12135" y="6460"/>
                  <a:pt x="12179" y="6400"/>
                </a:cubicBezTo>
                <a:cubicBezTo>
                  <a:pt x="12226" y="6335"/>
                  <a:pt x="12229" y="6278"/>
                  <a:pt x="12229" y="6201"/>
                </a:cubicBezTo>
                <a:cubicBezTo>
                  <a:pt x="12229" y="6121"/>
                  <a:pt x="12181" y="6081"/>
                  <a:pt x="12129" y="6028"/>
                </a:cubicBezTo>
                <a:cubicBezTo>
                  <a:pt x="12088" y="5987"/>
                  <a:pt x="12044" y="5993"/>
                  <a:pt x="12005" y="6028"/>
                </a:cubicBezTo>
                <a:cubicBezTo>
                  <a:pt x="11955" y="6072"/>
                  <a:pt x="11905" y="6082"/>
                  <a:pt x="11881" y="6152"/>
                </a:cubicBezTo>
                <a:cubicBezTo>
                  <a:pt x="11863" y="6205"/>
                  <a:pt x="11861" y="6229"/>
                  <a:pt x="11881" y="6276"/>
                </a:cubicBezTo>
                <a:cubicBezTo>
                  <a:pt x="11889" y="6292"/>
                  <a:pt x="11898" y="6309"/>
                  <a:pt x="11906" y="6325"/>
                </a:cubicBezTo>
              </a:path>
              <a:path w="9154" h="1440">
                <a:moveTo>
                  <a:pt x="12700" y="5680"/>
                </a:moveTo>
                <a:cubicBezTo>
                  <a:pt x="12700" y="5941"/>
                  <a:pt x="12676" y="6231"/>
                  <a:pt x="12725" y="6474"/>
                </a:cubicBezTo>
                <a:cubicBezTo>
                  <a:pt x="12725" y="6515"/>
                  <a:pt x="12725" y="6523"/>
                  <a:pt x="12725" y="6548"/>
                </a:cubicBezTo>
                <a:cubicBezTo>
                  <a:pt x="12696" y="6511"/>
                  <a:pt x="12703" y="6487"/>
                  <a:pt x="12675" y="6449"/>
                </a:cubicBezTo>
              </a:path>
              <a:path w="9154" h="1440">
                <a:moveTo>
                  <a:pt x="12477" y="6176"/>
                </a:moveTo>
                <a:cubicBezTo>
                  <a:pt x="12559" y="6159"/>
                  <a:pt x="12646" y="6140"/>
                  <a:pt x="12725" y="6127"/>
                </a:cubicBezTo>
                <a:cubicBezTo>
                  <a:pt x="12789" y="6116"/>
                  <a:pt x="12836" y="6123"/>
                  <a:pt x="12898" y="6102"/>
                </a:cubicBezTo>
              </a:path>
              <a:path w="9154" h="1440">
                <a:moveTo>
                  <a:pt x="13494" y="5655"/>
                </a:moveTo>
                <a:cubicBezTo>
                  <a:pt x="13423" y="5778"/>
                  <a:pt x="13383" y="5905"/>
                  <a:pt x="13320" y="6028"/>
                </a:cubicBezTo>
                <a:cubicBezTo>
                  <a:pt x="13268" y="6128"/>
                  <a:pt x="13234" y="6212"/>
                  <a:pt x="13221" y="6325"/>
                </a:cubicBezTo>
                <a:cubicBezTo>
                  <a:pt x="13211" y="6415"/>
                  <a:pt x="13219" y="6497"/>
                  <a:pt x="13271" y="6573"/>
                </a:cubicBezTo>
                <a:cubicBezTo>
                  <a:pt x="13289" y="6600"/>
                  <a:pt x="13332" y="6644"/>
                  <a:pt x="13370" y="6623"/>
                </a:cubicBezTo>
                <a:cubicBezTo>
                  <a:pt x="13378" y="6615"/>
                  <a:pt x="13387" y="6606"/>
                  <a:pt x="13395" y="6598"/>
                </a:cubicBezTo>
              </a:path>
              <a:path w="9154" h="1440">
                <a:moveTo>
                  <a:pt x="13568" y="5978"/>
                </a:moveTo>
                <a:cubicBezTo>
                  <a:pt x="13597" y="6049"/>
                  <a:pt x="13620" y="6106"/>
                  <a:pt x="13643" y="6176"/>
                </a:cubicBezTo>
                <a:cubicBezTo>
                  <a:pt x="13668" y="6253"/>
                  <a:pt x="13714" y="6317"/>
                  <a:pt x="13767" y="6375"/>
                </a:cubicBezTo>
                <a:cubicBezTo>
                  <a:pt x="13815" y="6428"/>
                  <a:pt x="13836" y="6440"/>
                  <a:pt x="13891" y="6474"/>
                </a:cubicBezTo>
                <a:cubicBezTo>
                  <a:pt x="13948" y="6509"/>
                  <a:pt x="13959" y="6494"/>
                  <a:pt x="14015" y="6449"/>
                </a:cubicBezTo>
              </a:path>
              <a:path w="9154" h="1440">
                <a:moveTo>
                  <a:pt x="13965" y="6028"/>
                </a:moveTo>
                <a:cubicBezTo>
                  <a:pt x="13867" y="6106"/>
                  <a:pt x="13835" y="6190"/>
                  <a:pt x="13767" y="6300"/>
                </a:cubicBezTo>
                <a:cubicBezTo>
                  <a:pt x="13723" y="6371"/>
                  <a:pt x="13669" y="6459"/>
                  <a:pt x="13618" y="6524"/>
                </a:cubicBezTo>
                <a:cubicBezTo>
                  <a:pt x="13581" y="6571"/>
                  <a:pt x="13561" y="6605"/>
                  <a:pt x="13519" y="6648"/>
                </a:cubicBezTo>
              </a:path>
              <a:path w="9154" h="1440">
                <a:moveTo>
                  <a:pt x="14337" y="5507"/>
                </a:moveTo>
                <a:cubicBezTo>
                  <a:pt x="14470" y="5623"/>
                  <a:pt x="14506" y="5665"/>
                  <a:pt x="14560" y="5829"/>
                </a:cubicBezTo>
                <a:cubicBezTo>
                  <a:pt x="14604" y="5961"/>
                  <a:pt x="14589" y="6092"/>
                  <a:pt x="14560" y="6226"/>
                </a:cubicBezTo>
                <a:cubicBezTo>
                  <a:pt x="14534" y="6347"/>
                  <a:pt x="14498" y="6425"/>
                  <a:pt x="14436" y="6524"/>
                </a:cubicBezTo>
                <a:cubicBezTo>
                  <a:pt x="14374" y="6623"/>
                  <a:pt x="14375" y="6624"/>
                  <a:pt x="14263" y="6672"/>
                </a:cubicBezTo>
                <a:cubicBezTo>
                  <a:pt x="14206" y="6700"/>
                  <a:pt x="14183" y="6711"/>
                  <a:pt x="14139" y="6722"/>
                </a:cubicBezTo>
              </a:path>
              <a:path w="9154" h="1440">
                <a:moveTo>
                  <a:pt x="10294" y="6648"/>
                </a:moveTo>
                <a:cubicBezTo>
                  <a:pt x="10320" y="6580"/>
                  <a:pt x="10328" y="6514"/>
                  <a:pt x="10368" y="6449"/>
                </a:cubicBezTo>
                <a:cubicBezTo>
                  <a:pt x="10434" y="6341"/>
                  <a:pt x="10502" y="6236"/>
                  <a:pt x="10567" y="6127"/>
                </a:cubicBezTo>
                <a:cubicBezTo>
                  <a:pt x="10647" y="5993"/>
                  <a:pt x="10735" y="5864"/>
                  <a:pt x="10815" y="5730"/>
                </a:cubicBezTo>
                <a:cubicBezTo>
                  <a:pt x="10854" y="5664"/>
                  <a:pt x="10895" y="5594"/>
                  <a:pt x="10939" y="5531"/>
                </a:cubicBezTo>
                <a:cubicBezTo>
                  <a:pt x="10966" y="5492"/>
                  <a:pt x="10954" y="5451"/>
                  <a:pt x="10964" y="5482"/>
                </a:cubicBezTo>
                <a:cubicBezTo>
                  <a:pt x="10964" y="5490"/>
                  <a:pt x="10964" y="5499"/>
                  <a:pt x="10964" y="55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9880" y="2652840"/>
            <a:ext cx="1152360" cy="428400"/>
          </a:xfrm>
          <a:custGeom>
            <a:avLst/>
            <a:gdLst/>
            <a:ahLst/>
            <a:rect l="l" t="t" r="r" b="b"/>
            <a:pathLst>
              <a:path w="3201" h="1192">
                <a:moveTo>
                  <a:pt x="5978" y="7838"/>
                </a:moveTo>
                <a:cubicBezTo>
                  <a:pt x="6005" y="7902"/>
                  <a:pt x="6034" y="7918"/>
                  <a:pt x="6003" y="7863"/>
                </a:cubicBezTo>
                <a:cubicBezTo>
                  <a:pt x="5986" y="7833"/>
                  <a:pt x="5970" y="7790"/>
                  <a:pt x="5953" y="7764"/>
                </a:cubicBezTo>
                <a:cubicBezTo>
                  <a:pt x="5936" y="7739"/>
                  <a:pt x="5897" y="7716"/>
                  <a:pt x="5879" y="7714"/>
                </a:cubicBezTo>
                <a:cubicBezTo>
                  <a:pt x="5824" y="7707"/>
                  <a:pt x="5758" y="7773"/>
                  <a:pt x="5730" y="7813"/>
                </a:cubicBezTo>
                <a:cubicBezTo>
                  <a:pt x="5683" y="7879"/>
                  <a:pt x="5621" y="7983"/>
                  <a:pt x="5606" y="8062"/>
                </a:cubicBezTo>
                <a:cubicBezTo>
                  <a:pt x="5586" y="8170"/>
                  <a:pt x="5566" y="8279"/>
                  <a:pt x="5606" y="8384"/>
                </a:cubicBezTo>
                <a:cubicBezTo>
                  <a:pt x="5618" y="8416"/>
                  <a:pt x="5673" y="8542"/>
                  <a:pt x="5705" y="8558"/>
                </a:cubicBezTo>
                <a:cubicBezTo>
                  <a:pt x="5753" y="8582"/>
                  <a:pt x="5867" y="8555"/>
                  <a:pt x="5904" y="8533"/>
                </a:cubicBezTo>
              </a:path>
              <a:path w="3201" h="1192">
                <a:moveTo>
                  <a:pt x="6226" y="7962"/>
                </a:moveTo>
                <a:cubicBezTo>
                  <a:pt x="6200" y="8036"/>
                  <a:pt x="6135" y="8174"/>
                  <a:pt x="6152" y="8260"/>
                </a:cubicBezTo>
                <a:cubicBezTo>
                  <a:pt x="6163" y="8313"/>
                  <a:pt x="6177" y="8377"/>
                  <a:pt x="6226" y="8409"/>
                </a:cubicBezTo>
                <a:cubicBezTo>
                  <a:pt x="6263" y="8433"/>
                  <a:pt x="6331" y="8447"/>
                  <a:pt x="6375" y="8434"/>
                </a:cubicBezTo>
                <a:cubicBezTo>
                  <a:pt x="6452" y="8411"/>
                  <a:pt x="6505" y="8349"/>
                  <a:pt x="6548" y="8285"/>
                </a:cubicBezTo>
                <a:cubicBezTo>
                  <a:pt x="6591" y="8221"/>
                  <a:pt x="6573" y="8136"/>
                  <a:pt x="6573" y="8062"/>
                </a:cubicBezTo>
                <a:cubicBezTo>
                  <a:pt x="6573" y="7968"/>
                  <a:pt x="6539" y="7962"/>
                  <a:pt x="6474" y="7913"/>
                </a:cubicBezTo>
                <a:cubicBezTo>
                  <a:pt x="6435" y="7884"/>
                  <a:pt x="6353" y="7849"/>
                  <a:pt x="6300" y="7863"/>
                </a:cubicBezTo>
                <a:cubicBezTo>
                  <a:pt x="6278" y="7885"/>
                  <a:pt x="6267" y="7894"/>
                  <a:pt x="6300" y="7888"/>
                </a:cubicBezTo>
              </a:path>
              <a:path w="3201" h="1192">
                <a:moveTo>
                  <a:pt x="6995" y="7491"/>
                </a:moveTo>
                <a:cubicBezTo>
                  <a:pt x="6976" y="7599"/>
                  <a:pt x="6949" y="7704"/>
                  <a:pt x="6945" y="7813"/>
                </a:cubicBezTo>
                <a:cubicBezTo>
                  <a:pt x="6941" y="7907"/>
                  <a:pt x="6921" y="7990"/>
                  <a:pt x="6921" y="8086"/>
                </a:cubicBezTo>
                <a:cubicBezTo>
                  <a:pt x="6921" y="8104"/>
                  <a:pt x="6916" y="8359"/>
                  <a:pt x="6896" y="8334"/>
                </a:cubicBezTo>
                <a:cubicBezTo>
                  <a:pt x="6896" y="8326"/>
                  <a:pt x="6896" y="8318"/>
                  <a:pt x="6896" y="8310"/>
                </a:cubicBezTo>
              </a:path>
              <a:path w="3201" h="1192">
                <a:moveTo>
                  <a:pt x="6672" y="7987"/>
                </a:moveTo>
                <a:cubicBezTo>
                  <a:pt x="6775" y="7987"/>
                  <a:pt x="6865" y="7970"/>
                  <a:pt x="6970" y="7962"/>
                </a:cubicBezTo>
                <a:cubicBezTo>
                  <a:pt x="7051" y="7956"/>
                  <a:pt x="7089" y="7959"/>
                  <a:pt x="7169" y="7938"/>
                </a:cubicBezTo>
              </a:path>
              <a:path w="3201" h="1192">
                <a:moveTo>
                  <a:pt x="7640" y="7541"/>
                </a:moveTo>
                <a:cubicBezTo>
                  <a:pt x="7594" y="7638"/>
                  <a:pt x="7532" y="7754"/>
                  <a:pt x="7516" y="7863"/>
                </a:cubicBezTo>
                <a:cubicBezTo>
                  <a:pt x="7500" y="7973"/>
                  <a:pt x="7459" y="8075"/>
                  <a:pt x="7441" y="8186"/>
                </a:cubicBezTo>
                <a:cubicBezTo>
                  <a:pt x="7432" y="8239"/>
                  <a:pt x="7415" y="8451"/>
                  <a:pt x="7466" y="8483"/>
                </a:cubicBezTo>
                <a:cubicBezTo>
                  <a:pt x="7485" y="8495"/>
                  <a:pt x="7518" y="8502"/>
                  <a:pt x="7541" y="8508"/>
                </a:cubicBezTo>
              </a:path>
              <a:path w="3201" h="1192">
                <a:moveTo>
                  <a:pt x="7739" y="8037"/>
                </a:moveTo>
                <a:cubicBezTo>
                  <a:pt x="7800" y="8011"/>
                  <a:pt x="7822" y="8012"/>
                  <a:pt x="7888" y="8012"/>
                </a:cubicBezTo>
                <a:cubicBezTo>
                  <a:pt x="7929" y="8012"/>
                  <a:pt x="7937" y="8012"/>
                  <a:pt x="7962" y="8012"/>
                </a:cubicBezTo>
              </a:path>
              <a:path w="3201" h="1192">
                <a:moveTo>
                  <a:pt x="8186" y="7913"/>
                </a:moveTo>
                <a:cubicBezTo>
                  <a:pt x="8217" y="8001"/>
                  <a:pt x="8249" y="8131"/>
                  <a:pt x="8310" y="8210"/>
                </a:cubicBezTo>
                <a:cubicBezTo>
                  <a:pt x="8359" y="8273"/>
                  <a:pt x="8423" y="8312"/>
                  <a:pt x="8483" y="8359"/>
                </a:cubicBezTo>
                <a:cubicBezTo>
                  <a:pt x="8522" y="8389"/>
                  <a:pt x="8576" y="8433"/>
                  <a:pt x="8632" y="8409"/>
                </a:cubicBezTo>
                <a:cubicBezTo>
                  <a:pt x="8657" y="8384"/>
                  <a:pt x="8665" y="8376"/>
                  <a:pt x="8682" y="8359"/>
                </a:cubicBezTo>
              </a:path>
              <a:path w="3201" h="1192">
                <a:moveTo>
                  <a:pt x="8508" y="7813"/>
                </a:moveTo>
                <a:cubicBezTo>
                  <a:pt x="8378" y="7878"/>
                  <a:pt x="8348" y="7921"/>
                  <a:pt x="8260" y="8037"/>
                </a:cubicBezTo>
                <a:cubicBezTo>
                  <a:pt x="8199" y="8118"/>
                  <a:pt x="8159" y="8220"/>
                  <a:pt x="8111" y="8310"/>
                </a:cubicBezTo>
                <a:cubicBezTo>
                  <a:pt x="8082" y="8364"/>
                  <a:pt x="8033" y="8430"/>
                  <a:pt x="8012" y="8483"/>
                </a:cubicBezTo>
                <a:cubicBezTo>
                  <a:pt x="8012" y="8508"/>
                  <a:pt x="8012" y="8516"/>
                  <a:pt x="8012" y="8533"/>
                </a:cubicBezTo>
              </a:path>
              <a:path w="3201" h="1192">
                <a:moveTo>
                  <a:pt x="8508" y="7367"/>
                </a:moveTo>
                <a:cubicBezTo>
                  <a:pt x="8630" y="7454"/>
                  <a:pt x="8757" y="7573"/>
                  <a:pt x="8781" y="7739"/>
                </a:cubicBezTo>
                <a:cubicBezTo>
                  <a:pt x="8802" y="7886"/>
                  <a:pt x="8775" y="8044"/>
                  <a:pt x="8756" y="8186"/>
                </a:cubicBezTo>
                <a:cubicBezTo>
                  <a:pt x="8746" y="8264"/>
                  <a:pt x="8728" y="8341"/>
                  <a:pt x="8682" y="8409"/>
                </a:cubicBezTo>
                <a:cubicBezTo>
                  <a:pt x="8656" y="8447"/>
                  <a:pt x="8623" y="8480"/>
                  <a:pt x="8607" y="84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67080" y="2643120"/>
            <a:ext cx="1901880" cy="465120"/>
          </a:xfrm>
          <a:custGeom>
            <a:avLst/>
            <a:gdLst/>
            <a:ahLst/>
            <a:rect l="l" t="t" r="r" b="b"/>
            <a:pathLst>
              <a:path w="5285" h="1291">
                <a:moveTo>
                  <a:pt x="9376" y="7888"/>
                </a:moveTo>
                <a:cubicBezTo>
                  <a:pt x="9459" y="7906"/>
                  <a:pt x="9516" y="7913"/>
                  <a:pt x="9599" y="7913"/>
                </a:cubicBezTo>
                <a:cubicBezTo>
                  <a:pt x="9605" y="7913"/>
                  <a:pt x="9884" y="7903"/>
                  <a:pt x="9872" y="7938"/>
                </a:cubicBezTo>
                <a:cubicBezTo>
                  <a:pt x="9847" y="7938"/>
                  <a:pt x="9839" y="7938"/>
                  <a:pt x="9823" y="7938"/>
                </a:cubicBezTo>
              </a:path>
              <a:path w="5285" h="1291">
                <a:moveTo>
                  <a:pt x="9351" y="8136"/>
                </a:moveTo>
                <a:cubicBezTo>
                  <a:pt x="9503" y="8136"/>
                  <a:pt x="9654" y="8128"/>
                  <a:pt x="9798" y="8161"/>
                </a:cubicBezTo>
                <a:cubicBezTo>
                  <a:pt x="9828" y="8168"/>
                  <a:pt x="9866" y="8161"/>
                  <a:pt x="9897" y="8161"/>
                </a:cubicBezTo>
              </a:path>
              <a:path w="5285" h="1291">
                <a:moveTo>
                  <a:pt x="10220" y="7888"/>
                </a:moveTo>
                <a:cubicBezTo>
                  <a:pt x="10414" y="7888"/>
                  <a:pt x="10862" y="7977"/>
                  <a:pt x="11013" y="7863"/>
                </a:cubicBezTo>
              </a:path>
              <a:path w="5285" h="1291">
                <a:moveTo>
                  <a:pt x="11782" y="7813"/>
                </a:moveTo>
                <a:cubicBezTo>
                  <a:pt x="11733" y="7797"/>
                  <a:pt x="11770" y="7758"/>
                  <a:pt x="11683" y="7714"/>
                </a:cubicBezTo>
                <a:cubicBezTo>
                  <a:pt x="11641" y="7693"/>
                  <a:pt x="11608" y="7739"/>
                  <a:pt x="11584" y="7764"/>
                </a:cubicBezTo>
                <a:cubicBezTo>
                  <a:pt x="11528" y="7820"/>
                  <a:pt x="11484" y="7880"/>
                  <a:pt x="11435" y="7938"/>
                </a:cubicBezTo>
                <a:cubicBezTo>
                  <a:pt x="11389" y="7993"/>
                  <a:pt x="11341" y="8080"/>
                  <a:pt x="11361" y="8161"/>
                </a:cubicBezTo>
                <a:cubicBezTo>
                  <a:pt x="11372" y="8206"/>
                  <a:pt x="11406" y="8270"/>
                  <a:pt x="11460" y="8285"/>
                </a:cubicBezTo>
                <a:cubicBezTo>
                  <a:pt x="11532" y="8305"/>
                  <a:pt x="11609" y="8306"/>
                  <a:pt x="11683" y="8285"/>
                </a:cubicBezTo>
                <a:cubicBezTo>
                  <a:pt x="11754" y="8265"/>
                  <a:pt x="11774" y="8254"/>
                  <a:pt x="11832" y="8210"/>
                </a:cubicBezTo>
              </a:path>
              <a:path w="5285" h="1291">
                <a:moveTo>
                  <a:pt x="12055" y="7838"/>
                </a:moveTo>
                <a:cubicBezTo>
                  <a:pt x="12052" y="7905"/>
                  <a:pt x="12009" y="8062"/>
                  <a:pt x="12030" y="8136"/>
                </a:cubicBezTo>
                <a:cubicBezTo>
                  <a:pt x="12049" y="8204"/>
                  <a:pt x="12053" y="8259"/>
                  <a:pt x="12129" y="8285"/>
                </a:cubicBezTo>
                <a:cubicBezTo>
                  <a:pt x="12189" y="8305"/>
                  <a:pt x="12241" y="8306"/>
                  <a:pt x="12303" y="8285"/>
                </a:cubicBezTo>
                <a:cubicBezTo>
                  <a:pt x="12405" y="8251"/>
                  <a:pt x="12452" y="8177"/>
                  <a:pt x="12502" y="8086"/>
                </a:cubicBezTo>
                <a:cubicBezTo>
                  <a:pt x="12546" y="8006"/>
                  <a:pt x="12563" y="7972"/>
                  <a:pt x="12526" y="7888"/>
                </a:cubicBezTo>
                <a:cubicBezTo>
                  <a:pt x="12499" y="7826"/>
                  <a:pt x="12458" y="7798"/>
                  <a:pt x="12402" y="7764"/>
                </a:cubicBezTo>
                <a:cubicBezTo>
                  <a:pt x="12320" y="7715"/>
                  <a:pt x="12258" y="7752"/>
                  <a:pt x="12179" y="7789"/>
                </a:cubicBezTo>
                <a:cubicBezTo>
                  <a:pt x="12108" y="7822"/>
                  <a:pt x="12032" y="7859"/>
                  <a:pt x="12005" y="7938"/>
                </a:cubicBezTo>
                <a:cubicBezTo>
                  <a:pt x="11988" y="7988"/>
                  <a:pt x="12012" y="8056"/>
                  <a:pt x="12055" y="8086"/>
                </a:cubicBezTo>
                <a:cubicBezTo>
                  <a:pt x="12103" y="8110"/>
                  <a:pt x="12117" y="8118"/>
                  <a:pt x="12154" y="8111"/>
                </a:cubicBezTo>
              </a:path>
              <a:path w="5285" h="1291">
                <a:moveTo>
                  <a:pt x="12998" y="7491"/>
                </a:moveTo>
                <a:cubicBezTo>
                  <a:pt x="12998" y="7628"/>
                  <a:pt x="12988" y="7756"/>
                  <a:pt x="12973" y="7888"/>
                </a:cubicBezTo>
                <a:cubicBezTo>
                  <a:pt x="12962" y="7987"/>
                  <a:pt x="12984" y="8067"/>
                  <a:pt x="12998" y="8161"/>
                </a:cubicBezTo>
                <a:cubicBezTo>
                  <a:pt x="13009" y="8238"/>
                  <a:pt x="13020" y="8267"/>
                  <a:pt x="13047" y="8334"/>
                </a:cubicBezTo>
                <a:cubicBezTo>
                  <a:pt x="13047" y="8362"/>
                  <a:pt x="13049" y="8373"/>
                  <a:pt x="13072" y="8384"/>
                </a:cubicBezTo>
                <a:cubicBezTo>
                  <a:pt x="13072" y="8351"/>
                  <a:pt x="13072" y="8318"/>
                  <a:pt x="13072" y="8285"/>
                </a:cubicBezTo>
              </a:path>
              <a:path w="5285" h="1291">
                <a:moveTo>
                  <a:pt x="12750" y="7938"/>
                </a:moveTo>
                <a:cubicBezTo>
                  <a:pt x="12801" y="7899"/>
                  <a:pt x="12855" y="7913"/>
                  <a:pt x="12923" y="7913"/>
                </a:cubicBezTo>
                <a:cubicBezTo>
                  <a:pt x="13015" y="7913"/>
                  <a:pt x="13101" y="7888"/>
                  <a:pt x="13196" y="7888"/>
                </a:cubicBezTo>
                <a:cubicBezTo>
                  <a:pt x="13213" y="7888"/>
                  <a:pt x="13229" y="7888"/>
                  <a:pt x="13246" y="7888"/>
                </a:cubicBezTo>
              </a:path>
              <a:path w="5285" h="1291">
                <a:moveTo>
                  <a:pt x="13742" y="7466"/>
                </a:moveTo>
                <a:cubicBezTo>
                  <a:pt x="13729" y="7518"/>
                  <a:pt x="13683" y="7549"/>
                  <a:pt x="13643" y="7590"/>
                </a:cubicBezTo>
                <a:cubicBezTo>
                  <a:pt x="13560" y="7674"/>
                  <a:pt x="13524" y="7764"/>
                  <a:pt x="13469" y="7863"/>
                </a:cubicBezTo>
                <a:cubicBezTo>
                  <a:pt x="13424" y="7944"/>
                  <a:pt x="13377" y="8062"/>
                  <a:pt x="13395" y="8161"/>
                </a:cubicBezTo>
                <a:cubicBezTo>
                  <a:pt x="13409" y="8239"/>
                  <a:pt x="13480" y="8347"/>
                  <a:pt x="13543" y="8384"/>
                </a:cubicBezTo>
                <a:cubicBezTo>
                  <a:pt x="13607" y="8422"/>
                  <a:pt x="13668" y="8409"/>
                  <a:pt x="13742" y="8409"/>
                </a:cubicBezTo>
              </a:path>
              <a:path w="5285" h="1291">
                <a:moveTo>
                  <a:pt x="13866" y="7789"/>
                </a:moveTo>
                <a:cubicBezTo>
                  <a:pt x="13890" y="7872"/>
                  <a:pt x="13912" y="7991"/>
                  <a:pt x="13965" y="8062"/>
                </a:cubicBezTo>
                <a:cubicBezTo>
                  <a:pt x="14041" y="8164"/>
                  <a:pt x="14085" y="8213"/>
                  <a:pt x="14213" y="8260"/>
                </a:cubicBezTo>
                <a:cubicBezTo>
                  <a:pt x="14246" y="8272"/>
                  <a:pt x="14300" y="8260"/>
                  <a:pt x="14337" y="8260"/>
                </a:cubicBezTo>
              </a:path>
              <a:path w="5285" h="1291">
                <a:moveTo>
                  <a:pt x="14238" y="7739"/>
                </a:moveTo>
                <a:cubicBezTo>
                  <a:pt x="14111" y="7839"/>
                  <a:pt x="14044" y="7922"/>
                  <a:pt x="13965" y="8062"/>
                </a:cubicBezTo>
                <a:cubicBezTo>
                  <a:pt x="13917" y="8148"/>
                  <a:pt x="13840" y="8217"/>
                  <a:pt x="13816" y="8310"/>
                </a:cubicBezTo>
                <a:cubicBezTo>
                  <a:pt x="13803" y="8362"/>
                  <a:pt x="13807" y="8338"/>
                  <a:pt x="13816" y="8285"/>
                </a:cubicBezTo>
              </a:path>
              <a:path w="5285" h="1291">
                <a:moveTo>
                  <a:pt x="14436" y="7342"/>
                </a:moveTo>
                <a:cubicBezTo>
                  <a:pt x="14548" y="7547"/>
                  <a:pt x="14629" y="7660"/>
                  <a:pt x="14635" y="7888"/>
                </a:cubicBezTo>
                <a:cubicBezTo>
                  <a:pt x="14639" y="8029"/>
                  <a:pt x="14635" y="8112"/>
                  <a:pt x="14585" y="8235"/>
                </a:cubicBezTo>
                <a:cubicBezTo>
                  <a:pt x="14545" y="8332"/>
                  <a:pt x="14515" y="8417"/>
                  <a:pt x="14461" y="8508"/>
                </a:cubicBezTo>
                <a:cubicBezTo>
                  <a:pt x="14436" y="8549"/>
                  <a:pt x="14412" y="8591"/>
                  <a:pt x="14387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960" y="1633680"/>
            <a:ext cx="608040" cy="519120"/>
          </a:xfrm>
          <a:custGeom>
            <a:avLst/>
            <a:gdLst/>
            <a:ahLst/>
            <a:rect l="l" t="t" r="r" b="b"/>
            <a:pathLst>
              <a:path w="1687" h="1440">
                <a:moveTo>
                  <a:pt x="1984" y="4986"/>
                </a:moveTo>
                <a:lnTo>
                  <a:pt x="1984" y="4986"/>
                </a:lnTo>
              </a:path>
              <a:path w="1687" h="1440">
                <a:moveTo>
                  <a:pt x="1984" y="4986"/>
                </a:moveTo>
                <a:cubicBezTo>
                  <a:pt x="1992" y="4978"/>
                  <a:pt x="2001" y="4969"/>
                  <a:pt x="2009" y="4961"/>
                </a:cubicBezTo>
              </a:path>
              <a:path w="1687" h="1440">
                <a:moveTo>
                  <a:pt x="2009" y="4961"/>
                </a:moveTo>
                <a:cubicBezTo>
                  <a:pt x="2019" y="4931"/>
                  <a:pt x="2030" y="4920"/>
                  <a:pt x="2059" y="4887"/>
                </a:cubicBezTo>
                <a:cubicBezTo>
                  <a:pt x="2085" y="4858"/>
                  <a:pt x="2123" y="4824"/>
                  <a:pt x="2158" y="4812"/>
                </a:cubicBezTo>
                <a:cubicBezTo>
                  <a:pt x="2193" y="4800"/>
                  <a:pt x="2237" y="4768"/>
                  <a:pt x="2282" y="4787"/>
                </a:cubicBezTo>
                <a:cubicBezTo>
                  <a:pt x="2318" y="4802"/>
                  <a:pt x="2372" y="4836"/>
                  <a:pt x="2406" y="4862"/>
                </a:cubicBezTo>
                <a:cubicBezTo>
                  <a:pt x="2444" y="4891"/>
                  <a:pt x="2497" y="4989"/>
                  <a:pt x="2505" y="5035"/>
                </a:cubicBezTo>
                <a:cubicBezTo>
                  <a:pt x="2520" y="5123"/>
                  <a:pt x="2527" y="5196"/>
                  <a:pt x="2505" y="5283"/>
                </a:cubicBezTo>
                <a:cubicBezTo>
                  <a:pt x="2479" y="5387"/>
                  <a:pt x="2444" y="5450"/>
                  <a:pt x="2381" y="5531"/>
                </a:cubicBezTo>
                <a:cubicBezTo>
                  <a:pt x="2321" y="5607"/>
                  <a:pt x="2263" y="5707"/>
                  <a:pt x="2158" y="5730"/>
                </a:cubicBezTo>
                <a:cubicBezTo>
                  <a:pt x="2098" y="5743"/>
                  <a:pt x="2069" y="5754"/>
                  <a:pt x="2009" y="5730"/>
                </a:cubicBezTo>
                <a:cubicBezTo>
                  <a:pt x="1959" y="5710"/>
                  <a:pt x="1927" y="5704"/>
                  <a:pt x="1910" y="5655"/>
                </a:cubicBezTo>
                <a:cubicBezTo>
                  <a:pt x="1892" y="5603"/>
                  <a:pt x="1924" y="5552"/>
                  <a:pt x="1935" y="5507"/>
                </a:cubicBezTo>
                <a:cubicBezTo>
                  <a:pt x="1944" y="5472"/>
                  <a:pt x="1988" y="5462"/>
                  <a:pt x="2034" y="5457"/>
                </a:cubicBezTo>
                <a:cubicBezTo>
                  <a:pt x="2099" y="5450"/>
                  <a:pt x="2114" y="5464"/>
                  <a:pt x="2158" y="5507"/>
                </a:cubicBezTo>
                <a:cubicBezTo>
                  <a:pt x="2192" y="5541"/>
                  <a:pt x="2210" y="5573"/>
                  <a:pt x="2232" y="5606"/>
                </a:cubicBezTo>
                <a:cubicBezTo>
                  <a:pt x="2257" y="5644"/>
                  <a:pt x="2255" y="5668"/>
                  <a:pt x="2282" y="5705"/>
                </a:cubicBezTo>
                <a:cubicBezTo>
                  <a:pt x="2282" y="5662"/>
                  <a:pt x="2293" y="5620"/>
                  <a:pt x="2307" y="5581"/>
                </a:cubicBezTo>
                <a:cubicBezTo>
                  <a:pt x="2332" y="5531"/>
                  <a:pt x="2340" y="5515"/>
                  <a:pt x="2356" y="5482"/>
                </a:cubicBezTo>
              </a:path>
              <a:path w="1687" h="1440">
                <a:moveTo>
                  <a:pt x="2853" y="4738"/>
                </a:moveTo>
                <a:cubicBezTo>
                  <a:pt x="2865" y="4799"/>
                  <a:pt x="2877" y="4845"/>
                  <a:pt x="2877" y="4911"/>
                </a:cubicBezTo>
                <a:cubicBezTo>
                  <a:pt x="2877" y="5073"/>
                  <a:pt x="2886" y="5223"/>
                  <a:pt x="2902" y="5383"/>
                </a:cubicBezTo>
                <a:cubicBezTo>
                  <a:pt x="2908" y="5446"/>
                  <a:pt x="2883" y="5456"/>
                  <a:pt x="2877" y="5507"/>
                </a:cubicBezTo>
                <a:cubicBezTo>
                  <a:pt x="2877" y="5531"/>
                  <a:pt x="2877" y="5539"/>
                  <a:pt x="2877" y="5507"/>
                </a:cubicBezTo>
              </a:path>
              <a:path w="1687" h="1440">
                <a:moveTo>
                  <a:pt x="3001" y="4638"/>
                </a:moveTo>
                <a:cubicBezTo>
                  <a:pt x="2893" y="4581"/>
                  <a:pt x="2826" y="4543"/>
                  <a:pt x="2704" y="4539"/>
                </a:cubicBezTo>
                <a:cubicBezTo>
                  <a:pt x="2576" y="4535"/>
                  <a:pt x="2478" y="4552"/>
                  <a:pt x="2356" y="4589"/>
                </a:cubicBezTo>
                <a:cubicBezTo>
                  <a:pt x="2251" y="4621"/>
                  <a:pt x="2098" y="4673"/>
                  <a:pt x="2009" y="4738"/>
                </a:cubicBezTo>
                <a:cubicBezTo>
                  <a:pt x="1902" y="4817"/>
                  <a:pt x="1821" y="4912"/>
                  <a:pt x="1736" y="5011"/>
                </a:cubicBezTo>
                <a:cubicBezTo>
                  <a:pt x="1633" y="5130"/>
                  <a:pt x="1569" y="5274"/>
                  <a:pt x="1563" y="5432"/>
                </a:cubicBezTo>
                <a:cubicBezTo>
                  <a:pt x="1559" y="5547"/>
                  <a:pt x="1615" y="5665"/>
                  <a:pt x="1687" y="5755"/>
                </a:cubicBezTo>
                <a:cubicBezTo>
                  <a:pt x="1750" y="5833"/>
                  <a:pt x="1818" y="5893"/>
                  <a:pt x="1910" y="5928"/>
                </a:cubicBezTo>
                <a:cubicBezTo>
                  <a:pt x="2024" y="5972"/>
                  <a:pt x="2111" y="5978"/>
                  <a:pt x="2232" y="5978"/>
                </a:cubicBezTo>
                <a:cubicBezTo>
                  <a:pt x="2350" y="5978"/>
                  <a:pt x="2442" y="5964"/>
                  <a:pt x="2555" y="5928"/>
                </a:cubicBezTo>
                <a:cubicBezTo>
                  <a:pt x="2731" y="5872"/>
                  <a:pt x="2852" y="5757"/>
                  <a:pt x="3001" y="5655"/>
                </a:cubicBezTo>
                <a:cubicBezTo>
                  <a:pt x="3090" y="5594"/>
                  <a:pt x="3153" y="5500"/>
                  <a:pt x="3200" y="5407"/>
                </a:cubicBezTo>
                <a:cubicBezTo>
                  <a:pt x="3240" y="5327"/>
                  <a:pt x="3249" y="5246"/>
                  <a:pt x="3249" y="5159"/>
                </a:cubicBezTo>
                <a:cubicBezTo>
                  <a:pt x="3249" y="5093"/>
                  <a:pt x="3215" y="5037"/>
                  <a:pt x="3175" y="4986"/>
                </a:cubicBezTo>
                <a:cubicBezTo>
                  <a:pt x="3145" y="4948"/>
                  <a:pt x="3105" y="4908"/>
                  <a:pt x="3076" y="4887"/>
                </a:cubicBezTo>
                <a:cubicBezTo>
                  <a:pt x="3046" y="4865"/>
                  <a:pt x="3038" y="4833"/>
                  <a:pt x="3001" y="4837"/>
                </a:cubicBezTo>
                <a:cubicBezTo>
                  <a:pt x="2977" y="4837"/>
                  <a:pt x="2969" y="4837"/>
                  <a:pt x="2977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1120" y="1589040"/>
            <a:ext cx="1000080" cy="465120"/>
          </a:xfrm>
          <a:custGeom>
            <a:avLst/>
            <a:gdLst/>
            <a:ahLst/>
            <a:rect l="l" t="t" r="r" b="b"/>
            <a:pathLst>
              <a:path w="2780" h="1291">
                <a:moveTo>
                  <a:pt x="4887" y="4936"/>
                </a:moveTo>
                <a:cubicBezTo>
                  <a:pt x="4878" y="4909"/>
                  <a:pt x="4869" y="4891"/>
                  <a:pt x="4837" y="4887"/>
                </a:cubicBezTo>
                <a:cubicBezTo>
                  <a:pt x="4764" y="4878"/>
                  <a:pt x="4705" y="4900"/>
                  <a:pt x="4638" y="4911"/>
                </a:cubicBezTo>
                <a:cubicBezTo>
                  <a:pt x="4579" y="4921"/>
                  <a:pt x="4564" y="4944"/>
                  <a:pt x="4514" y="4961"/>
                </a:cubicBezTo>
                <a:cubicBezTo>
                  <a:pt x="4475" y="4974"/>
                  <a:pt x="4445" y="4988"/>
                  <a:pt x="4440" y="5035"/>
                </a:cubicBezTo>
                <a:cubicBezTo>
                  <a:pt x="4440" y="5043"/>
                  <a:pt x="4440" y="5052"/>
                  <a:pt x="4440" y="5060"/>
                </a:cubicBezTo>
                <a:cubicBezTo>
                  <a:pt x="4491" y="5060"/>
                  <a:pt x="4498" y="5071"/>
                  <a:pt x="4539" y="5085"/>
                </a:cubicBezTo>
                <a:cubicBezTo>
                  <a:pt x="4578" y="5098"/>
                  <a:pt x="4627" y="5092"/>
                  <a:pt x="4663" y="5110"/>
                </a:cubicBezTo>
                <a:cubicBezTo>
                  <a:pt x="4714" y="5136"/>
                  <a:pt x="4754" y="5194"/>
                  <a:pt x="4787" y="5234"/>
                </a:cubicBezTo>
                <a:cubicBezTo>
                  <a:pt x="4842" y="5300"/>
                  <a:pt x="4858" y="5346"/>
                  <a:pt x="4862" y="5432"/>
                </a:cubicBezTo>
                <a:cubicBezTo>
                  <a:pt x="4865" y="5494"/>
                  <a:pt x="4864" y="5531"/>
                  <a:pt x="4837" y="5581"/>
                </a:cubicBezTo>
                <a:cubicBezTo>
                  <a:pt x="4823" y="5607"/>
                  <a:pt x="4773" y="5670"/>
                  <a:pt x="4738" y="5680"/>
                </a:cubicBezTo>
                <a:cubicBezTo>
                  <a:pt x="4660" y="5702"/>
                  <a:pt x="4584" y="5668"/>
                  <a:pt x="4514" y="5655"/>
                </a:cubicBezTo>
                <a:cubicBezTo>
                  <a:pt x="4503" y="5653"/>
                  <a:pt x="4385" y="5670"/>
                  <a:pt x="4390" y="5631"/>
                </a:cubicBezTo>
                <a:cubicBezTo>
                  <a:pt x="4413" y="5608"/>
                  <a:pt x="4417" y="5600"/>
                  <a:pt x="4440" y="5606"/>
                </a:cubicBezTo>
              </a:path>
              <a:path w="2780" h="1291">
                <a:moveTo>
                  <a:pt x="5110" y="5333"/>
                </a:moveTo>
                <a:cubicBezTo>
                  <a:pt x="5155" y="5367"/>
                  <a:pt x="5161" y="5354"/>
                  <a:pt x="5209" y="5333"/>
                </a:cubicBezTo>
                <a:cubicBezTo>
                  <a:pt x="5257" y="5313"/>
                  <a:pt x="5322" y="5292"/>
                  <a:pt x="5358" y="5259"/>
                </a:cubicBezTo>
                <a:cubicBezTo>
                  <a:pt x="5423" y="5198"/>
                  <a:pt x="5413" y="5175"/>
                  <a:pt x="5457" y="5110"/>
                </a:cubicBezTo>
                <a:cubicBezTo>
                  <a:pt x="5484" y="5070"/>
                  <a:pt x="5485" y="5053"/>
                  <a:pt x="5457" y="5011"/>
                </a:cubicBezTo>
                <a:cubicBezTo>
                  <a:pt x="5449" y="5003"/>
                  <a:pt x="5440" y="4994"/>
                  <a:pt x="5432" y="4986"/>
                </a:cubicBezTo>
                <a:cubicBezTo>
                  <a:pt x="5374" y="4994"/>
                  <a:pt x="5339" y="5009"/>
                  <a:pt x="5283" y="5035"/>
                </a:cubicBezTo>
                <a:cubicBezTo>
                  <a:pt x="5222" y="5064"/>
                  <a:pt x="5149" y="5135"/>
                  <a:pt x="5110" y="5184"/>
                </a:cubicBezTo>
                <a:cubicBezTo>
                  <a:pt x="5061" y="5246"/>
                  <a:pt x="5003" y="5327"/>
                  <a:pt x="4986" y="5407"/>
                </a:cubicBezTo>
                <a:cubicBezTo>
                  <a:pt x="4973" y="5467"/>
                  <a:pt x="4980" y="5554"/>
                  <a:pt x="5011" y="5606"/>
                </a:cubicBezTo>
                <a:cubicBezTo>
                  <a:pt x="5044" y="5661"/>
                  <a:pt x="5071" y="5689"/>
                  <a:pt x="5135" y="5705"/>
                </a:cubicBezTo>
                <a:cubicBezTo>
                  <a:pt x="5195" y="5720"/>
                  <a:pt x="5255" y="5700"/>
                  <a:pt x="5308" y="5680"/>
                </a:cubicBezTo>
              </a:path>
              <a:path w="2780" h="1291">
                <a:moveTo>
                  <a:pt x="5978" y="5060"/>
                </a:moveTo>
                <a:cubicBezTo>
                  <a:pt x="5968" y="5031"/>
                  <a:pt x="5945" y="5015"/>
                  <a:pt x="5904" y="5011"/>
                </a:cubicBezTo>
                <a:cubicBezTo>
                  <a:pt x="5859" y="5006"/>
                  <a:pt x="5843" y="5042"/>
                  <a:pt x="5829" y="5060"/>
                </a:cubicBezTo>
                <a:cubicBezTo>
                  <a:pt x="5783" y="5121"/>
                  <a:pt x="5741" y="5191"/>
                  <a:pt x="5705" y="5259"/>
                </a:cubicBezTo>
                <a:cubicBezTo>
                  <a:pt x="5655" y="5353"/>
                  <a:pt x="5625" y="5440"/>
                  <a:pt x="5631" y="5531"/>
                </a:cubicBezTo>
                <a:cubicBezTo>
                  <a:pt x="5634" y="5568"/>
                  <a:pt x="5661" y="5643"/>
                  <a:pt x="5705" y="5655"/>
                </a:cubicBezTo>
                <a:cubicBezTo>
                  <a:pt x="5759" y="5670"/>
                  <a:pt x="5855" y="5647"/>
                  <a:pt x="5904" y="5631"/>
                </a:cubicBezTo>
                <a:cubicBezTo>
                  <a:pt x="5953" y="5606"/>
                  <a:pt x="5970" y="5597"/>
                  <a:pt x="6003" y="5581"/>
                </a:cubicBezTo>
              </a:path>
              <a:path w="2780" h="1291">
                <a:moveTo>
                  <a:pt x="6400" y="4564"/>
                </a:moveTo>
                <a:cubicBezTo>
                  <a:pt x="6429" y="4604"/>
                  <a:pt x="6428" y="4642"/>
                  <a:pt x="6400" y="4688"/>
                </a:cubicBezTo>
                <a:cubicBezTo>
                  <a:pt x="6372" y="4734"/>
                  <a:pt x="6381" y="4764"/>
                  <a:pt x="6350" y="4787"/>
                </a:cubicBezTo>
                <a:cubicBezTo>
                  <a:pt x="6325" y="4812"/>
                  <a:pt x="6317" y="4820"/>
                  <a:pt x="6300" y="4837"/>
                </a:cubicBezTo>
                <a:cubicBezTo>
                  <a:pt x="6313" y="4797"/>
                  <a:pt x="6349" y="4812"/>
                  <a:pt x="6400" y="4812"/>
                </a:cubicBezTo>
                <a:cubicBezTo>
                  <a:pt x="6452" y="4812"/>
                  <a:pt x="6482" y="4800"/>
                  <a:pt x="6524" y="4787"/>
                </a:cubicBezTo>
                <a:cubicBezTo>
                  <a:pt x="6532" y="4787"/>
                  <a:pt x="6540" y="4787"/>
                  <a:pt x="6548" y="4787"/>
                </a:cubicBezTo>
              </a:path>
              <a:path w="2780" h="1291">
                <a:moveTo>
                  <a:pt x="6648" y="4415"/>
                </a:moveTo>
                <a:cubicBezTo>
                  <a:pt x="6648" y="4527"/>
                  <a:pt x="6647" y="4633"/>
                  <a:pt x="6623" y="4738"/>
                </a:cubicBezTo>
                <a:cubicBezTo>
                  <a:pt x="6604" y="4819"/>
                  <a:pt x="6573" y="4877"/>
                  <a:pt x="6573" y="4961"/>
                </a:cubicBezTo>
                <a:cubicBezTo>
                  <a:pt x="6573" y="4994"/>
                  <a:pt x="6573" y="5027"/>
                  <a:pt x="6573" y="5060"/>
                </a:cubicBezTo>
              </a:path>
              <a:path w="2780" h="1291">
                <a:moveTo>
                  <a:pt x="6846" y="5011"/>
                </a:moveTo>
                <a:cubicBezTo>
                  <a:pt x="6874" y="5086"/>
                  <a:pt x="6898" y="5162"/>
                  <a:pt x="6921" y="5234"/>
                </a:cubicBezTo>
                <a:cubicBezTo>
                  <a:pt x="6945" y="5308"/>
                  <a:pt x="6994" y="5399"/>
                  <a:pt x="7045" y="5457"/>
                </a:cubicBezTo>
                <a:cubicBezTo>
                  <a:pt x="7064" y="5478"/>
                  <a:pt x="7110" y="5545"/>
                  <a:pt x="7144" y="5531"/>
                </a:cubicBezTo>
                <a:cubicBezTo>
                  <a:pt x="7152" y="5523"/>
                  <a:pt x="7161" y="5515"/>
                  <a:pt x="7169" y="5507"/>
                </a:cubicBezTo>
              </a:path>
              <a:path w="2780" h="1291">
                <a:moveTo>
                  <a:pt x="7119" y="4961"/>
                </a:moveTo>
                <a:cubicBezTo>
                  <a:pt x="7044" y="5064"/>
                  <a:pt x="6979" y="5186"/>
                  <a:pt x="6896" y="5283"/>
                </a:cubicBezTo>
                <a:cubicBezTo>
                  <a:pt x="6840" y="5349"/>
                  <a:pt x="6780" y="5421"/>
                  <a:pt x="6722" y="5482"/>
                </a:cubicBezTo>
                <a:cubicBezTo>
                  <a:pt x="6678" y="5528"/>
                  <a:pt x="6619" y="5568"/>
                  <a:pt x="6598" y="5631"/>
                </a:cubicBezTo>
                <a:cubicBezTo>
                  <a:pt x="6598" y="5639"/>
                  <a:pt x="6598" y="5647"/>
                  <a:pt x="6598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3040" y="1571760"/>
            <a:ext cx="1401840" cy="492120"/>
          </a:xfrm>
          <a:custGeom>
            <a:avLst/>
            <a:gdLst/>
            <a:ahLst/>
            <a:rect l="l" t="t" r="r" b="b"/>
            <a:pathLst>
              <a:path w="3896" h="1365">
                <a:moveTo>
                  <a:pt x="7813" y="5159"/>
                </a:moveTo>
                <a:cubicBezTo>
                  <a:pt x="7867" y="5159"/>
                  <a:pt x="7883" y="5181"/>
                  <a:pt x="7938" y="5184"/>
                </a:cubicBezTo>
                <a:cubicBezTo>
                  <a:pt x="8035" y="5190"/>
                  <a:pt x="8120" y="5180"/>
                  <a:pt x="8210" y="5159"/>
                </a:cubicBezTo>
                <a:cubicBezTo>
                  <a:pt x="8232" y="5154"/>
                  <a:pt x="8263" y="5159"/>
                  <a:pt x="8285" y="5159"/>
                </a:cubicBezTo>
                <a:cubicBezTo>
                  <a:pt x="8269" y="5113"/>
                  <a:pt x="8253" y="5158"/>
                  <a:pt x="8285" y="5110"/>
                </a:cubicBezTo>
              </a:path>
              <a:path w="3896" h="1365">
                <a:moveTo>
                  <a:pt x="8855" y="4514"/>
                </a:moveTo>
                <a:cubicBezTo>
                  <a:pt x="8898" y="4441"/>
                  <a:pt x="8915" y="4454"/>
                  <a:pt x="8979" y="4415"/>
                </a:cubicBezTo>
                <a:cubicBezTo>
                  <a:pt x="9015" y="4393"/>
                  <a:pt x="9081" y="4355"/>
                  <a:pt x="9128" y="4366"/>
                </a:cubicBezTo>
                <a:cubicBezTo>
                  <a:pt x="9192" y="4381"/>
                  <a:pt x="9231" y="4394"/>
                  <a:pt x="9277" y="4440"/>
                </a:cubicBezTo>
                <a:cubicBezTo>
                  <a:pt x="9340" y="4503"/>
                  <a:pt x="9358" y="4521"/>
                  <a:pt x="9327" y="4614"/>
                </a:cubicBezTo>
                <a:cubicBezTo>
                  <a:pt x="9305" y="4680"/>
                  <a:pt x="9267" y="4782"/>
                  <a:pt x="9227" y="4837"/>
                </a:cubicBezTo>
                <a:cubicBezTo>
                  <a:pt x="9147" y="4947"/>
                  <a:pt x="9043" y="5056"/>
                  <a:pt x="8954" y="5159"/>
                </a:cubicBezTo>
                <a:cubicBezTo>
                  <a:pt x="8871" y="5255"/>
                  <a:pt x="8772" y="5342"/>
                  <a:pt x="8682" y="5432"/>
                </a:cubicBezTo>
                <a:cubicBezTo>
                  <a:pt x="8625" y="5489"/>
                  <a:pt x="8585" y="5549"/>
                  <a:pt x="8533" y="5606"/>
                </a:cubicBezTo>
                <a:cubicBezTo>
                  <a:pt x="8533" y="5631"/>
                  <a:pt x="8533" y="5639"/>
                  <a:pt x="8508" y="5631"/>
                </a:cubicBezTo>
                <a:cubicBezTo>
                  <a:pt x="8543" y="5651"/>
                  <a:pt x="8561" y="5663"/>
                  <a:pt x="8607" y="5655"/>
                </a:cubicBezTo>
                <a:cubicBezTo>
                  <a:pt x="8665" y="5645"/>
                  <a:pt x="8717" y="5618"/>
                  <a:pt x="8781" y="5631"/>
                </a:cubicBezTo>
                <a:cubicBezTo>
                  <a:pt x="8842" y="5644"/>
                  <a:pt x="8888" y="5655"/>
                  <a:pt x="8954" y="5655"/>
                </a:cubicBezTo>
                <a:cubicBezTo>
                  <a:pt x="9001" y="5655"/>
                  <a:pt x="9018" y="5673"/>
                  <a:pt x="9054" y="5680"/>
                </a:cubicBezTo>
                <a:cubicBezTo>
                  <a:pt x="9113" y="5692"/>
                  <a:pt x="9111" y="5676"/>
                  <a:pt x="9153" y="5655"/>
                </a:cubicBezTo>
              </a:path>
              <a:path w="3896" h="1365">
                <a:moveTo>
                  <a:pt x="9823" y="5011"/>
                </a:moveTo>
                <a:cubicBezTo>
                  <a:pt x="9773" y="4973"/>
                  <a:pt x="9752" y="4983"/>
                  <a:pt x="9699" y="5011"/>
                </a:cubicBezTo>
                <a:cubicBezTo>
                  <a:pt x="9640" y="5042"/>
                  <a:pt x="9597" y="5063"/>
                  <a:pt x="9550" y="5110"/>
                </a:cubicBezTo>
                <a:cubicBezTo>
                  <a:pt x="9530" y="5130"/>
                  <a:pt x="9460" y="5175"/>
                  <a:pt x="9475" y="5209"/>
                </a:cubicBezTo>
                <a:cubicBezTo>
                  <a:pt x="9496" y="5256"/>
                  <a:pt x="9559" y="5264"/>
                  <a:pt x="9599" y="5283"/>
                </a:cubicBezTo>
                <a:cubicBezTo>
                  <a:pt x="9664" y="5313"/>
                  <a:pt x="9731" y="5374"/>
                  <a:pt x="9773" y="5432"/>
                </a:cubicBezTo>
                <a:cubicBezTo>
                  <a:pt x="9819" y="5495"/>
                  <a:pt x="9823" y="5529"/>
                  <a:pt x="9823" y="5606"/>
                </a:cubicBezTo>
                <a:cubicBezTo>
                  <a:pt x="9823" y="5659"/>
                  <a:pt x="9764" y="5683"/>
                  <a:pt x="9723" y="5705"/>
                </a:cubicBezTo>
                <a:cubicBezTo>
                  <a:pt x="9664" y="5737"/>
                  <a:pt x="9615" y="5730"/>
                  <a:pt x="9550" y="5730"/>
                </a:cubicBezTo>
                <a:cubicBezTo>
                  <a:pt x="9525" y="5730"/>
                  <a:pt x="9517" y="5730"/>
                  <a:pt x="9500" y="5730"/>
                </a:cubicBezTo>
                <a:cubicBezTo>
                  <a:pt x="9512" y="5682"/>
                  <a:pt x="9534" y="5672"/>
                  <a:pt x="9575" y="5631"/>
                </a:cubicBezTo>
              </a:path>
              <a:path w="3896" h="1365">
                <a:moveTo>
                  <a:pt x="10046" y="5358"/>
                </a:moveTo>
                <a:cubicBezTo>
                  <a:pt x="10102" y="5326"/>
                  <a:pt x="10144" y="5310"/>
                  <a:pt x="10195" y="5283"/>
                </a:cubicBezTo>
                <a:cubicBezTo>
                  <a:pt x="10263" y="5247"/>
                  <a:pt x="10297" y="5215"/>
                  <a:pt x="10344" y="5159"/>
                </a:cubicBezTo>
                <a:cubicBezTo>
                  <a:pt x="10385" y="5110"/>
                  <a:pt x="10377" y="5074"/>
                  <a:pt x="10368" y="5035"/>
                </a:cubicBezTo>
                <a:cubicBezTo>
                  <a:pt x="10359" y="4994"/>
                  <a:pt x="10291" y="4997"/>
                  <a:pt x="10244" y="5011"/>
                </a:cubicBezTo>
                <a:cubicBezTo>
                  <a:pt x="10188" y="5028"/>
                  <a:pt x="10106" y="5135"/>
                  <a:pt x="10071" y="5184"/>
                </a:cubicBezTo>
                <a:cubicBezTo>
                  <a:pt x="10021" y="5254"/>
                  <a:pt x="10000" y="5351"/>
                  <a:pt x="9996" y="5432"/>
                </a:cubicBezTo>
                <a:cubicBezTo>
                  <a:pt x="9992" y="5509"/>
                  <a:pt x="10004" y="5561"/>
                  <a:pt x="10021" y="5631"/>
                </a:cubicBezTo>
                <a:cubicBezTo>
                  <a:pt x="10033" y="5681"/>
                  <a:pt x="10065" y="5701"/>
                  <a:pt x="10120" y="5705"/>
                </a:cubicBezTo>
                <a:cubicBezTo>
                  <a:pt x="10169" y="5708"/>
                  <a:pt x="10254" y="5686"/>
                  <a:pt x="10294" y="5655"/>
                </a:cubicBezTo>
                <a:cubicBezTo>
                  <a:pt x="10311" y="5639"/>
                  <a:pt x="10327" y="5622"/>
                  <a:pt x="10344" y="5606"/>
                </a:cubicBezTo>
              </a:path>
              <a:path w="3896" h="1365">
                <a:moveTo>
                  <a:pt x="10740" y="5110"/>
                </a:moveTo>
                <a:cubicBezTo>
                  <a:pt x="10763" y="5133"/>
                  <a:pt x="10767" y="5141"/>
                  <a:pt x="10790" y="5135"/>
                </a:cubicBezTo>
                <a:cubicBezTo>
                  <a:pt x="10790" y="5089"/>
                  <a:pt x="10792" y="5066"/>
                  <a:pt x="10740" y="5060"/>
                </a:cubicBezTo>
                <a:cubicBezTo>
                  <a:pt x="10700" y="5055"/>
                  <a:pt x="10667" y="5109"/>
                  <a:pt x="10641" y="5135"/>
                </a:cubicBezTo>
                <a:cubicBezTo>
                  <a:pt x="10572" y="5204"/>
                  <a:pt x="10545" y="5284"/>
                  <a:pt x="10492" y="5358"/>
                </a:cubicBezTo>
                <a:cubicBezTo>
                  <a:pt x="10445" y="5425"/>
                  <a:pt x="10398" y="5529"/>
                  <a:pt x="10443" y="5606"/>
                </a:cubicBezTo>
                <a:cubicBezTo>
                  <a:pt x="10474" y="5659"/>
                  <a:pt x="10513" y="5655"/>
                  <a:pt x="10567" y="5655"/>
                </a:cubicBezTo>
                <a:cubicBezTo>
                  <a:pt x="10653" y="5655"/>
                  <a:pt x="10675" y="5642"/>
                  <a:pt x="10740" y="5581"/>
                </a:cubicBezTo>
                <a:cubicBezTo>
                  <a:pt x="10748" y="5573"/>
                  <a:pt x="10757" y="5564"/>
                  <a:pt x="10765" y="5556"/>
                </a:cubicBezTo>
              </a:path>
              <a:path w="3896" h="1365">
                <a:moveTo>
                  <a:pt x="10988" y="4688"/>
                </a:moveTo>
                <a:cubicBezTo>
                  <a:pt x="11059" y="4618"/>
                  <a:pt x="11092" y="4580"/>
                  <a:pt x="11187" y="4564"/>
                </a:cubicBezTo>
                <a:cubicBezTo>
                  <a:pt x="11242" y="4555"/>
                  <a:pt x="11269" y="4565"/>
                  <a:pt x="11286" y="4614"/>
                </a:cubicBezTo>
                <a:cubicBezTo>
                  <a:pt x="11294" y="4637"/>
                  <a:pt x="11228" y="4743"/>
                  <a:pt x="11212" y="4762"/>
                </a:cubicBezTo>
                <a:cubicBezTo>
                  <a:pt x="11179" y="4801"/>
                  <a:pt x="11045" y="4877"/>
                  <a:pt x="11038" y="4936"/>
                </a:cubicBezTo>
                <a:cubicBezTo>
                  <a:pt x="11038" y="4961"/>
                  <a:pt x="11038" y="4969"/>
                  <a:pt x="11038" y="4986"/>
                </a:cubicBezTo>
                <a:cubicBezTo>
                  <a:pt x="11112" y="4986"/>
                  <a:pt x="11144" y="5003"/>
                  <a:pt x="11212" y="4986"/>
                </a:cubicBezTo>
              </a:path>
              <a:path w="3896" h="1365">
                <a:moveTo>
                  <a:pt x="11385" y="5135"/>
                </a:moveTo>
                <a:cubicBezTo>
                  <a:pt x="11385" y="5231"/>
                  <a:pt x="11387" y="5318"/>
                  <a:pt x="11410" y="5407"/>
                </a:cubicBezTo>
                <a:cubicBezTo>
                  <a:pt x="11427" y="5470"/>
                  <a:pt x="11471" y="5551"/>
                  <a:pt x="11509" y="5606"/>
                </a:cubicBezTo>
                <a:cubicBezTo>
                  <a:pt x="11534" y="5643"/>
                  <a:pt x="11617" y="5655"/>
                  <a:pt x="11633" y="5680"/>
                </a:cubicBezTo>
                <a:cubicBezTo>
                  <a:pt x="11658" y="5719"/>
                  <a:pt x="11658" y="5705"/>
                  <a:pt x="11658" y="5655"/>
                </a:cubicBezTo>
              </a:path>
              <a:path w="3896" h="1365">
                <a:moveTo>
                  <a:pt x="11708" y="5110"/>
                </a:moveTo>
                <a:cubicBezTo>
                  <a:pt x="11624" y="5215"/>
                  <a:pt x="11492" y="5431"/>
                  <a:pt x="11385" y="5531"/>
                </a:cubicBezTo>
                <a:cubicBezTo>
                  <a:pt x="11332" y="5581"/>
                  <a:pt x="11287" y="5624"/>
                  <a:pt x="11237" y="5680"/>
                </a:cubicBezTo>
                <a:cubicBezTo>
                  <a:pt x="11195" y="5727"/>
                  <a:pt x="11195" y="5728"/>
                  <a:pt x="11237" y="5680"/>
                </a:cubicBezTo>
                <a:cubicBezTo>
                  <a:pt x="11245" y="5672"/>
                  <a:pt x="11253" y="5663"/>
                  <a:pt x="11261" y="56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38800" y="1660680"/>
            <a:ext cx="598320" cy="384120"/>
          </a:xfrm>
          <a:custGeom>
            <a:avLst/>
            <a:gdLst/>
            <a:ahLst/>
            <a:rect l="l" t="t" r="r" b="b"/>
            <a:pathLst>
              <a:path w="1663" h="1067">
                <a:moveTo>
                  <a:pt x="12626" y="4862"/>
                </a:moveTo>
                <a:cubicBezTo>
                  <a:pt x="12661" y="4957"/>
                  <a:pt x="12637" y="4988"/>
                  <a:pt x="12626" y="5085"/>
                </a:cubicBezTo>
                <a:cubicBezTo>
                  <a:pt x="12616" y="5177"/>
                  <a:pt x="12587" y="5270"/>
                  <a:pt x="12576" y="5358"/>
                </a:cubicBezTo>
                <a:cubicBezTo>
                  <a:pt x="12567" y="5432"/>
                  <a:pt x="12667" y="5523"/>
                  <a:pt x="12601" y="5556"/>
                </a:cubicBezTo>
                <a:cubicBezTo>
                  <a:pt x="12593" y="5556"/>
                  <a:pt x="12584" y="5556"/>
                  <a:pt x="12576" y="5556"/>
                </a:cubicBezTo>
              </a:path>
              <a:path w="1663" h="1067">
                <a:moveTo>
                  <a:pt x="12328" y="5308"/>
                </a:moveTo>
                <a:cubicBezTo>
                  <a:pt x="12356" y="5308"/>
                  <a:pt x="12367" y="5310"/>
                  <a:pt x="12378" y="5333"/>
                </a:cubicBezTo>
                <a:cubicBezTo>
                  <a:pt x="12445" y="5292"/>
                  <a:pt x="12498" y="5327"/>
                  <a:pt x="12576" y="5308"/>
                </a:cubicBezTo>
                <a:cubicBezTo>
                  <a:pt x="12645" y="5291"/>
                  <a:pt x="12709" y="5267"/>
                  <a:pt x="12774" y="5234"/>
                </a:cubicBezTo>
              </a:path>
              <a:path w="1663" h="1067">
                <a:moveTo>
                  <a:pt x="13097" y="4614"/>
                </a:moveTo>
                <a:cubicBezTo>
                  <a:pt x="13113" y="4699"/>
                  <a:pt x="13112" y="4794"/>
                  <a:pt x="13097" y="4887"/>
                </a:cubicBezTo>
                <a:cubicBezTo>
                  <a:pt x="13079" y="5004"/>
                  <a:pt x="13051" y="5115"/>
                  <a:pt x="13047" y="5234"/>
                </a:cubicBezTo>
                <a:cubicBezTo>
                  <a:pt x="13044" y="5321"/>
                  <a:pt x="13022" y="5395"/>
                  <a:pt x="13022" y="5482"/>
                </a:cubicBezTo>
                <a:cubicBezTo>
                  <a:pt x="13022" y="5483"/>
                  <a:pt x="13022" y="5718"/>
                  <a:pt x="13022" y="5655"/>
                </a:cubicBezTo>
                <a:cubicBezTo>
                  <a:pt x="13022" y="5647"/>
                  <a:pt x="13022" y="5639"/>
                  <a:pt x="13022" y="5631"/>
                </a:cubicBezTo>
              </a:path>
              <a:path w="1663" h="1067">
                <a:moveTo>
                  <a:pt x="13444" y="5358"/>
                </a:moveTo>
                <a:cubicBezTo>
                  <a:pt x="13489" y="5358"/>
                  <a:pt x="13503" y="5380"/>
                  <a:pt x="13543" y="5383"/>
                </a:cubicBezTo>
                <a:cubicBezTo>
                  <a:pt x="13595" y="5387"/>
                  <a:pt x="13623" y="5404"/>
                  <a:pt x="13667" y="5407"/>
                </a:cubicBezTo>
                <a:cubicBezTo>
                  <a:pt x="13726" y="5411"/>
                  <a:pt x="13761" y="5394"/>
                  <a:pt x="13816" y="5383"/>
                </a:cubicBezTo>
                <a:cubicBezTo>
                  <a:pt x="13816" y="5358"/>
                  <a:pt x="13816" y="5350"/>
                  <a:pt x="13791" y="5358"/>
                </a:cubicBezTo>
              </a:path>
              <a:path w="1663" h="1067">
                <a:moveTo>
                  <a:pt x="13494" y="5556"/>
                </a:moveTo>
                <a:cubicBezTo>
                  <a:pt x="13569" y="5556"/>
                  <a:pt x="13629" y="5568"/>
                  <a:pt x="13692" y="5581"/>
                </a:cubicBezTo>
                <a:cubicBezTo>
                  <a:pt x="13760" y="5596"/>
                  <a:pt x="13846" y="5581"/>
                  <a:pt x="13915" y="5581"/>
                </a:cubicBezTo>
                <a:cubicBezTo>
                  <a:pt x="13919" y="5593"/>
                  <a:pt x="13966" y="5636"/>
                  <a:pt x="13990" y="5606"/>
                </a:cubicBezTo>
                <a:cubicBezTo>
                  <a:pt x="13990" y="5598"/>
                  <a:pt x="13990" y="5589"/>
                  <a:pt x="13990" y="55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2800" y="1554120"/>
            <a:ext cx="1965240" cy="677880"/>
          </a:xfrm>
          <a:custGeom>
            <a:avLst/>
            <a:gdLst/>
            <a:ahLst/>
            <a:rect l="l" t="t" r="r" b="b"/>
            <a:pathLst>
              <a:path w="5458" h="1886">
                <a:moveTo>
                  <a:pt x="15528" y="5135"/>
                </a:moveTo>
                <a:cubicBezTo>
                  <a:pt x="15520" y="5112"/>
                  <a:pt x="15485" y="5096"/>
                  <a:pt x="15453" y="5085"/>
                </a:cubicBezTo>
                <a:cubicBezTo>
                  <a:pt x="15410" y="5070"/>
                  <a:pt x="15370" y="5106"/>
                  <a:pt x="15329" y="5110"/>
                </a:cubicBezTo>
                <a:cubicBezTo>
                  <a:pt x="15273" y="5116"/>
                  <a:pt x="15250" y="5120"/>
                  <a:pt x="15205" y="5135"/>
                </a:cubicBezTo>
                <a:cubicBezTo>
                  <a:pt x="15177" y="5135"/>
                  <a:pt x="15167" y="5137"/>
                  <a:pt x="15156" y="5159"/>
                </a:cubicBezTo>
                <a:cubicBezTo>
                  <a:pt x="15165" y="5186"/>
                  <a:pt x="15173" y="5205"/>
                  <a:pt x="15205" y="5209"/>
                </a:cubicBezTo>
                <a:cubicBezTo>
                  <a:pt x="15251" y="5215"/>
                  <a:pt x="15280" y="5247"/>
                  <a:pt x="15329" y="5259"/>
                </a:cubicBezTo>
                <a:cubicBezTo>
                  <a:pt x="15378" y="5271"/>
                  <a:pt x="15423" y="5285"/>
                  <a:pt x="15453" y="5333"/>
                </a:cubicBezTo>
                <a:cubicBezTo>
                  <a:pt x="15485" y="5383"/>
                  <a:pt x="15540" y="5448"/>
                  <a:pt x="15553" y="5507"/>
                </a:cubicBezTo>
                <a:cubicBezTo>
                  <a:pt x="15565" y="5558"/>
                  <a:pt x="15597" y="5650"/>
                  <a:pt x="15577" y="5705"/>
                </a:cubicBezTo>
                <a:cubicBezTo>
                  <a:pt x="15557" y="5759"/>
                  <a:pt x="15510" y="5802"/>
                  <a:pt x="15453" y="5829"/>
                </a:cubicBezTo>
                <a:cubicBezTo>
                  <a:pt x="15399" y="5854"/>
                  <a:pt x="15341" y="5854"/>
                  <a:pt x="15280" y="5854"/>
                </a:cubicBezTo>
                <a:cubicBezTo>
                  <a:pt x="15227" y="5854"/>
                  <a:pt x="15197" y="5818"/>
                  <a:pt x="15156" y="5804"/>
                </a:cubicBezTo>
                <a:cubicBezTo>
                  <a:pt x="15114" y="5790"/>
                  <a:pt x="15088" y="5817"/>
                  <a:pt x="15081" y="5755"/>
                </a:cubicBezTo>
                <a:cubicBezTo>
                  <a:pt x="15081" y="5720"/>
                  <a:pt x="15090" y="5707"/>
                  <a:pt x="15131" y="5705"/>
                </a:cubicBezTo>
              </a:path>
              <a:path w="5458" h="1886">
                <a:moveTo>
                  <a:pt x="15602" y="5507"/>
                </a:moveTo>
                <a:cubicBezTo>
                  <a:pt x="15683" y="5507"/>
                  <a:pt x="15726" y="5500"/>
                  <a:pt x="15801" y="5482"/>
                </a:cubicBezTo>
                <a:cubicBezTo>
                  <a:pt x="15835" y="5474"/>
                  <a:pt x="15922" y="5461"/>
                  <a:pt x="15949" y="5432"/>
                </a:cubicBezTo>
                <a:cubicBezTo>
                  <a:pt x="15994" y="5384"/>
                  <a:pt x="15999" y="5331"/>
                  <a:pt x="16024" y="5283"/>
                </a:cubicBezTo>
                <a:cubicBezTo>
                  <a:pt x="16053" y="5255"/>
                  <a:pt x="16061" y="5242"/>
                  <a:pt x="16049" y="5209"/>
                </a:cubicBezTo>
                <a:cubicBezTo>
                  <a:pt x="15999" y="5171"/>
                  <a:pt x="15996" y="5173"/>
                  <a:pt x="15949" y="5184"/>
                </a:cubicBezTo>
                <a:cubicBezTo>
                  <a:pt x="15911" y="5193"/>
                  <a:pt x="15849" y="5253"/>
                  <a:pt x="15825" y="5283"/>
                </a:cubicBezTo>
                <a:cubicBezTo>
                  <a:pt x="15782" y="5338"/>
                  <a:pt x="15783" y="5440"/>
                  <a:pt x="15751" y="5507"/>
                </a:cubicBezTo>
                <a:cubicBezTo>
                  <a:pt x="15717" y="5579"/>
                  <a:pt x="15723" y="5635"/>
                  <a:pt x="15751" y="5705"/>
                </a:cubicBezTo>
                <a:cubicBezTo>
                  <a:pt x="15765" y="5740"/>
                  <a:pt x="15811" y="5812"/>
                  <a:pt x="15850" y="5829"/>
                </a:cubicBezTo>
                <a:cubicBezTo>
                  <a:pt x="15901" y="5852"/>
                  <a:pt x="15979" y="5821"/>
                  <a:pt x="16024" y="5804"/>
                </a:cubicBezTo>
              </a:path>
              <a:path w="5458" h="1886">
                <a:moveTo>
                  <a:pt x="16669" y="5209"/>
                </a:moveTo>
                <a:cubicBezTo>
                  <a:pt x="16734" y="5189"/>
                  <a:pt x="16754" y="5200"/>
                  <a:pt x="16768" y="5159"/>
                </a:cubicBezTo>
                <a:cubicBezTo>
                  <a:pt x="16702" y="5159"/>
                  <a:pt x="16655" y="5155"/>
                  <a:pt x="16594" y="5184"/>
                </a:cubicBezTo>
                <a:cubicBezTo>
                  <a:pt x="16487" y="5235"/>
                  <a:pt x="16430" y="5334"/>
                  <a:pt x="16371" y="5432"/>
                </a:cubicBezTo>
                <a:cubicBezTo>
                  <a:pt x="16316" y="5524"/>
                  <a:pt x="16297" y="5573"/>
                  <a:pt x="16297" y="5680"/>
                </a:cubicBezTo>
                <a:cubicBezTo>
                  <a:pt x="16297" y="5741"/>
                  <a:pt x="16317" y="5794"/>
                  <a:pt x="16371" y="5829"/>
                </a:cubicBezTo>
                <a:cubicBezTo>
                  <a:pt x="16445" y="5877"/>
                  <a:pt x="16495" y="5841"/>
                  <a:pt x="16570" y="5829"/>
                </a:cubicBezTo>
                <a:cubicBezTo>
                  <a:pt x="16651" y="5816"/>
                  <a:pt x="16682" y="5767"/>
                  <a:pt x="16743" y="5705"/>
                </a:cubicBezTo>
              </a:path>
              <a:path w="5458" h="1886">
                <a:moveTo>
                  <a:pt x="16917" y="4713"/>
                </a:moveTo>
                <a:cubicBezTo>
                  <a:pt x="17044" y="4638"/>
                  <a:pt x="17075" y="4614"/>
                  <a:pt x="17214" y="4614"/>
                </a:cubicBezTo>
                <a:cubicBezTo>
                  <a:pt x="17256" y="4614"/>
                  <a:pt x="17351" y="4632"/>
                  <a:pt x="17363" y="4688"/>
                </a:cubicBezTo>
                <a:cubicBezTo>
                  <a:pt x="17385" y="4790"/>
                  <a:pt x="17328" y="4847"/>
                  <a:pt x="17264" y="4911"/>
                </a:cubicBezTo>
                <a:cubicBezTo>
                  <a:pt x="17238" y="4936"/>
                  <a:pt x="17218" y="4976"/>
                  <a:pt x="17214" y="5011"/>
                </a:cubicBezTo>
                <a:cubicBezTo>
                  <a:pt x="17206" y="5081"/>
                  <a:pt x="17295" y="5060"/>
                  <a:pt x="17338" y="5060"/>
                </a:cubicBezTo>
                <a:cubicBezTo>
                  <a:pt x="17387" y="5060"/>
                  <a:pt x="17417" y="5076"/>
                  <a:pt x="17462" y="5085"/>
                </a:cubicBezTo>
              </a:path>
              <a:path w="5458" h="1886">
                <a:moveTo>
                  <a:pt x="17611" y="5184"/>
                </a:moveTo>
                <a:cubicBezTo>
                  <a:pt x="17667" y="5294"/>
                  <a:pt x="17671" y="5371"/>
                  <a:pt x="17711" y="5482"/>
                </a:cubicBezTo>
                <a:cubicBezTo>
                  <a:pt x="17741" y="5566"/>
                  <a:pt x="17751" y="5651"/>
                  <a:pt x="17785" y="5730"/>
                </a:cubicBezTo>
                <a:cubicBezTo>
                  <a:pt x="17800" y="5766"/>
                  <a:pt x="17810" y="5882"/>
                  <a:pt x="17835" y="5904"/>
                </a:cubicBezTo>
                <a:cubicBezTo>
                  <a:pt x="17867" y="5932"/>
                  <a:pt x="17859" y="5925"/>
                  <a:pt x="17859" y="5879"/>
                </a:cubicBezTo>
                <a:cubicBezTo>
                  <a:pt x="17859" y="5871"/>
                  <a:pt x="17859" y="5862"/>
                  <a:pt x="17859" y="5854"/>
                </a:cubicBezTo>
              </a:path>
              <a:path w="5458" h="1886">
                <a:moveTo>
                  <a:pt x="17934" y="5283"/>
                </a:moveTo>
                <a:cubicBezTo>
                  <a:pt x="17856" y="5382"/>
                  <a:pt x="17767" y="5443"/>
                  <a:pt x="17686" y="5531"/>
                </a:cubicBezTo>
                <a:cubicBezTo>
                  <a:pt x="17612" y="5612"/>
                  <a:pt x="17543" y="5679"/>
                  <a:pt x="17462" y="5755"/>
                </a:cubicBezTo>
                <a:cubicBezTo>
                  <a:pt x="17425" y="5790"/>
                  <a:pt x="17389" y="5848"/>
                  <a:pt x="17338" y="5854"/>
                </a:cubicBezTo>
                <a:cubicBezTo>
                  <a:pt x="17310" y="5854"/>
                  <a:pt x="17305" y="5851"/>
                  <a:pt x="17338" y="5829"/>
                </a:cubicBezTo>
              </a:path>
              <a:path w="5458" h="1886">
                <a:moveTo>
                  <a:pt x="17884" y="5432"/>
                </a:moveTo>
                <a:cubicBezTo>
                  <a:pt x="17975" y="5437"/>
                  <a:pt x="18116" y="5483"/>
                  <a:pt x="18207" y="5457"/>
                </a:cubicBezTo>
                <a:cubicBezTo>
                  <a:pt x="18274" y="5438"/>
                  <a:pt x="18368" y="5456"/>
                  <a:pt x="18430" y="5432"/>
                </a:cubicBezTo>
                <a:cubicBezTo>
                  <a:pt x="18455" y="5407"/>
                  <a:pt x="18463" y="5399"/>
                  <a:pt x="18479" y="5383"/>
                </a:cubicBezTo>
              </a:path>
              <a:path w="5458" h="1886">
                <a:moveTo>
                  <a:pt x="18703" y="4961"/>
                </a:moveTo>
                <a:cubicBezTo>
                  <a:pt x="18703" y="5043"/>
                  <a:pt x="18687" y="5106"/>
                  <a:pt x="18678" y="5184"/>
                </a:cubicBezTo>
                <a:cubicBezTo>
                  <a:pt x="18666" y="5290"/>
                  <a:pt x="18658" y="5401"/>
                  <a:pt x="18653" y="5507"/>
                </a:cubicBezTo>
                <a:cubicBezTo>
                  <a:pt x="18650" y="5577"/>
                  <a:pt x="18661" y="5624"/>
                  <a:pt x="18678" y="5680"/>
                </a:cubicBezTo>
                <a:cubicBezTo>
                  <a:pt x="18690" y="5719"/>
                  <a:pt x="18679" y="5721"/>
                  <a:pt x="18653" y="5730"/>
                </a:cubicBezTo>
              </a:path>
              <a:path w="5458" h="1886">
                <a:moveTo>
                  <a:pt x="15255" y="4564"/>
                </a:moveTo>
                <a:cubicBezTo>
                  <a:pt x="15106" y="4766"/>
                  <a:pt x="15058" y="4934"/>
                  <a:pt x="15007" y="5184"/>
                </a:cubicBezTo>
                <a:cubicBezTo>
                  <a:pt x="14974" y="5345"/>
                  <a:pt x="14971" y="5496"/>
                  <a:pt x="15007" y="5655"/>
                </a:cubicBezTo>
                <a:cubicBezTo>
                  <a:pt x="15040" y="5805"/>
                  <a:pt x="15088" y="5861"/>
                  <a:pt x="15180" y="5978"/>
                </a:cubicBezTo>
                <a:cubicBezTo>
                  <a:pt x="15270" y="6093"/>
                  <a:pt x="15358" y="6141"/>
                  <a:pt x="15503" y="6176"/>
                </a:cubicBezTo>
                <a:cubicBezTo>
                  <a:pt x="15618" y="6199"/>
                  <a:pt x="15650" y="6208"/>
                  <a:pt x="15726" y="6201"/>
                </a:cubicBezTo>
              </a:path>
              <a:path w="5458" h="1886">
                <a:moveTo>
                  <a:pt x="19273" y="4688"/>
                </a:moveTo>
                <a:cubicBezTo>
                  <a:pt x="19351" y="4857"/>
                  <a:pt x="19442" y="5015"/>
                  <a:pt x="19422" y="5209"/>
                </a:cubicBezTo>
                <a:cubicBezTo>
                  <a:pt x="19410" y="5322"/>
                  <a:pt x="19377" y="5478"/>
                  <a:pt x="19323" y="5581"/>
                </a:cubicBezTo>
                <a:cubicBezTo>
                  <a:pt x="19288" y="5649"/>
                  <a:pt x="19238" y="5715"/>
                  <a:pt x="19199" y="5779"/>
                </a:cubicBezTo>
                <a:cubicBezTo>
                  <a:pt x="19187" y="5798"/>
                  <a:pt x="19137" y="5870"/>
                  <a:pt x="19124" y="5879"/>
                </a:cubicBezTo>
                <a:cubicBezTo>
                  <a:pt x="19091" y="5901"/>
                  <a:pt x="19128" y="5861"/>
                  <a:pt x="19149" y="5854"/>
                </a:cubicBezTo>
              </a:path>
              <a:path w="5458" h="1886">
                <a:moveTo>
                  <a:pt x="19794" y="4316"/>
                </a:moveTo>
                <a:cubicBezTo>
                  <a:pt x="19890" y="4316"/>
                  <a:pt x="19945" y="4302"/>
                  <a:pt x="20017" y="4366"/>
                </a:cubicBezTo>
                <a:cubicBezTo>
                  <a:pt x="20074" y="4417"/>
                  <a:pt x="20034" y="4511"/>
                  <a:pt x="19993" y="4564"/>
                </a:cubicBezTo>
                <a:cubicBezTo>
                  <a:pt x="19955" y="4613"/>
                  <a:pt x="19869" y="4630"/>
                  <a:pt x="19844" y="4688"/>
                </a:cubicBezTo>
                <a:cubicBezTo>
                  <a:pt x="19822" y="4737"/>
                  <a:pt x="19863" y="4749"/>
                  <a:pt x="19893" y="4762"/>
                </a:cubicBezTo>
                <a:cubicBezTo>
                  <a:pt x="19977" y="4798"/>
                  <a:pt x="20055" y="4810"/>
                  <a:pt x="20141" y="4837"/>
                </a:cubicBezTo>
                <a:cubicBezTo>
                  <a:pt x="20227" y="4863"/>
                  <a:pt x="20304" y="4885"/>
                  <a:pt x="20389" y="4911"/>
                </a:cubicBezTo>
                <a:cubicBezTo>
                  <a:pt x="20445" y="4928"/>
                  <a:pt x="20449" y="4939"/>
                  <a:pt x="20414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41920" y="2598840"/>
            <a:ext cx="2759040" cy="955440"/>
          </a:xfrm>
          <a:custGeom>
            <a:avLst/>
            <a:gdLst/>
            <a:ahLst/>
            <a:rect l="l" t="t" r="r" b="b"/>
            <a:pathLst>
              <a:path w="7666" h="2655">
                <a:moveTo>
                  <a:pt x="13246" y="8161"/>
                </a:moveTo>
                <a:cubicBezTo>
                  <a:pt x="13287" y="8143"/>
                  <a:pt x="13329" y="8116"/>
                  <a:pt x="13370" y="8111"/>
                </a:cubicBezTo>
                <a:cubicBezTo>
                  <a:pt x="13419" y="8106"/>
                  <a:pt x="13452" y="8091"/>
                  <a:pt x="13494" y="8086"/>
                </a:cubicBezTo>
                <a:cubicBezTo>
                  <a:pt x="13522" y="8086"/>
                  <a:pt x="13533" y="8088"/>
                  <a:pt x="13543" y="8111"/>
                </a:cubicBezTo>
              </a:path>
              <a:path w="7666" h="2655">
                <a:moveTo>
                  <a:pt x="13171" y="8359"/>
                </a:moveTo>
                <a:cubicBezTo>
                  <a:pt x="13205" y="8369"/>
                  <a:pt x="13277" y="8399"/>
                  <a:pt x="13320" y="8384"/>
                </a:cubicBezTo>
                <a:cubicBezTo>
                  <a:pt x="13339" y="8377"/>
                  <a:pt x="13448" y="8359"/>
                  <a:pt x="13395" y="8359"/>
                </a:cubicBezTo>
                <a:cubicBezTo>
                  <a:pt x="13367" y="8359"/>
                  <a:pt x="13356" y="8361"/>
                  <a:pt x="13345" y="8384"/>
                </a:cubicBezTo>
              </a:path>
              <a:path w="7666" h="2655">
                <a:moveTo>
                  <a:pt x="14412" y="7938"/>
                </a:moveTo>
                <a:cubicBezTo>
                  <a:pt x="14412" y="8359"/>
                  <a:pt x="14430" y="8787"/>
                  <a:pt x="14387" y="9203"/>
                </a:cubicBezTo>
                <a:cubicBezTo>
                  <a:pt x="14378" y="9286"/>
                  <a:pt x="14365" y="9365"/>
                  <a:pt x="14362" y="9451"/>
                </a:cubicBezTo>
                <a:cubicBezTo>
                  <a:pt x="14362" y="9404"/>
                  <a:pt x="14362" y="9423"/>
                  <a:pt x="14362" y="9376"/>
                </a:cubicBezTo>
                <a:cubicBezTo>
                  <a:pt x="14362" y="9257"/>
                  <a:pt x="14373" y="9146"/>
                  <a:pt x="14387" y="9029"/>
                </a:cubicBezTo>
                <a:cubicBezTo>
                  <a:pt x="14403" y="8891"/>
                  <a:pt x="14429" y="8744"/>
                  <a:pt x="14436" y="8607"/>
                </a:cubicBezTo>
                <a:cubicBezTo>
                  <a:pt x="14443" y="8457"/>
                  <a:pt x="14455" y="8310"/>
                  <a:pt x="14461" y="8161"/>
                </a:cubicBezTo>
                <a:cubicBezTo>
                  <a:pt x="14466" y="8041"/>
                  <a:pt x="14480" y="7930"/>
                  <a:pt x="14486" y="7813"/>
                </a:cubicBezTo>
                <a:cubicBezTo>
                  <a:pt x="14490" y="7740"/>
                  <a:pt x="14449" y="7541"/>
                  <a:pt x="14511" y="7491"/>
                </a:cubicBezTo>
                <a:cubicBezTo>
                  <a:pt x="14536" y="7470"/>
                  <a:pt x="14543" y="7436"/>
                  <a:pt x="14585" y="7417"/>
                </a:cubicBezTo>
                <a:cubicBezTo>
                  <a:pt x="14853" y="7298"/>
                  <a:pt x="15367" y="7392"/>
                  <a:pt x="15652" y="7392"/>
                </a:cubicBezTo>
                <a:cubicBezTo>
                  <a:pt x="15868" y="7392"/>
                  <a:pt x="16080" y="7367"/>
                  <a:pt x="16297" y="7367"/>
                </a:cubicBezTo>
                <a:cubicBezTo>
                  <a:pt x="16605" y="7367"/>
                  <a:pt x="16908" y="7346"/>
                  <a:pt x="17214" y="7342"/>
                </a:cubicBezTo>
                <a:cubicBezTo>
                  <a:pt x="17546" y="7337"/>
                  <a:pt x="17876" y="7322"/>
                  <a:pt x="18207" y="7317"/>
                </a:cubicBezTo>
                <a:cubicBezTo>
                  <a:pt x="18530" y="7312"/>
                  <a:pt x="18851" y="7293"/>
                  <a:pt x="19174" y="7293"/>
                </a:cubicBezTo>
                <a:cubicBezTo>
                  <a:pt x="19408" y="7293"/>
                  <a:pt x="19637" y="7255"/>
                  <a:pt x="19869" y="7243"/>
                </a:cubicBezTo>
                <a:cubicBezTo>
                  <a:pt x="20052" y="7234"/>
                  <a:pt x="20232" y="7226"/>
                  <a:pt x="20414" y="7218"/>
                </a:cubicBezTo>
                <a:cubicBezTo>
                  <a:pt x="20546" y="7212"/>
                  <a:pt x="20679" y="7218"/>
                  <a:pt x="20811" y="7218"/>
                </a:cubicBezTo>
                <a:cubicBezTo>
                  <a:pt x="20814" y="7259"/>
                  <a:pt x="20841" y="7270"/>
                  <a:pt x="20836" y="7317"/>
                </a:cubicBezTo>
                <a:cubicBezTo>
                  <a:pt x="20828" y="7396"/>
                  <a:pt x="20821" y="7463"/>
                  <a:pt x="20811" y="7541"/>
                </a:cubicBezTo>
                <a:cubicBezTo>
                  <a:pt x="20797" y="7656"/>
                  <a:pt x="20799" y="7771"/>
                  <a:pt x="20786" y="7888"/>
                </a:cubicBezTo>
                <a:cubicBezTo>
                  <a:pt x="20765" y="8069"/>
                  <a:pt x="20737" y="8254"/>
                  <a:pt x="20712" y="8434"/>
                </a:cubicBezTo>
                <a:cubicBezTo>
                  <a:pt x="20678" y="8678"/>
                  <a:pt x="20672" y="8933"/>
                  <a:pt x="20662" y="9178"/>
                </a:cubicBezTo>
                <a:cubicBezTo>
                  <a:pt x="20653" y="9409"/>
                  <a:pt x="20662" y="9641"/>
                  <a:pt x="20662" y="9872"/>
                </a:cubicBezTo>
                <a:cubicBezTo>
                  <a:pt x="20554" y="9855"/>
                  <a:pt x="20445" y="9847"/>
                  <a:pt x="20340" y="9823"/>
                </a:cubicBezTo>
                <a:cubicBezTo>
                  <a:pt x="20205" y="9793"/>
                  <a:pt x="20081" y="9766"/>
                  <a:pt x="19943" y="9748"/>
                </a:cubicBezTo>
                <a:cubicBezTo>
                  <a:pt x="19780" y="9727"/>
                  <a:pt x="19612" y="9685"/>
                  <a:pt x="19447" y="9674"/>
                </a:cubicBezTo>
                <a:cubicBezTo>
                  <a:pt x="19248" y="9660"/>
                  <a:pt x="19052" y="9649"/>
                  <a:pt x="18852" y="9649"/>
                </a:cubicBezTo>
                <a:cubicBezTo>
                  <a:pt x="18641" y="9649"/>
                  <a:pt x="18440" y="9627"/>
                  <a:pt x="18231" y="9624"/>
                </a:cubicBezTo>
                <a:cubicBezTo>
                  <a:pt x="17677" y="9616"/>
                  <a:pt x="17122" y="9608"/>
                  <a:pt x="16570" y="9599"/>
                </a:cubicBezTo>
                <a:cubicBezTo>
                  <a:pt x="16280" y="9594"/>
                  <a:pt x="15991" y="9579"/>
                  <a:pt x="15701" y="9575"/>
                </a:cubicBezTo>
                <a:cubicBezTo>
                  <a:pt x="15394" y="9570"/>
                  <a:pt x="15085" y="9587"/>
                  <a:pt x="14784" y="9599"/>
                </a:cubicBezTo>
                <a:cubicBezTo>
                  <a:pt x="14677" y="9603"/>
                  <a:pt x="14586" y="9579"/>
                  <a:pt x="14486" y="9575"/>
                </a:cubicBezTo>
                <a:cubicBezTo>
                  <a:pt x="14453" y="9574"/>
                  <a:pt x="14420" y="9576"/>
                  <a:pt x="14387" y="9575"/>
                </a:cubicBezTo>
              </a:path>
              <a:path w="7666" h="2655">
                <a:moveTo>
                  <a:pt x="15776" y="8186"/>
                </a:moveTo>
                <a:cubicBezTo>
                  <a:pt x="15799" y="8215"/>
                  <a:pt x="15818" y="8271"/>
                  <a:pt x="15825" y="8310"/>
                </a:cubicBezTo>
                <a:cubicBezTo>
                  <a:pt x="15844" y="8423"/>
                  <a:pt x="15832" y="8547"/>
                  <a:pt x="15850" y="8657"/>
                </a:cubicBezTo>
                <a:cubicBezTo>
                  <a:pt x="15864" y="8743"/>
                  <a:pt x="15849" y="8834"/>
                  <a:pt x="15825" y="8905"/>
                </a:cubicBezTo>
                <a:cubicBezTo>
                  <a:pt x="15821" y="8918"/>
                  <a:pt x="15825" y="9045"/>
                  <a:pt x="15825" y="8979"/>
                </a:cubicBezTo>
              </a:path>
              <a:path w="7666" h="2655">
                <a:moveTo>
                  <a:pt x="15478" y="8582"/>
                </a:moveTo>
                <a:cubicBezTo>
                  <a:pt x="15668" y="8582"/>
                  <a:pt x="15859" y="8582"/>
                  <a:pt x="16049" y="8582"/>
                </a:cubicBezTo>
              </a:path>
              <a:path w="7666" h="2655">
                <a:moveTo>
                  <a:pt x="16297" y="8533"/>
                </a:moveTo>
                <a:cubicBezTo>
                  <a:pt x="16261" y="8542"/>
                  <a:pt x="16220" y="8571"/>
                  <a:pt x="16197" y="8607"/>
                </a:cubicBezTo>
                <a:cubicBezTo>
                  <a:pt x="16162" y="8663"/>
                  <a:pt x="16091" y="8718"/>
                  <a:pt x="16073" y="8781"/>
                </a:cubicBezTo>
                <a:cubicBezTo>
                  <a:pt x="16059" y="8831"/>
                  <a:pt x="16069" y="8911"/>
                  <a:pt x="16098" y="8954"/>
                </a:cubicBezTo>
                <a:cubicBezTo>
                  <a:pt x="16127" y="8998"/>
                  <a:pt x="16119" y="9004"/>
                  <a:pt x="16173" y="9004"/>
                </a:cubicBezTo>
                <a:cubicBezTo>
                  <a:pt x="16226" y="9004"/>
                  <a:pt x="16234" y="8991"/>
                  <a:pt x="16272" y="8954"/>
                </a:cubicBezTo>
                <a:cubicBezTo>
                  <a:pt x="16316" y="8911"/>
                  <a:pt x="16317" y="8869"/>
                  <a:pt x="16321" y="8806"/>
                </a:cubicBezTo>
                <a:cubicBezTo>
                  <a:pt x="16324" y="8752"/>
                  <a:pt x="16302" y="8727"/>
                  <a:pt x="16297" y="8682"/>
                </a:cubicBezTo>
                <a:cubicBezTo>
                  <a:pt x="16292" y="8637"/>
                  <a:pt x="16301" y="8645"/>
                  <a:pt x="16272" y="8607"/>
                </a:cubicBezTo>
                <a:cubicBezTo>
                  <a:pt x="16272" y="8656"/>
                  <a:pt x="16289" y="8693"/>
                  <a:pt x="16297" y="8731"/>
                </a:cubicBezTo>
                <a:cubicBezTo>
                  <a:pt x="16308" y="8788"/>
                  <a:pt x="16325" y="8831"/>
                  <a:pt x="16346" y="8880"/>
                </a:cubicBezTo>
                <a:cubicBezTo>
                  <a:pt x="16365" y="8925"/>
                  <a:pt x="16413" y="8975"/>
                  <a:pt x="16446" y="8979"/>
                </a:cubicBezTo>
                <a:cubicBezTo>
                  <a:pt x="16454" y="8979"/>
                  <a:pt x="16462" y="8979"/>
                  <a:pt x="16470" y="8979"/>
                </a:cubicBezTo>
              </a:path>
              <a:path w="7666" h="2655">
                <a:moveTo>
                  <a:pt x="16545" y="8582"/>
                </a:moveTo>
                <a:cubicBezTo>
                  <a:pt x="16545" y="8648"/>
                  <a:pt x="16566" y="8692"/>
                  <a:pt x="16570" y="8756"/>
                </a:cubicBezTo>
                <a:cubicBezTo>
                  <a:pt x="16575" y="8846"/>
                  <a:pt x="16575" y="8919"/>
                  <a:pt x="16594" y="9004"/>
                </a:cubicBezTo>
                <a:cubicBezTo>
                  <a:pt x="16596" y="9011"/>
                  <a:pt x="16594" y="9096"/>
                  <a:pt x="16594" y="9029"/>
                </a:cubicBezTo>
                <a:cubicBezTo>
                  <a:pt x="16626" y="8987"/>
                  <a:pt x="16619" y="8961"/>
                  <a:pt x="16619" y="8905"/>
                </a:cubicBezTo>
                <a:cubicBezTo>
                  <a:pt x="16619" y="8788"/>
                  <a:pt x="16625" y="8690"/>
                  <a:pt x="16644" y="8582"/>
                </a:cubicBezTo>
                <a:cubicBezTo>
                  <a:pt x="16653" y="8530"/>
                  <a:pt x="16655" y="8490"/>
                  <a:pt x="16718" y="8483"/>
                </a:cubicBezTo>
                <a:cubicBezTo>
                  <a:pt x="16781" y="8476"/>
                  <a:pt x="16790" y="8504"/>
                  <a:pt x="16818" y="8558"/>
                </a:cubicBezTo>
                <a:cubicBezTo>
                  <a:pt x="16855" y="8629"/>
                  <a:pt x="16881" y="8702"/>
                  <a:pt x="16892" y="8781"/>
                </a:cubicBezTo>
                <a:cubicBezTo>
                  <a:pt x="16901" y="8842"/>
                  <a:pt x="16932" y="8903"/>
                  <a:pt x="16942" y="8954"/>
                </a:cubicBezTo>
                <a:cubicBezTo>
                  <a:pt x="16954" y="9013"/>
                  <a:pt x="16977" y="9026"/>
                  <a:pt x="16991" y="9054"/>
                </a:cubicBezTo>
                <a:cubicBezTo>
                  <a:pt x="17026" y="9125"/>
                  <a:pt x="17016" y="9017"/>
                  <a:pt x="17016" y="8979"/>
                </a:cubicBezTo>
              </a:path>
              <a:path w="7666" h="2655">
                <a:moveTo>
                  <a:pt x="16892" y="8161"/>
                </a:moveTo>
                <a:cubicBezTo>
                  <a:pt x="16919" y="8137"/>
                  <a:pt x="16967" y="8084"/>
                  <a:pt x="17016" y="8111"/>
                </a:cubicBezTo>
                <a:cubicBezTo>
                  <a:pt x="17041" y="8125"/>
                  <a:pt x="17049" y="8164"/>
                  <a:pt x="17066" y="8186"/>
                </a:cubicBezTo>
                <a:cubicBezTo>
                  <a:pt x="17043" y="8216"/>
                  <a:pt x="17019" y="8272"/>
                  <a:pt x="17016" y="8310"/>
                </a:cubicBezTo>
                <a:cubicBezTo>
                  <a:pt x="17011" y="8378"/>
                  <a:pt x="17020" y="8388"/>
                  <a:pt x="17066" y="8434"/>
                </a:cubicBezTo>
                <a:cubicBezTo>
                  <a:pt x="17101" y="8469"/>
                  <a:pt x="17192" y="8473"/>
                  <a:pt x="17239" y="8483"/>
                </a:cubicBezTo>
              </a:path>
              <a:path w="7666" h="2655">
                <a:moveTo>
                  <a:pt x="17338" y="8508"/>
                </a:moveTo>
                <a:cubicBezTo>
                  <a:pt x="17392" y="8621"/>
                  <a:pt x="17426" y="8739"/>
                  <a:pt x="17512" y="8830"/>
                </a:cubicBezTo>
                <a:cubicBezTo>
                  <a:pt x="17558" y="8879"/>
                  <a:pt x="17646" y="8961"/>
                  <a:pt x="17711" y="8979"/>
                </a:cubicBezTo>
                <a:cubicBezTo>
                  <a:pt x="17772" y="8996"/>
                  <a:pt x="17804" y="9013"/>
                  <a:pt x="17859" y="8979"/>
                </a:cubicBezTo>
              </a:path>
              <a:path w="7666" h="2655">
                <a:moveTo>
                  <a:pt x="17611" y="8558"/>
                </a:moveTo>
                <a:cubicBezTo>
                  <a:pt x="17524" y="8651"/>
                  <a:pt x="17436" y="8803"/>
                  <a:pt x="17338" y="8880"/>
                </a:cubicBezTo>
                <a:cubicBezTo>
                  <a:pt x="17297" y="8905"/>
                  <a:pt x="17255" y="8929"/>
                  <a:pt x="17214" y="8954"/>
                </a:cubicBezTo>
              </a:path>
              <a:path w="7666" h="2655">
                <a:moveTo>
                  <a:pt x="15255" y="7962"/>
                </a:moveTo>
                <a:cubicBezTo>
                  <a:pt x="15204" y="8049"/>
                  <a:pt x="15144" y="8156"/>
                  <a:pt x="15131" y="8260"/>
                </a:cubicBezTo>
                <a:cubicBezTo>
                  <a:pt x="15112" y="8409"/>
                  <a:pt x="15124" y="8586"/>
                  <a:pt x="15156" y="8731"/>
                </a:cubicBezTo>
                <a:cubicBezTo>
                  <a:pt x="15184" y="8857"/>
                  <a:pt x="15244" y="8961"/>
                  <a:pt x="15329" y="9054"/>
                </a:cubicBezTo>
                <a:cubicBezTo>
                  <a:pt x="15419" y="9153"/>
                  <a:pt x="15528" y="9189"/>
                  <a:pt x="15652" y="9227"/>
                </a:cubicBezTo>
              </a:path>
              <a:path w="7666" h="2655">
                <a:moveTo>
                  <a:pt x="17760" y="7863"/>
                </a:moveTo>
                <a:cubicBezTo>
                  <a:pt x="17913" y="7906"/>
                  <a:pt x="17997" y="7942"/>
                  <a:pt x="18083" y="8086"/>
                </a:cubicBezTo>
                <a:cubicBezTo>
                  <a:pt x="18214" y="8306"/>
                  <a:pt x="18256" y="8415"/>
                  <a:pt x="18256" y="8657"/>
                </a:cubicBezTo>
                <a:cubicBezTo>
                  <a:pt x="18256" y="8804"/>
                  <a:pt x="18225" y="8879"/>
                  <a:pt x="18157" y="9004"/>
                </a:cubicBezTo>
                <a:cubicBezTo>
                  <a:pt x="18121" y="9070"/>
                  <a:pt x="18097" y="9148"/>
                  <a:pt x="18058" y="9203"/>
                </a:cubicBezTo>
                <a:cubicBezTo>
                  <a:pt x="18038" y="9231"/>
                  <a:pt x="17994" y="9280"/>
                  <a:pt x="17959" y="9277"/>
                </a:cubicBezTo>
                <a:cubicBezTo>
                  <a:pt x="17905" y="9272"/>
                  <a:pt x="17951" y="9182"/>
                  <a:pt x="17959" y="9128"/>
                </a:cubicBezTo>
              </a:path>
              <a:path w="7666" h="2655">
                <a:moveTo>
                  <a:pt x="18306" y="7838"/>
                </a:moveTo>
                <a:cubicBezTo>
                  <a:pt x="18346" y="7810"/>
                  <a:pt x="18419" y="7735"/>
                  <a:pt x="18479" y="7764"/>
                </a:cubicBezTo>
                <a:cubicBezTo>
                  <a:pt x="18564" y="7806"/>
                  <a:pt x="18589" y="7852"/>
                  <a:pt x="18604" y="7938"/>
                </a:cubicBezTo>
                <a:cubicBezTo>
                  <a:pt x="18617" y="8013"/>
                  <a:pt x="18570" y="8028"/>
                  <a:pt x="18554" y="8086"/>
                </a:cubicBezTo>
                <a:cubicBezTo>
                  <a:pt x="18540" y="8140"/>
                  <a:pt x="18518" y="8160"/>
                  <a:pt x="18504" y="8186"/>
                </a:cubicBezTo>
                <a:cubicBezTo>
                  <a:pt x="18488" y="8218"/>
                  <a:pt x="18491" y="8200"/>
                  <a:pt x="18479" y="8235"/>
                </a:cubicBezTo>
                <a:cubicBezTo>
                  <a:pt x="18534" y="8224"/>
                  <a:pt x="18569" y="8210"/>
                  <a:pt x="18628" y="8210"/>
                </a:cubicBezTo>
                <a:cubicBezTo>
                  <a:pt x="18698" y="8210"/>
                  <a:pt x="18734" y="8206"/>
                  <a:pt x="18802" y="8210"/>
                </a:cubicBezTo>
                <a:cubicBezTo>
                  <a:pt x="18865" y="8214"/>
                  <a:pt x="18856" y="8201"/>
                  <a:pt x="18901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8920" y="4000680"/>
            <a:ext cx="142920" cy="134640"/>
          </a:xfrm>
          <a:custGeom>
            <a:avLst/>
            <a:gdLst/>
            <a:ahLst/>
            <a:rect l="l" t="t" r="r" b="b"/>
            <a:pathLst>
              <a:path w="398" h="374">
                <a:moveTo>
                  <a:pt x="13246" y="11112"/>
                </a:moveTo>
                <a:cubicBezTo>
                  <a:pt x="13299" y="11152"/>
                  <a:pt x="13304" y="11118"/>
                  <a:pt x="13370" y="11112"/>
                </a:cubicBezTo>
                <a:cubicBezTo>
                  <a:pt x="13430" y="11107"/>
                  <a:pt x="13639" y="11112"/>
                  <a:pt x="13618" y="11112"/>
                </a:cubicBezTo>
              </a:path>
              <a:path w="398" h="374">
                <a:moveTo>
                  <a:pt x="13246" y="11460"/>
                </a:moveTo>
                <a:cubicBezTo>
                  <a:pt x="13309" y="11479"/>
                  <a:pt x="13334" y="11485"/>
                  <a:pt x="13395" y="11485"/>
                </a:cubicBezTo>
                <a:cubicBezTo>
                  <a:pt x="13457" y="11485"/>
                  <a:pt x="13579" y="11514"/>
                  <a:pt x="13543" y="11460"/>
                </a:cubicBezTo>
                <a:cubicBezTo>
                  <a:pt x="13562" y="11518"/>
                  <a:pt x="13576" y="11468"/>
                  <a:pt x="13593" y="11460"/>
                </a:cubicBezTo>
                <a:cubicBezTo>
                  <a:pt x="13601" y="11460"/>
                  <a:pt x="13610" y="11460"/>
                  <a:pt x="13618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9880" y="3813120"/>
            <a:ext cx="938160" cy="554040"/>
          </a:xfrm>
          <a:custGeom>
            <a:avLst/>
            <a:gdLst/>
            <a:ahLst/>
            <a:rect l="l" t="t" r="r" b="b"/>
            <a:pathLst>
              <a:path w="2606" h="1538">
                <a:moveTo>
                  <a:pt x="14982" y="10840"/>
                </a:moveTo>
                <a:cubicBezTo>
                  <a:pt x="15015" y="10883"/>
                  <a:pt x="15007" y="10906"/>
                  <a:pt x="15007" y="10964"/>
                </a:cubicBezTo>
                <a:cubicBezTo>
                  <a:pt x="15007" y="11230"/>
                  <a:pt x="14996" y="11497"/>
                  <a:pt x="15032" y="11757"/>
                </a:cubicBezTo>
                <a:cubicBezTo>
                  <a:pt x="15041" y="11822"/>
                  <a:pt x="15040" y="11875"/>
                  <a:pt x="15056" y="11931"/>
                </a:cubicBezTo>
                <a:cubicBezTo>
                  <a:pt x="15071" y="11984"/>
                  <a:pt x="15053" y="11984"/>
                  <a:pt x="15032" y="11956"/>
                </a:cubicBezTo>
                <a:cubicBezTo>
                  <a:pt x="15024" y="11948"/>
                  <a:pt x="15015" y="11939"/>
                  <a:pt x="15007" y="11931"/>
                </a:cubicBezTo>
              </a:path>
              <a:path w="2606" h="1538">
                <a:moveTo>
                  <a:pt x="14585" y="11311"/>
                </a:moveTo>
                <a:cubicBezTo>
                  <a:pt x="14688" y="11329"/>
                  <a:pt x="14783" y="11370"/>
                  <a:pt x="14883" y="11385"/>
                </a:cubicBezTo>
                <a:cubicBezTo>
                  <a:pt x="15013" y="11405"/>
                  <a:pt x="15146" y="11431"/>
                  <a:pt x="15280" y="11435"/>
                </a:cubicBezTo>
                <a:cubicBezTo>
                  <a:pt x="15388" y="11438"/>
                  <a:pt x="15557" y="11465"/>
                  <a:pt x="15652" y="11410"/>
                </a:cubicBezTo>
                <a:cubicBezTo>
                  <a:pt x="15699" y="11383"/>
                  <a:pt x="15695" y="11355"/>
                  <a:pt x="15701" y="11311"/>
                </a:cubicBezTo>
                <a:cubicBezTo>
                  <a:pt x="15648" y="11311"/>
                  <a:pt x="15621" y="11312"/>
                  <a:pt x="15577" y="11336"/>
                </a:cubicBezTo>
                <a:cubicBezTo>
                  <a:pt x="15515" y="11369"/>
                  <a:pt x="15446" y="11426"/>
                  <a:pt x="15404" y="11485"/>
                </a:cubicBezTo>
                <a:cubicBezTo>
                  <a:pt x="15360" y="11547"/>
                  <a:pt x="15343" y="11633"/>
                  <a:pt x="15354" y="11708"/>
                </a:cubicBezTo>
                <a:cubicBezTo>
                  <a:pt x="15370" y="11821"/>
                  <a:pt x="15382" y="11807"/>
                  <a:pt x="15453" y="11857"/>
                </a:cubicBezTo>
                <a:cubicBezTo>
                  <a:pt x="15498" y="11889"/>
                  <a:pt x="15533" y="11884"/>
                  <a:pt x="15577" y="11857"/>
                </a:cubicBezTo>
                <a:cubicBezTo>
                  <a:pt x="15621" y="11830"/>
                  <a:pt x="15666" y="11756"/>
                  <a:pt x="15677" y="11708"/>
                </a:cubicBezTo>
                <a:cubicBezTo>
                  <a:pt x="15692" y="11641"/>
                  <a:pt x="15701" y="11580"/>
                  <a:pt x="15701" y="11509"/>
                </a:cubicBezTo>
                <a:cubicBezTo>
                  <a:pt x="15701" y="11459"/>
                  <a:pt x="15701" y="11460"/>
                  <a:pt x="15701" y="11410"/>
                </a:cubicBezTo>
                <a:cubicBezTo>
                  <a:pt x="15701" y="11467"/>
                  <a:pt x="15717" y="11506"/>
                  <a:pt x="15726" y="11559"/>
                </a:cubicBezTo>
                <a:cubicBezTo>
                  <a:pt x="15737" y="11622"/>
                  <a:pt x="15724" y="11699"/>
                  <a:pt x="15751" y="11757"/>
                </a:cubicBezTo>
                <a:cubicBezTo>
                  <a:pt x="15764" y="11784"/>
                  <a:pt x="15815" y="11871"/>
                  <a:pt x="15850" y="11881"/>
                </a:cubicBezTo>
                <a:cubicBezTo>
                  <a:pt x="15902" y="11895"/>
                  <a:pt x="15930" y="11868"/>
                  <a:pt x="15949" y="11857"/>
                </a:cubicBezTo>
              </a:path>
              <a:path w="2606" h="1538">
                <a:moveTo>
                  <a:pt x="16024" y="11410"/>
                </a:moveTo>
                <a:cubicBezTo>
                  <a:pt x="16024" y="11580"/>
                  <a:pt x="15985" y="11878"/>
                  <a:pt x="16049" y="12005"/>
                </a:cubicBezTo>
                <a:cubicBezTo>
                  <a:pt x="16049" y="12013"/>
                  <a:pt x="16049" y="12022"/>
                  <a:pt x="16049" y="12030"/>
                </a:cubicBezTo>
                <a:cubicBezTo>
                  <a:pt x="16049" y="11910"/>
                  <a:pt x="16060" y="11799"/>
                  <a:pt x="16073" y="11683"/>
                </a:cubicBezTo>
                <a:cubicBezTo>
                  <a:pt x="16083" y="11592"/>
                  <a:pt x="16106" y="11543"/>
                  <a:pt x="16148" y="11460"/>
                </a:cubicBezTo>
                <a:cubicBezTo>
                  <a:pt x="16182" y="11391"/>
                  <a:pt x="16264" y="11344"/>
                  <a:pt x="16346" y="11361"/>
                </a:cubicBezTo>
                <a:cubicBezTo>
                  <a:pt x="16406" y="11373"/>
                  <a:pt x="16466" y="11486"/>
                  <a:pt x="16495" y="11534"/>
                </a:cubicBezTo>
                <a:cubicBezTo>
                  <a:pt x="16538" y="11606"/>
                  <a:pt x="16542" y="11724"/>
                  <a:pt x="16545" y="11807"/>
                </a:cubicBezTo>
                <a:cubicBezTo>
                  <a:pt x="16549" y="11918"/>
                  <a:pt x="16500" y="12238"/>
                  <a:pt x="16520" y="12129"/>
                </a:cubicBezTo>
                <a:cubicBezTo>
                  <a:pt x="16543" y="12062"/>
                  <a:pt x="16548" y="12044"/>
                  <a:pt x="16570" y="12005"/>
                </a:cubicBezTo>
              </a:path>
              <a:path w="2606" h="1538">
                <a:moveTo>
                  <a:pt x="16818" y="10716"/>
                </a:moveTo>
                <a:cubicBezTo>
                  <a:pt x="16838" y="10785"/>
                  <a:pt x="16860" y="10825"/>
                  <a:pt x="16818" y="10889"/>
                </a:cubicBezTo>
                <a:cubicBezTo>
                  <a:pt x="16798" y="10919"/>
                  <a:pt x="16758" y="10955"/>
                  <a:pt x="16743" y="10988"/>
                </a:cubicBezTo>
                <a:cubicBezTo>
                  <a:pt x="16727" y="11023"/>
                  <a:pt x="16730" y="11001"/>
                  <a:pt x="16718" y="11038"/>
                </a:cubicBezTo>
                <a:cubicBezTo>
                  <a:pt x="16756" y="11067"/>
                  <a:pt x="16769" y="11063"/>
                  <a:pt x="16818" y="11063"/>
                </a:cubicBezTo>
                <a:cubicBezTo>
                  <a:pt x="16886" y="11063"/>
                  <a:pt x="16956" y="11075"/>
                  <a:pt x="17016" y="11038"/>
                </a:cubicBezTo>
                <a:cubicBezTo>
                  <a:pt x="17053" y="11015"/>
                  <a:pt x="17084" y="10970"/>
                  <a:pt x="17115" y="10939"/>
                </a:cubicBezTo>
              </a:path>
              <a:path w="2606" h="1538">
                <a:moveTo>
                  <a:pt x="17165" y="10592"/>
                </a:moveTo>
                <a:cubicBezTo>
                  <a:pt x="17176" y="10782"/>
                  <a:pt x="17165" y="10910"/>
                  <a:pt x="17165" y="11088"/>
                </a:cubicBezTo>
                <a:cubicBezTo>
                  <a:pt x="17165" y="11189"/>
                  <a:pt x="17140" y="11327"/>
                  <a:pt x="17190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1960" y="4098960"/>
            <a:ext cx="231840" cy="30312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17909" y="11385"/>
                </a:moveTo>
                <a:cubicBezTo>
                  <a:pt x="17959" y="11493"/>
                  <a:pt x="17986" y="11572"/>
                  <a:pt x="18008" y="11683"/>
                </a:cubicBezTo>
                <a:cubicBezTo>
                  <a:pt x="18024" y="11764"/>
                  <a:pt x="18063" y="11911"/>
                  <a:pt x="18107" y="11981"/>
                </a:cubicBezTo>
                <a:cubicBezTo>
                  <a:pt x="18165" y="12072"/>
                  <a:pt x="18249" y="12140"/>
                  <a:pt x="18331" y="12204"/>
                </a:cubicBezTo>
                <a:cubicBezTo>
                  <a:pt x="18379" y="12241"/>
                  <a:pt x="18410" y="12238"/>
                  <a:pt x="18455" y="12204"/>
                </a:cubicBezTo>
              </a:path>
              <a:path w="646" h="845">
                <a:moveTo>
                  <a:pt x="18306" y="11410"/>
                </a:moveTo>
                <a:cubicBezTo>
                  <a:pt x="18208" y="11567"/>
                  <a:pt x="18110" y="11728"/>
                  <a:pt x="18008" y="11881"/>
                </a:cubicBezTo>
                <a:cubicBezTo>
                  <a:pt x="17920" y="11999"/>
                  <a:pt x="17881" y="12050"/>
                  <a:pt x="17810" y="121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544760"/>
            <a:ext cx="500040" cy="554040"/>
          </a:xfrm>
          <a:custGeom>
            <a:avLst/>
            <a:gdLst/>
            <a:ahLst/>
            <a:rect l="l" t="t" r="r" b="b"/>
            <a:pathLst>
              <a:path w="1390" h="1539">
                <a:moveTo>
                  <a:pt x="1116" y="4762"/>
                </a:moveTo>
                <a:cubicBezTo>
                  <a:pt x="1116" y="4787"/>
                  <a:pt x="1116" y="4795"/>
                  <a:pt x="1116" y="4812"/>
                </a:cubicBezTo>
                <a:cubicBezTo>
                  <a:pt x="1094" y="4805"/>
                  <a:pt x="1071" y="4773"/>
                  <a:pt x="1091" y="4738"/>
                </a:cubicBezTo>
                <a:cubicBezTo>
                  <a:pt x="1113" y="4699"/>
                  <a:pt x="1118" y="4649"/>
                  <a:pt x="1141" y="4614"/>
                </a:cubicBezTo>
                <a:cubicBezTo>
                  <a:pt x="1170" y="4572"/>
                  <a:pt x="1177" y="4564"/>
                  <a:pt x="1215" y="4539"/>
                </a:cubicBezTo>
                <a:cubicBezTo>
                  <a:pt x="1238" y="4524"/>
                  <a:pt x="1281" y="4495"/>
                  <a:pt x="1315" y="4514"/>
                </a:cubicBezTo>
                <a:cubicBezTo>
                  <a:pt x="1348" y="4533"/>
                  <a:pt x="1365" y="4607"/>
                  <a:pt x="1389" y="4638"/>
                </a:cubicBezTo>
                <a:cubicBezTo>
                  <a:pt x="1416" y="4674"/>
                  <a:pt x="1450" y="4762"/>
                  <a:pt x="1439" y="4812"/>
                </a:cubicBezTo>
                <a:cubicBezTo>
                  <a:pt x="1418" y="4908"/>
                  <a:pt x="1402" y="5014"/>
                  <a:pt x="1364" y="5110"/>
                </a:cubicBezTo>
                <a:cubicBezTo>
                  <a:pt x="1335" y="5183"/>
                  <a:pt x="1287" y="5248"/>
                  <a:pt x="1240" y="5308"/>
                </a:cubicBezTo>
                <a:cubicBezTo>
                  <a:pt x="1209" y="5348"/>
                  <a:pt x="1189" y="5392"/>
                  <a:pt x="1141" y="5407"/>
                </a:cubicBezTo>
                <a:cubicBezTo>
                  <a:pt x="1107" y="5418"/>
                  <a:pt x="1052" y="5393"/>
                  <a:pt x="1042" y="5358"/>
                </a:cubicBezTo>
                <a:cubicBezTo>
                  <a:pt x="1030" y="5315"/>
                  <a:pt x="1017" y="5280"/>
                  <a:pt x="1017" y="5234"/>
                </a:cubicBezTo>
                <a:cubicBezTo>
                  <a:pt x="1017" y="5197"/>
                  <a:pt x="1001" y="5130"/>
                  <a:pt x="1042" y="5110"/>
                </a:cubicBezTo>
                <a:cubicBezTo>
                  <a:pt x="1069" y="5097"/>
                  <a:pt x="1128" y="5109"/>
                  <a:pt x="1141" y="5135"/>
                </a:cubicBezTo>
                <a:cubicBezTo>
                  <a:pt x="1157" y="5167"/>
                  <a:pt x="1150" y="5230"/>
                  <a:pt x="1166" y="5259"/>
                </a:cubicBezTo>
                <a:cubicBezTo>
                  <a:pt x="1180" y="5283"/>
                  <a:pt x="1211" y="5325"/>
                  <a:pt x="1215" y="5333"/>
                </a:cubicBezTo>
                <a:cubicBezTo>
                  <a:pt x="1215" y="5358"/>
                  <a:pt x="1215" y="5366"/>
                  <a:pt x="1240" y="5358"/>
                </a:cubicBezTo>
              </a:path>
              <a:path w="1390" h="1539">
                <a:moveTo>
                  <a:pt x="1612" y="4564"/>
                </a:moveTo>
                <a:cubicBezTo>
                  <a:pt x="1678" y="4564"/>
                  <a:pt x="1685" y="4556"/>
                  <a:pt x="1736" y="4539"/>
                </a:cubicBezTo>
                <a:cubicBezTo>
                  <a:pt x="1796" y="4519"/>
                  <a:pt x="1907" y="4558"/>
                  <a:pt x="1960" y="4514"/>
                </a:cubicBezTo>
                <a:cubicBezTo>
                  <a:pt x="1960" y="4506"/>
                  <a:pt x="1960" y="4498"/>
                  <a:pt x="1960" y="4490"/>
                </a:cubicBezTo>
              </a:path>
              <a:path w="1390" h="1539">
                <a:moveTo>
                  <a:pt x="1687" y="4564"/>
                </a:moveTo>
                <a:cubicBezTo>
                  <a:pt x="1646" y="4650"/>
                  <a:pt x="1646" y="4741"/>
                  <a:pt x="1612" y="4812"/>
                </a:cubicBezTo>
                <a:cubicBezTo>
                  <a:pt x="1591" y="4856"/>
                  <a:pt x="1612" y="4855"/>
                  <a:pt x="1612" y="4911"/>
                </a:cubicBezTo>
                <a:cubicBezTo>
                  <a:pt x="1612" y="4919"/>
                  <a:pt x="1612" y="4928"/>
                  <a:pt x="1612" y="4936"/>
                </a:cubicBezTo>
                <a:cubicBezTo>
                  <a:pt x="1644" y="4928"/>
                  <a:pt x="1696" y="4898"/>
                  <a:pt x="1712" y="4862"/>
                </a:cubicBezTo>
                <a:cubicBezTo>
                  <a:pt x="1730" y="4823"/>
                  <a:pt x="1754" y="4817"/>
                  <a:pt x="1811" y="4812"/>
                </a:cubicBezTo>
                <a:cubicBezTo>
                  <a:pt x="1863" y="4808"/>
                  <a:pt x="1874" y="4826"/>
                  <a:pt x="1910" y="4862"/>
                </a:cubicBezTo>
                <a:cubicBezTo>
                  <a:pt x="1964" y="4916"/>
                  <a:pt x="1961" y="4944"/>
                  <a:pt x="1984" y="5011"/>
                </a:cubicBezTo>
                <a:cubicBezTo>
                  <a:pt x="2004" y="5071"/>
                  <a:pt x="1999" y="5125"/>
                  <a:pt x="1960" y="5184"/>
                </a:cubicBezTo>
                <a:cubicBezTo>
                  <a:pt x="1919" y="5246"/>
                  <a:pt x="1848" y="5276"/>
                  <a:pt x="1786" y="5308"/>
                </a:cubicBezTo>
                <a:cubicBezTo>
                  <a:pt x="1750" y="5327"/>
                  <a:pt x="1651" y="5371"/>
                  <a:pt x="1612" y="5358"/>
                </a:cubicBezTo>
                <a:cubicBezTo>
                  <a:pt x="1570" y="5344"/>
                  <a:pt x="1564" y="5320"/>
                  <a:pt x="1588" y="5308"/>
                </a:cubicBezTo>
              </a:path>
              <a:path w="1390" h="1539">
                <a:moveTo>
                  <a:pt x="2158" y="4614"/>
                </a:moveTo>
                <a:cubicBezTo>
                  <a:pt x="2128" y="4510"/>
                  <a:pt x="2116" y="4436"/>
                  <a:pt x="2009" y="4390"/>
                </a:cubicBezTo>
                <a:cubicBezTo>
                  <a:pt x="1892" y="4340"/>
                  <a:pt x="1763" y="4295"/>
                  <a:pt x="1637" y="4291"/>
                </a:cubicBezTo>
                <a:cubicBezTo>
                  <a:pt x="1522" y="4287"/>
                  <a:pt x="1397" y="4321"/>
                  <a:pt x="1290" y="4366"/>
                </a:cubicBezTo>
                <a:cubicBezTo>
                  <a:pt x="1154" y="4423"/>
                  <a:pt x="1096" y="4472"/>
                  <a:pt x="992" y="4564"/>
                </a:cubicBezTo>
                <a:cubicBezTo>
                  <a:pt x="929" y="4619"/>
                  <a:pt x="843" y="4722"/>
                  <a:pt x="819" y="4812"/>
                </a:cubicBezTo>
                <a:cubicBezTo>
                  <a:pt x="796" y="4899"/>
                  <a:pt x="777" y="5042"/>
                  <a:pt x="794" y="5135"/>
                </a:cubicBezTo>
                <a:cubicBezTo>
                  <a:pt x="818" y="5261"/>
                  <a:pt x="876" y="5400"/>
                  <a:pt x="943" y="5507"/>
                </a:cubicBezTo>
                <a:cubicBezTo>
                  <a:pt x="1003" y="5603"/>
                  <a:pt x="1061" y="5703"/>
                  <a:pt x="1166" y="5755"/>
                </a:cubicBezTo>
                <a:cubicBezTo>
                  <a:pt x="1250" y="5797"/>
                  <a:pt x="1368" y="5843"/>
                  <a:pt x="1463" y="5829"/>
                </a:cubicBezTo>
                <a:cubicBezTo>
                  <a:pt x="1576" y="5813"/>
                  <a:pt x="1669" y="5741"/>
                  <a:pt x="1761" y="5680"/>
                </a:cubicBezTo>
                <a:cubicBezTo>
                  <a:pt x="1869" y="5608"/>
                  <a:pt x="1954" y="5509"/>
                  <a:pt x="2034" y="5407"/>
                </a:cubicBezTo>
                <a:cubicBezTo>
                  <a:pt x="2130" y="5283"/>
                  <a:pt x="2166" y="5168"/>
                  <a:pt x="2183" y="5011"/>
                </a:cubicBezTo>
                <a:cubicBezTo>
                  <a:pt x="2194" y="4914"/>
                  <a:pt x="2172" y="4827"/>
                  <a:pt x="2158" y="4738"/>
                </a:cubicBezTo>
                <a:cubicBezTo>
                  <a:pt x="2147" y="4667"/>
                  <a:pt x="2161" y="4631"/>
                  <a:pt x="2133" y="4564"/>
                </a:cubicBezTo>
                <a:cubicBezTo>
                  <a:pt x="2109" y="4507"/>
                  <a:pt x="2122" y="4516"/>
                  <a:pt x="2133" y="44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60640" y="1465200"/>
            <a:ext cx="1812600" cy="963720"/>
          </a:xfrm>
          <a:custGeom>
            <a:avLst/>
            <a:gdLst/>
            <a:ahLst/>
            <a:rect l="l" t="t" r="r" b="b"/>
            <a:pathLst>
              <a:path w="5036" h="2680">
                <a:moveTo>
                  <a:pt x="3448" y="4366"/>
                </a:moveTo>
                <a:cubicBezTo>
                  <a:pt x="3458" y="4405"/>
                  <a:pt x="3473" y="4420"/>
                  <a:pt x="3473" y="4465"/>
                </a:cubicBezTo>
                <a:cubicBezTo>
                  <a:pt x="3473" y="4541"/>
                  <a:pt x="3497" y="4608"/>
                  <a:pt x="3497" y="4688"/>
                </a:cubicBezTo>
                <a:cubicBezTo>
                  <a:pt x="3497" y="4820"/>
                  <a:pt x="3516" y="4933"/>
                  <a:pt x="3522" y="5060"/>
                </a:cubicBezTo>
                <a:cubicBezTo>
                  <a:pt x="3528" y="5192"/>
                  <a:pt x="3522" y="5539"/>
                  <a:pt x="3522" y="5407"/>
                </a:cubicBezTo>
              </a:path>
              <a:path w="5036" h="2680">
                <a:moveTo>
                  <a:pt x="3225" y="4887"/>
                </a:moveTo>
                <a:cubicBezTo>
                  <a:pt x="3295" y="4887"/>
                  <a:pt x="3336" y="4872"/>
                  <a:pt x="3398" y="4862"/>
                </a:cubicBezTo>
                <a:cubicBezTo>
                  <a:pt x="3492" y="4847"/>
                  <a:pt x="3602" y="4848"/>
                  <a:pt x="3696" y="4837"/>
                </a:cubicBezTo>
                <a:cubicBezTo>
                  <a:pt x="3829" y="4821"/>
                  <a:pt x="3964" y="4833"/>
                  <a:pt x="4093" y="4812"/>
                </a:cubicBezTo>
                <a:cubicBezTo>
                  <a:pt x="4147" y="4803"/>
                  <a:pt x="4210" y="4812"/>
                  <a:pt x="4266" y="4812"/>
                </a:cubicBezTo>
                <a:cubicBezTo>
                  <a:pt x="4247" y="4846"/>
                  <a:pt x="4216" y="4875"/>
                  <a:pt x="4192" y="4911"/>
                </a:cubicBezTo>
                <a:cubicBezTo>
                  <a:pt x="4157" y="4965"/>
                  <a:pt x="4095" y="5031"/>
                  <a:pt x="4068" y="5085"/>
                </a:cubicBezTo>
                <a:cubicBezTo>
                  <a:pt x="4042" y="5137"/>
                  <a:pt x="4006" y="5199"/>
                  <a:pt x="4018" y="5259"/>
                </a:cubicBezTo>
                <a:cubicBezTo>
                  <a:pt x="4025" y="5294"/>
                  <a:pt x="4049" y="5337"/>
                  <a:pt x="4093" y="5333"/>
                </a:cubicBezTo>
                <a:cubicBezTo>
                  <a:pt x="4157" y="5328"/>
                  <a:pt x="4229" y="5174"/>
                  <a:pt x="4242" y="5135"/>
                </a:cubicBezTo>
                <a:cubicBezTo>
                  <a:pt x="4261" y="5081"/>
                  <a:pt x="4262" y="5065"/>
                  <a:pt x="4266" y="5011"/>
                </a:cubicBezTo>
                <a:cubicBezTo>
                  <a:pt x="4266" y="5003"/>
                  <a:pt x="4266" y="4994"/>
                  <a:pt x="4266" y="4986"/>
                </a:cubicBezTo>
                <a:cubicBezTo>
                  <a:pt x="4266" y="5058"/>
                  <a:pt x="4264" y="5114"/>
                  <a:pt x="4291" y="5184"/>
                </a:cubicBezTo>
                <a:cubicBezTo>
                  <a:pt x="4316" y="5250"/>
                  <a:pt x="4350" y="5270"/>
                  <a:pt x="4415" y="5283"/>
                </a:cubicBezTo>
                <a:cubicBezTo>
                  <a:pt x="4448" y="5289"/>
                  <a:pt x="4495" y="5290"/>
                  <a:pt x="4514" y="5259"/>
                </a:cubicBezTo>
                <a:cubicBezTo>
                  <a:pt x="4514" y="5251"/>
                  <a:pt x="4514" y="5242"/>
                  <a:pt x="4514" y="5234"/>
                </a:cubicBezTo>
              </a:path>
              <a:path w="5036" h="2680">
                <a:moveTo>
                  <a:pt x="4614" y="4961"/>
                </a:moveTo>
                <a:cubicBezTo>
                  <a:pt x="4608" y="5050"/>
                  <a:pt x="4589" y="5120"/>
                  <a:pt x="4589" y="5209"/>
                </a:cubicBezTo>
                <a:cubicBezTo>
                  <a:pt x="4589" y="5268"/>
                  <a:pt x="4610" y="5303"/>
                  <a:pt x="4614" y="5358"/>
                </a:cubicBezTo>
                <a:cubicBezTo>
                  <a:pt x="4614" y="5399"/>
                  <a:pt x="4606" y="5415"/>
                  <a:pt x="4638" y="5407"/>
                </a:cubicBezTo>
                <a:cubicBezTo>
                  <a:pt x="4638" y="5317"/>
                  <a:pt x="4643" y="5244"/>
                  <a:pt x="4663" y="5159"/>
                </a:cubicBezTo>
                <a:cubicBezTo>
                  <a:pt x="4678" y="5096"/>
                  <a:pt x="4709" y="5039"/>
                  <a:pt x="4738" y="4986"/>
                </a:cubicBezTo>
                <a:cubicBezTo>
                  <a:pt x="4760" y="4947"/>
                  <a:pt x="4802" y="4891"/>
                  <a:pt x="4862" y="4911"/>
                </a:cubicBezTo>
                <a:cubicBezTo>
                  <a:pt x="4900" y="4924"/>
                  <a:pt x="4924" y="4984"/>
                  <a:pt x="4936" y="5011"/>
                </a:cubicBezTo>
                <a:cubicBezTo>
                  <a:pt x="4963" y="5074"/>
                  <a:pt x="4982" y="5141"/>
                  <a:pt x="4986" y="5209"/>
                </a:cubicBezTo>
                <a:cubicBezTo>
                  <a:pt x="4990" y="5274"/>
                  <a:pt x="4994" y="5306"/>
                  <a:pt x="5011" y="5358"/>
                </a:cubicBezTo>
                <a:cubicBezTo>
                  <a:pt x="5013" y="5364"/>
                  <a:pt x="5011" y="5449"/>
                  <a:pt x="5011" y="5383"/>
                </a:cubicBezTo>
              </a:path>
              <a:path w="5036" h="2680">
                <a:moveTo>
                  <a:pt x="5779" y="4068"/>
                </a:moveTo>
                <a:cubicBezTo>
                  <a:pt x="5750" y="4138"/>
                  <a:pt x="5708" y="4195"/>
                  <a:pt x="5680" y="4266"/>
                </a:cubicBezTo>
                <a:cubicBezTo>
                  <a:pt x="5637" y="4376"/>
                  <a:pt x="5583" y="4481"/>
                  <a:pt x="5531" y="4589"/>
                </a:cubicBezTo>
                <a:cubicBezTo>
                  <a:pt x="5443" y="4770"/>
                  <a:pt x="5382" y="4951"/>
                  <a:pt x="5308" y="5135"/>
                </a:cubicBezTo>
                <a:cubicBezTo>
                  <a:pt x="5241" y="5302"/>
                  <a:pt x="5218" y="5478"/>
                  <a:pt x="5184" y="5655"/>
                </a:cubicBezTo>
                <a:cubicBezTo>
                  <a:pt x="5158" y="5790"/>
                  <a:pt x="5132" y="5964"/>
                  <a:pt x="5159" y="6102"/>
                </a:cubicBezTo>
                <a:cubicBezTo>
                  <a:pt x="5175" y="6187"/>
                  <a:pt x="5232" y="6403"/>
                  <a:pt x="5308" y="6474"/>
                </a:cubicBezTo>
                <a:cubicBezTo>
                  <a:pt x="5330" y="6494"/>
                  <a:pt x="5403" y="6548"/>
                  <a:pt x="5432" y="6548"/>
                </a:cubicBezTo>
                <a:cubicBezTo>
                  <a:pt x="5440" y="6540"/>
                  <a:pt x="5449" y="6532"/>
                  <a:pt x="5457" y="6524"/>
                </a:cubicBezTo>
              </a:path>
              <a:path w="5036" h="2680">
                <a:moveTo>
                  <a:pt x="5978" y="4465"/>
                </a:moveTo>
                <a:cubicBezTo>
                  <a:pt x="6025" y="4430"/>
                  <a:pt x="6065" y="4440"/>
                  <a:pt x="6127" y="4440"/>
                </a:cubicBezTo>
                <a:cubicBezTo>
                  <a:pt x="6203" y="4440"/>
                  <a:pt x="6255" y="4431"/>
                  <a:pt x="6325" y="4415"/>
                </a:cubicBezTo>
                <a:cubicBezTo>
                  <a:pt x="6374" y="4404"/>
                  <a:pt x="6403" y="4400"/>
                  <a:pt x="6424" y="4390"/>
                </a:cubicBezTo>
                <a:cubicBezTo>
                  <a:pt x="6452" y="4390"/>
                  <a:pt x="6458" y="4388"/>
                  <a:pt x="6424" y="4366"/>
                </a:cubicBezTo>
              </a:path>
              <a:path w="5036" h="2680">
                <a:moveTo>
                  <a:pt x="6077" y="4490"/>
                </a:moveTo>
                <a:cubicBezTo>
                  <a:pt x="6060" y="4565"/>
                  <a:pt x="6032" y="4638"/>
                  <a:pt x="6028" y="4713"/>
                </a:cubicBezTo>
                <a:cubicBezTo>
                  <a:pt x="6024" y="4784"/>
                  <a:pt x="6020" y="4821"/>
                  <a:pt x="6003" y="4887"/>
                </a:cubicBezTo>
                <a:cubicBezTo>
                  <a:pt x="5991" y="4934"/>
                  <a:pt x="5992" y="4970"/>
                  <a:pt x="5978" y="5011"/>
                </a:cubicBezTo>
                <a:cubicBezTo>
                  <a:pt x="5960" y="5063"/>
                  <a:pt x="6001" y="4980"/>
                  <a:pt x="6003" y="4961"/>
                </a:cubicBezTo>
                <a:cubicBezTo>
                  <a:pt x="6003" y="4953"/>
                  <a:pt x="6003" y="4944"/>
                  <a:pt x="6003" y="4936"/>
                </a:cubicBezTo>
              </a:path>
              <a:path w="5036" h="2680">
                <a:moveTo>
                  <a:pt x="6300" y="4440"/>
                </a:moveTo>
                <a:cubicBezTo>
                  <a:pt x="6300" y="4503"/>
                  <a:pt x="6303" y="4531"/>
                  <a:pt x="6276" y="4589"/>
                </a:cubicBezTo>
                <a:cubicBezTo>
                  <a:pt x="6245" y="4656"/>
                  <a:pt x="6251" y="4713"/>
                  <a:pt x="6251" y="4787"/>
                </a:cubicBezTo>
                <a:cubicBezTo>
                  <a:pt x="6251" y="4862"/>
                  <a:pt x="6254" y="4900"/>
                  <a:pt x="6300" y="4961"/>
                </a:cubicBezTo>
                <a:cubicBezTo>
                  <a:pt x="6330" y="5002"/>
                  <a:pt x="6379" y="5048"/>
                  <a:pt x="6424" y="5060"/>
                </a:cubicBezTo>
              </a:path>
              <a:path w="5036" h="2680">
                <a:moveTo>
                  <a:pt x="5755" y="5234"/>
                </a:moveTo>
                <a:cubicBezTo>
                  <a:pt x="6020" y="5234"/>
                  <a:pt x="6764" y="5234"/>
                  <a:pt x="6499" y="5234"/>
                </a:cubicBezTo>
              </a:path>
              <a:path w="5036" h="2680">
                <a:moveTo>
                  <a:pt x="5928" y="5631"/>
                </a:moveTo>
                <a:cubicBezTo>
                  <a:pt x="5941" y="5668"/>
                  <a:pt x="5970" y="5653"/>
                  <a:pt x="6003" y="5631"/>
                </a:cubicBezTo>
                <a:cubicBezTo>
                  <a:pt x="6039" y="5607"/>
                  <a:pt x="6062" y="5569"/>
                  <a:pt x="6102" y="5556"/>
                </a:cubicBezTo>
                <a:cubicBezTo>
                  <a:pt x="6131" y="5546"/>
                  <a:pt x="6186" y="5551"/>
                  <a:pt x="6201" y="5581"/>
                </a:cubicBezTo>
                <a:cubicBezTo>
                  <a:pt x="6221" y="5621"/>
                  <a:pt x="6191" y="5697"/>
                  <a:pt x="6176" y="5730"/>
                </a:cubicBezTo>
                <a:cubicBezTo>
                  <a:pt x="6148" y="5791"/>
                  <a:pt x="6108" y="5843"/>
                  <a:pt x="6077" y="5904"/>
                </a:cubicBezTo>
                <a:cubicBezTo>
                  <a:pt x="6039" y="5980"/>
                  <a:pt x="5974" y="6032"/>
                  <a:pt x="5928" y="6102"/>
                </a:cubicBezTo>
                <a:cubicBezTo>
                  <a:pt x="5885" y="6167"/>
                  <a:pt x="5861" y="6219"/>
                  <a:pt x="5804" y="6276"/>
                </a:cubicBezTo>
                <a:cubicBezTo>
                  <a:pt x="5817" y="6237"/>
                  <a:pt x="5844" y="6250"/>
                  <a:pt x="5879" y="6226"/>
                </a:cubicBezTo>
                <a:cubicBezTo>
                  <a:pt x="5919" y="6199"/>
                  <a:pt x="5928" y="6201"/>
                  <a:pt x="5978" y="6201"/>
                </a:cubicBezTo>
                <a:cubicBezTo>
                  <a:pt x="6076" y="6201"/>
                  <a:pt x="6304" y="6241"/>
                  <a:pt x="6375" y="6176"/>
                </a:cubicBezTo>
                <a:cubicBezTo>
                  <a:pt x="6391" y="6160"/>
                  <a:pt x="6408" y="6143"/>
                  <a:pt x="6424" y="6127"/>
                </a:cubicBezTo>
              </a:path>
              <a:path w="5036" h="2680">
                <a:moveTo>
                  <a:pt x="6747" y="5531"/>
                </a:moveTo>
                <a:cubicBezTo>
                  <a:pt x="6833" y="5531"/>
                  <a:pt x="6891" y="5526"/>
                  <a:pt x="6970" y="5507"/>
                </a:cubicBezTo>
                <a:cubicBezTo>
                  <a:pt x="6991" y="5502"/>
                  <a:pt x="7023" y="5507"/>
                  <a:pt x="7045" y="5507"/>
                </a:cubicBezTo>
                <a:cubicBezTo>
                  <a:pt x="7055" y="5477"/>
                  <a:pt x="7087" y="5464"/>
                  <a:pt x="7119" y="5432"/>
                </a:cubicBezTo>
              </a:path>
              <a:path w="5036" h="2680">
                <a:moveTo>
                  <a:pt x="7268" y="5209"/>
                </a:moveTo>
                <a:cubicBezTo>
                  <a:pt x="7277" y="5269"/>
                  <a:pt x="7306" y="5297"/>
                  <a:pt x="7317" y="5358"/>
                </a:cubicBezTo>
                <a:cubicBezTo>
                  <a:pt x="7328" y="5424"/>
                  <a:pt x="7364" y="5520"/>
                  <a:pt x="7392" y="5581"/>
                </a:cubicBezTo>
                <a:cubicBezTo>
                  <a:pt x="7422" y="5645"/>
                  <a:pt x="7512" y="5690"/>
                  <a:pt x="7565" y="5730"/>
                </a:cubicBezTo>
                <a:cubicBezTo>
                  <a:pt x="7605" y="5760"/>
                  <a:pt x="7633" y="5767"/>
                  <a:pt x="7640" y="5705"/>
                </a:cubicBezTo>
                <a:cubicBezTo>
                  <a:pt x="7640" y="5697"/>
                  <a:pt x="7640" y="5688"/>
                  <a:pt x="7640" y="5680"/>
                </a:cubicBezTo>
              </a:path>
              <a:path w="5036" h="2680">
                <a:moveTo>
                  <a:pt x="7615" y="5358"/>
                </a:moveTo>
                <a:cubicBezTo>
                  <a:pt x="7548" y="5437"/>
                  <a:pt x="7473" y="5496"/>
                  <a:pt x="7417" y="5581"/>
                </a:cubicBezTo>
                <a:cubicBezTo>
                  <a:pt x="7384" y="5631"/>
                  <a:pt x="7322" y="5679"/>
                  <a:pt x="7293" y="5730"/>
                </a:cubicBezTo>
                <a:cubicBezTo>
                  <a:pt x="7287" y="5741"/>
                  <a:pt x="7246" y="5836"/>
                  <a:pt x="7218" y="5829"/>
                </a:cubicBezTo>
                <a:cubicBezTo>
                  <a:pt x="7218" y="5794"/>
                  <a:pt x="7223" y="5777"/>
                  <a:pt x="7243" y="5755"/>
                </a:cubicBezTo>
              </a:path>
              <a:path w="5036" h="2680">
                <a:moveTo>
                  <a:pt x="7863" y="4440"/>
                </a:moveTo>
                <a:cubicBezTo>
                  <a:pt x="7869" y="4487"/>
                  <a:pt x="7874" y="4499"/>
                  <a:pt x="7888" y="4539"/>
                </a:cubicBezTo>
                <a:cubicBezTo>
                  <a:pt x="7927" y="4649"/>
                  <a:pt x="7988" y="4751"/>
                  <a:pt x="8037" y="4862"/>
                </a:cubicBezTo>
                <a:cubicBezTo>
                  <a:pt x="8101" y="5007"/>
                  <a:pt x="8168" y="5156"/>
                  <a:pt x="8210" y="5308"/>
                </a:cubicBezTo>
                <a:cubicBezTo>
                  <a:pt x="8249" y="5449"/>
                  <a:pt x="8256" y="5609"/>
                  <a:pt x="8260" y="5755"/>
                </a:cubicBezTo>
                <a:cubicBezTo>
                  <a:pt x="8264" y="5896"/>
                  <a:pt x="8249" y="6016"/>
                  <a:pt x="8210" y="6152"/>
                </a:cubicBezTo>
                <a:cubicBezTo>
                  <a:pt x="8180" y="6256"/>
                  <a:pt x="8106" y="6365"/>
                  <a:pt x="8037" y="6449"/>
                </a:cubicBezTo>
                <a:cubicBezTo>
                  <a:pt x="7970" y="6531"/>
                  <a:pt x="7880" y="6622"/>
                  <a:pt x="7789" y="6672"/>
                </a:cubicBezTo>
                <a:cubicBezTo>
                  <a:pt x="7750" y="6694"/>
                  <a:pt x="7707" y="6704"/>
                  <a:pt x="7665" y="6722"/>
                </a:cubicBezTo>
                <a:cubicBezTo>
                  <a:pt x="7613" y="6744"/>
                  <a:pt x="7631" y="6750"/>
                  <a:pt x="7590" y="6722"/>
                </a:cubicBezTo>
                <a:cubicBezTo>
                  <a:pt x="7582" y="6714"/>
                  <a:pt x="7573" y="6705"/>
                  <a:pt x="756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87800" y="1660680"/>
            <a:ext cx="1009440" cy="295200"/>
          </a:xfrm>
          <a:custGeom>
            <a:avLst/>
            <a:gdLst/>
            <a:ahLst/>
            <a:rect l="l" t="t" r="r" b="b"/>
            <a:pathLst>
              <a:path w="2804" h="819">
                <a:moveTo>
                  <a:pt x="9252" y="4688"/>
                </a:moveTo>
                <a:cubicBezTo>
                  <a:pt x="9243" y="4724"/>
                  <a:pt x="9190" y="4738"/>
                  <a:pt x="9227" y="4738"/>
                </a:cubicBezTo>
                <a:cubicBezTo>
                  <a:pt x="9248" y="4738"/>
                  <a:pt x="9245" y="4678"/>
                  <a:pt x="9227" y="4663"/>
                </a:cubicBezTo>
                <a:cubicBezTo>
                  <a:pt x="9212" y="4651"/>
                  <a:pt x="9125" y="4617"/>
                  <a:pt x="9103" y="4614"/>
                </a:cubicBezTo>
                <a:cubicBezTo>
                  <a:pt x="9041" y="4606"/>
                  <a:pt x="8974" y="4624"/>
                  <a:pt x="8930" y="4663"/>
                </a:cubicBezTo>
                <a:cubicBezTo>
                  <a:pt x="8904" y="4687"/>
                  <a:pt x="8880" y="4713"/>
                  <a:pt x="8855" y="4738"/>
                </a:cubicBezTo>
                <a:cubicBezTo>
                  <a:pt x="8865" y="4767"/>
                  <a:pt x="8876" y="4780"/>
                  <a:pt x="8905" y="4812"/>
                </a:cubicBezTo>
                <a:cubicBezTo>
                  <a:pt x="8948" y="4861"/>
                  <a:pt x="9016" y="4888"/>
                  <a:pt x="9054" y="4936"/>
                </a:cubicBezTo>
                <a:cubicBezTo>
                  <a:pt x="9101" y="4995"/>
                  <a:pt x="9133" y="5045"/>
                  <a:pt x="9178" y="5110"/>
                </a:cubicBezTo>
                <a:cubicBezTo>
                  <a:pt x="9210" y="5157"/>
                  <a:pt x="9217" y="5190"/>
                  <a:pt x="9178" y="5234"/>
                </a:cubicBezTo>
                <a:cubicBezTo>
                  <a:pt x="9134" y="5284"/>
                  <a:pt x="9060" y="5320"/>
                  <a:pt x="9004" y="5333"/>
                </a:cubicBezTo>
                <a:cubicBezTo>
                  <a:pt x="8976" y="5340"/>
                  <a:pt x="8894" y="5329"/>
                  <a:pt x="8880" y="5308"/>
                </a:cubicBezTo>
                <a:cubicBezTo>
                  <a:pt x="8858" y="5275"/>
                  <a:pt x="8888" y="5264"/>
                  <a:pt x="8905" y="5259"/>
                </a:cubicBezTo>
              </a:path>
              <a:path w="2804" h="819">
                <a:moveTo>
                  <a:pt x="9351" y="5011"/>
                </a:moveTo>
                <a:cubicBezTo>
                  <a:pt x="9461" y="5011"/>
                  <a:pt x="9432" y="4992"/>
                  <a:pt x="9525" y="4961"/>
                </a:cubicBezTo>
                <a:cubicBezTo>
                  <a:pt x="9579" y="4943"/>
                  <a:pt x="9607" y="4928"/>
                  <a:pt x="9649" y="4887"/>
                </a:cubicBezTo>
                <a:cubicBezTo>
                  <a:pt x="9698" y="4839"/>
                  <a:pt x="9699" y="4832"/>
                  <a:pt x="9699" y="4762"/>
                </a:cubicBezTo>
                <a:cubicBezTo>
                  <a:pt x="9699" y="4726"/>
                  <a:pt x="9676" y="4691"/>
                  <a:pt x="9649" y="4688"/>
                </a:cubicBezTo>
                <a:cubicBezTo>
                  <a:pt x="9590" y="4681"/>
                  <a:pt x="9545" y="4690"/>
                  <a:pt x="9500" y="4738"/>
                </a:cubicBezTo>
                <a:cubicBezTo>
                  <a:pt x="9452" y="4789"/>
                  <a:pt x="9394" y="4893"/>
                  <a:pt x="9376" y="4961"/>
                </a:cubicBezTo>
                <a:cubicBezTo>
                  <a:pt x="9359" y="5028"/>
                  <a:pt x="9362" y="5185"/>
                  <a:pt x="9401" y="5234"/>
                </a:cubicBezTo>
                <a:cubicBezTo>
                  <a:pt x="9424" y="5263"/>
                  <a:pt x="9436" y="5315"/>
                  <a:pt x="9475" y="5333"/>
                </a:cubicBezTo>
                <a:cubicBezTo>
                  <a:pt x="9530" y="5358"/>
                  <a:pt x="9566" y="5317"/>
                  <a:pt x="9599" y="5283"/>
                </a:cubicBezTo>
              </a:path>
              <a:path w="2804" h="819">
                <a:moveTo>
                  <a:pt x="10145" y="4762"/>
                </a:moveTo>
                <a:cubicBezTo>
                  <a:pt x="10187" y="4762"/>
                  <a:pt x="10195" y="4762"/>
                  <a:pt x="10220" y="4762"/>
                </a:cubicBezTo>
                <a:cubicBezTo>
                  <a:pt x="10220" y="4717"/>
                  <a:pt x="10222" y="4692"/>
                  <a:pt x="10170" y="4688"/>
                </a:cubicBezTo>
                <a:cubicBezTo>
                  <a:pt x="10104" y="4683"/>
                  <a:pt x="10071" y="4694"/>
                  <a:pt x="10021" y="4738"/>
                </a:cubicBezTo>
                <a:cubicBezTo>
                  <a:pt x="9959" y="4793"/>
                  <a:pt x="9851" y="4880"/>
                  <a:pt x="9823" y="4961"/>
                </a:cubicBezTo>
                <a:cubicBezTo>
                  <a:pt x="9802" y="5022"/>
                  <a:pt x="9798" y="5092"/>
                  <a:pt x="9798" y="5159"/>
                </a:cubicBezTo>
                <a:cubicBezTo>
                  <a:pt x="9798" y="5200"/>
                  <a:pt x="9792" y="5268"/>
                  <a:pt x="9847" y="5283"/>
                </a:cubicBezTo>
                <a:cubicBezTo>
                  <a:pt x="9919" y="5303"/>
                  <a:pt x="9953" y="5288"/>
                  <a:pt x="10021" y="5283"/>
                </a:cubicBezTo>
                <a:cubicBezTo>
                  <a:pt x="10084" y="5283"/>
                  <a:pt x="10111" y="5276"/>
                  <a:pt x="10145" y="5234"/>
                </a:cubicBezTo>
              </a:path>
              <a:path w="2804" h="819">
                <a:moveTo>
                  <a:pt x="10418" y="4787"/>
                </a:moveTo>
                <a:cubicBezTo>
                  <a:pt x="10428" y="4866"/>
                  <a:pt x="10457" y="4937"/>
                  <a:pt x="10492" y="5011"/>
                </a:cubicBezTo>
                <a:cubicBezTo>
                  <a:pt x="10532" y="5095"/>
                  <a:pt x="10522" y="5114"/>
                  <a:pt x="10592" y="5184"/>
                </a:cubicBezTo>
                <a:cubicBezTo>
                  <a:pt x="10623" y="5215"/>
                  <a:pt x="10647" y="5256"/>
                  <a:pt x="10691" y="5259"/>
                </a:cubicBezTo>
                <a:cubicBezTo>
                  <a:pt x="10728" y="5262"/>
                  <a:pt x="10820" y="5275"/>
                  <a:pt x="10840" y="5234"/>
                </a:cubicBezTo>
                <a:cubicBezTo>
                  <a:pt x="10851" y="5212"/>
                  <a:pt x="10858" y="5184"/>
                  <a:pt x="10864" y="5159"/>
                </a:cubicBezTo>
              </a:path>
              <a:path w="2804" h="819">
                <a:moveTo>
                  <a:pt x="10790" y="4837"/>
                </a:moveTo>
                <a:cubicBezTo>
                  <a:pt x="10729" y="4920"/>
                  <a:pt x="10673" y="5005"/>
                  <a:pt x="10616" y="5085"/>
                </a:cubicBezTo>
                <a:cubicBezTo>
                  <a:pt x="10557" y="5168"/>
                  <a:pt x="10465" y="5217"/>
                  <a:pt x="10393" y="5283"/>
                </a:cubicBezTo>
                <a:cubicBezTo>
                  <a:pt x="10353" y="5320"/>
                  <a:pt x="10309" y="5344"/>
                  <a:pt x="10269" y="5383"/>
                </a:cubicBezTo>
                <a:cubicBezTo>
                  <a:pt x="10231" y="5420"/>
                  <a:pt x="10190" y="5426"/>
                  <a:pt x="10244" y="5407"/>
                </a:cubicBezTo>
              </a:path>
              <a:path w="2804" h="819">
                <a:moveTo>
                  <a:pt x="11137" y="5060"/>
                </a:moveTo>
                <a:cubicBezTo>
                  <a:pt x="11183" y="5060"/>
                  <a:pt x="11196" y="5082"/>
                  <a:pt x="11237" y="5085"/>
                </a:cubicBezTo>
                <a:cubicBezTo>
                  <a:pt x="11311" y="5090"/>
                  <a:pt x="11615" y="5115"/>
                  <a:pt x="11633" y="5060"/>
                </a:cubicBezTo>
                <a:cubicBezTo>
                  <a:pt x="11598" y="5060"/>
                  <a:pt x="11581" y="5065"/>
                  <a:pt x="11559" y="5085"/>
                </a:cubicBezTo>
              </a:path>
              <a:path w="2804" h="819">
                <a:moveTo>
                  <a:pt x="11162" y="5259"/>
                </a:moveTo>
                <a:cubicBezTo>
                  <a:pt x="11200" y="5286"/>
                  <a:pt x="11214" y="5283"/>
                  <a:pt x="11261" y="5283"/>
                </a:cubicBezTo>
                <a:cubicBezTo>
                  <a:pt x="11324" y="5283"/>
                  <a:pt x="11364" y="5308"/>
                  <a:pt x="11435" y="5308"/>
                </a:cubicBezTo>
                <a:cubicBezTo>
                  <a:pt x="11506" y="5308"/>
                  <a:pt x="11552" y="5316"/>
                  <a:pt x="11609" y="5333"/>
                </a:cubicBezTo>
                <a:cubicBezTo>
                  <a:pt x="11667" y="5351"/>
                  <a:pt x="11642" y="5336"/>
                  <a:pt x="11633" y="53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1677960"/>
            <a:ext cx="930240" cy="295200"/>
          </a:xfrm>
          <a:custGeom>
            <a:avLst/>
            <a:gdLst/>
            <a:ahLst/>
            <a:rect l="l" t="t" r="r" b="b"/>
            <a:pathLst>
              <a:path w="2581" h="820">
                <a:moveTo>
                  <a:pt x="12824" y="4713"/>
                </a:moveTo>
                <a:cubicBezTo>
                  <a:pt x="12806" y="4768"/>
                  <a:pt x="12789" y="4726"/>
                  <a:pt x="12750" y="4713"/>
                </a:cubicBezTo>
                <a:cubicBezTo>
                  <a:pt x="12713" y="4700"/>
                  <a:pt x="12693" y="4688"/>
                  <a:pt x="12650" y="4688"/>
                </a:cubicBezTo>
                <a:cubicBezTo>
                  <a:pt x="12581" y="4688"/>
                  <a:pt x="12529" y="4716"/>
                  <a:pt x="12477" y="4762"/>
                </a:cubicBezTo>
                <a:cubicBezTo>
                  <a:pt x="12428" y="4805"/>
                  <a:pt x="12357" y="4881"/>
                  <a:pt x="12328" y="4936"/>
                </a:cubicBezTo>
                <a:cubicBezTo>
                  <a:pt x="12294" y="5000"/>
                  <a:pt x="12278" y="5064"/>
                  <a:pt x="12278" y="5135"/>
                </a:cubicBezTo>
                <a:cubicBezTo>
                  <a:pt x="12278" y="5198"/>
                  <a:pt x="12264" y="5260"/>
                  <a:pt x="12303" y="5308"/>
                </a:cubicBezTo>
                <a:cubicBezTo>
                  <a:pt x="12344" y="5359"/>
                  <a:pt x="12364" y="5358"/>
                  <a:pt x="12427" y="5358"/>
                </a:cubicBezTo>
                <a:cubicBezTo>
                  <a:pt x="12497" y="5358"/>
                  <a:pt x="12521" y="5323"/>
                  <a:pt x="12576" y="5308"/>
                </a:cubicBezTo>
                <a:cubicBezTo>
                  <a:pt x="12593" y="5308"/>
                  <a:pt x="12609" y="5308"/>
                  <a:pt x="12626" y="5308"/>
                </a:cubicBezTo>
              </a:path>
              <a:path w="2581" h="820">
                <a:moveTo>
                  <a:pt x="13271" y="4688"/>
                </a:moveTo>
                <a:cubicBezTo>
                  <a:pt x="13221" y="4709"/>
                  <a:pt x="13164" y="4717"/>
                  <a:pt x="13122" y="4738"/>
                </a:cubicBezTo>
                <a:cubicBezTo>
                  <a:pt x="13088" y="4755"/>
                  <a:pt x="13051" y="4803"/>
                  <a:pt x="13047" y="4837"/>
                </a:cubicBezTo>
                <a:cubicBezTo>
                  <a:pt x="13042" y="4883"/>
                  <a:pt x="13084" y="4936"/>
                  <a:pt x="13122" y="4961"/>
                </a:cubicBezTo>
                <a:cubicBezTo>
                  <a:pt x="13171" y="4993"/>
                  <a:pt x="13253" y="5050"/>
                  <a:pt x="13271" y="5110"/>
                </a:cubicBezTo>
                <a:cubicBezTo>
                  <a:pt x="13279" y="5136"/>
                  <a:pt x="13311" y="5229"/>
                  <a:pt x="13295" y="5259"/>
                </a:cubicBezTo>
                <a:cubicBezTo>
                  <a:pt x="13277" y="5292"/>
                  <a:pt x="13258" y="5321"/>
                  <a:pt x="13221" y="5333"/>
                </a:cubicBezTo>
                <a:cubicBezTo>
                  <a:pt x="13174" y="5349"/>
                  <a:pt x="13132" y="5319"/>
                  <a:pt x="13097" y="5308"/>
                </a:cubicBezTo>
                <a:cubicBezTo>
                  <a:pt x="13049" y="5294"/>
                  <a:pt x="13030" y="5294"/>
                  <a:pt x="12998" y="5283"/>
                </a:cubicBezTo>
              </a:path>
              <a:path w="2581" h="820">
                <a:moveTo>
                  <a:pt x="13866" y="4688"/>
                </a:moveTo>
                <a:cubicBezTo>
                  <a:pt x="13874" y="4680"/>
                  <a:pt x="13883" y="4671"/>
                  <a:pt x="13891" y="4663"/>
                </a:cubicBezTo>
                <a:cubicBezTo>
                  <a:pt x="13851" y="4673"/>
                  <a:pt x="13803" y="4711"/>
                  <a:pt x="13767" y="4738"/>
                </a:cubicBezTo>
                <a:cubicBezTo>
                  <a:pt x="13668" y="4811"/>
                  <a:pt x="13558" y="4931"/>
                  <a:pt x="13494" y="5035"/>
                </a:cubicBezTo>
                <a:cubicBezTo>
                  <a:pt x="13449" y="5108"/>
                  <a:pt x="13444" y="5176"/>
                  <a:pt x="13444" y="5259"/>
                </a:cubicBezTo>
                <a:cubicBezTo>
                  <a:pt x="13444" y="5318"/>
                  <a:pt x="13479" y="5389"/>
                  <a:pt x="13543" y="5407"/>
                </a:cubicBezTo>
                <a:cubicBezTo>
                  <a:pt x="13600" y="5424"/>
                  <a:pt x="13679" y="5443"/>
                  <a:pt x="13742" y="5432"/>
                </a:cubicBezTo>
                <a:cubicBezTo>
                  <a:pt x="13840" y="5414"/>
                  <a:pt x="13884" y="5385"/>
                  <a:pt x="13965" y="5333"/>
                </a:cubicBezTo>
              </a:path>
              <a:path w="2581" h="820">
                <a:moveTo>
                  <a:pt x="14362" y="4812"/>
                </a:moveTo>
                <a:cubicBezTo>
                  <a:pt x="14390" y="4890"/>
                  <a:pt x="14410" y="4960"/>
                  <a:pt x="14436" y="5035"/>
                </a:cubicBezTo>
                <a:cubicBezTo>
                  <a:pt x="14472" y="5139"/>
                  <a:pt x="14457" y="5164"/>
                  <a:pt x="14536" y="5234"/>
                </a:cubicBezTo>
                <a:cubicBezTo>
                  <a:pt x="14602" y="5292"/>
                  <a:pt x="14618" y="5326"/>
                  <a:pt x="14709" y="5333"/>
                </a:cubicBezTo>
                <a:cubicBezTo>
                  <a:pt x="14750" y="5336"/>
                  <a:pt x="14802" y="5371"/>
                  <a:pt x="14833" y="5333"/>
                </a:cubicBezTo>
                <a:cubicBezTo>
                  <a:pt x="14841" y="5316"/>
                  <a:pt x="14850" y="5300"/>
                  <a:pt x="14858" y="5283"/>
                </a:cubicBezTo>
              </a:path>
              <a:path w="2581" h="820">
                <a:moveTo>
                  <a:pt x="14709" y="4787"/>
                </a:moveTo>
                <a:cubicBezTo>
                  <a:pt x="14608" y="4915"/>
                  <a:pt x="14518" y="5061"/>
                  <a:pt x="14412" y="5184"/>
                </a:cubicBezTo>
                <a:cubicBezTo>
                  <a:pt x="14339" y="5269"/>
                  <a:pt x="14255" y="5372"/>
                  <a:pt x="14163" y="5432"/>
                </a:cubicBezTo>
                <a:cubicBezTo>
                  <a:pt x="14120" y="5454"/>
                  <a:pt x="14108" y="5458"/>
                  <a:pt x="14089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55840" y="2874960"/>
            <a:ext cx="723960" cy="376200"/>
          </a:xfrm>
          <a:custGeom>
            <a:avLst/>
            <a:gdLst/>
            <a:ahLst/>
            <a:rect l="l" t="t" r="r" b="b"/>
            <a:pathLst>
              <a:path w="2010" h="1043">
                <a:moveTo>
                  <a:pt x="4539" y="8285"/>
                </a:moveTo>
                <a:cubicBezTo>
                  <a:pt x="4539" y="8326"/>
                  <a:pt x="4539" y="8368"/>
                  <a:pt x="4539" y="8409"/>
                </a:cubicBezTo>
                <a:cubicBezTo>
                  <a:pt x="4531" y="8385"/>
                  <a:pt x="4530" y="8363"/>
                  <a:pt x="4514" y="8334"/>
                </a:cubicBezTo>
                <a:cubicBezTo>
                  <a:pt x="4501" y="8310"/>
                  <a:pt x="4455" y="8287"/>
                  <a:pt x="4440" y="8285"/>
                </a:cubicBezTo>
                <a:cubicBezTo>
                  <a:pt x="4380" y="8278"/>
                  <a:pt x="4339" y="8299"/>
                  <a:pt x="4291" y="8334"/>
                </a:cubicBezTo>
                <a:cubicBezTo>
                  <a:pt x="4245" y="8368"/>
                  <a:pt x="4226" y="8416"/>
                  <a:pt x="4192" y="8458"/>
                </a:cubicBezTo>
                <a:cubicBezTo>
                  <a:pt x="4138" y="8524"/>
                  <a:pt x="4082" y="8617"/>
                  <a:pt x="4068" y="8706"/>
                </a:cubicBezTo>
                <a:cubicBezTo>
                  <a:pt x="4057" y="8777"/>
                  <a:pt x="4037" y="8863"/>
                  <a:pt x="4068" y="8930"/>
                </a:cubicBezTo>
                <a:cubicBezTo>
                  <a:pt x="4104" y="9006"/>
                  <a:pt x="4156" y="9024"/>
                  <a:pt x="4242" y="9029"/>
                </a:cubicBezTo>
                <a:cubicBezTo>
                  <a:pt x="4322" y="9034"/>
                  <a:pt x="4393" y="9036"/>
                  <a:pt x="4465" y="9004"/>
                </a:cubicBezTo>
                <a:cubicBezTo>
                  <a:pt x="4481" y="8996"/>
                  <a:pt x="4498" y="8987"/>
                  <a:pt x="4514" y="8979"/>
                </a:cubicBezTo>
              </a:path>
              <a:path w="2010" h="1043">
                <a:moveTo>
                  <a:pt x="4911" y="8508"/>
                </a:moveTo>
                <a:cubicBezTo>
                  <a:pt x="4882" y="8581"/>
                  <a:pt x="4868" y="8637"/>
                  <a:pt x="4837" y="8706"/>
                </a:cubicBezTo>
                <a:cubicBezTo>
                  <a:pt x="4813" y="8759"/>
                  <a:pt x="4766" y="8817"/>
                  <a:pt x="4787" y="8880"/>
                </a:cubicBezTo>
                <a:cubicBezTo>
                  <a:pt x="4807" y="8941"/>
                  <a:pt x="4817" y="8974"/>
                  <a:pt x="4887" y="8979"/>
                </a:cubicBezTo>
                <a:cubicBezTo>
                  <a:pt x="4962" y="8984"/>
                  <a:pt x="5044" y="8991"/>
                  <a:pt x="5110" y="8954"/>
                </a:cubicBezTo>
                <a:cubicBezTo>
                  <a:pt x="5212" y="8897"/>
                  <a:pt x="5273" y="8851"/>
                  <a:pt x="5308" y="8731"/>
                </a:cubicBezTo>
                <a:cubicBezTo>
                  <a:pt x="5328" y="8661"/>
                  <a:pt x="5309" y="8558"/>
                  <a:pt x="5259" y="8508"/>
                </a:cubicBezTo>
                <a:cubicBezTo>
                  <a:pt x="5225" y="8474"/>
                  <a:pt x="5108" y="8420"/>
                  <a:pt x="5060" y="8434"/>
                </a:cubicBezTo>
                <a:cubicBezTo>
                  <a:pt x="5003" y="8451"/>
                  <a:pt x="4931" y="8510"/>
                  <a:pt x="4911" y="8558"/>
                </a:cubicBezTo>
                <a:cubicBezTo>
                  <a:pt x="4891" y="8605"/>
                  <a:pt x="4867" y="8678"/>
                  <a:pt x="4887" y="8731"/>
                </a:cubicBezTo>
                <a:cubicBezTo>
                  <a:pt x="4896" y="8756"/>
                  <a:pt x="4919" y="8784"/>
                  <a:pt x="4936" y="8806"/>
                </a:cubicBezTo>
              </a:path>
              <a:path w="2010" h="1043">
                <a:moveTo>
                  <a:pt x="5879" y="7987"/>
                </a:moveTo>
                <a:cubicBezTo>
                  <a:pt x="5879" y="8085"/>
                  <a:pt x="5857" y="8166"/>
                  <a:pt x="5854" y="8260"/>
                </a:cubicBezTo>
                <a:cubicBezTo>
                  <a:pt x="5850" y="8373"/>
                  <a:pt x="5816" y="8472"/>
                  <a:pt x="5804" y="8582"/>
                </a:cubicBezTo>
                <a:cubicBezTo>
                  <a:pt x="5793" y="8680"/>
                  <a:pt x="5825" y="8761"/>
                  <a:pt x="5829" y="8855"/>
                </a:cubicBezTo>
                <a:cubicBezTo>
                  <a:pt x="5831" y="8908"/>
                  <a:pt x="5847" y="9022"/>
                  <a:pt x="5879" y="8979"/>
                </a:cubicBezTo>
                <a:cubicBezTo>
                  <a:pt x="5879" y="8954"/>
                  <a:pt x="5879" y="8946"/>
                  <a:pt x="5879" y="8930"/>
                </a:cubicBezTo>
              </a:path>
              <a:path w="2010" h="1043">
                <a:moveTo>
                  <a:pt x="5531" y="8533"/>
                </a:moveTo>
                <a:cubicBezTo>
                  <a:pt x="5611" y="8533"/>
                  <a:pt x="5677" y="8555"/>
                  <a:pt x="5755" y="8558"/>
                </a:cubicBezTo>
                <a:cubicBezTo>
                  <a:pt x="5854" y="8562"/>
                  <a:pt x="5953" y="8558"/>
                  <a:pt x="6052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7000" y="3017880"/>
            <a:ext cx="214200" cy="23328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6796" y="8384"/>
                </a:moveTo>
                <a:cubicBezTo>
                  <a:pt x="6850" y="8468"/>
                  <a:pt x="6883" y="8541"/>
                  <a:pt x="6921" y="8632"/>
                </a:cubicBezTo>
                <a:cubicBezTo>
                  <a:pt x="6953" y="8708"/>
                  <a:pt x="7027" y="8774"/>
                  <a:pt x="7045" y="8855"/>
                </a:cubicBezTo>
                <a:cubicBezTo>
                  <a:pt x="7061" y="8926"/>
                  <a:pt x="7069" y="8949"/>
                  <a:pt x="7144" y="8979"/>
                </a:cubicBezTo>
                <a:cubicBezTo>
                  <a:pt x="7155" y="8937"/>
                  <a:pt x="7162" y="8929"/>
                  <a:pt x="7169" y="8880"/>
                </a:cubicBezTo>
              </a:path>
              <a:path w="597" h="646">
                <a:moveTo>
                  <a:pt x="7169" y="8434"/>
                </a:moveTo>
                <a:cubicBezTo>
                  <a:pt x="7053" y="8565"/>
                  <a:pt x="6946" y="8691"/>
                  <a:pt x="6821" y="8806"/>
                </a:cubicBezTo>
                <a:cubicBezTo>
                  <a:pt x="6738" y="8883"/>
                  <a:pt x="6671" y="8973"/>
                  <a:pt x="657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6680" y="3187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7714" y="8880"/>
                </a:moveTo>
                <a:cubicBezTo>
                  <a:pt x="7779" y="8880"/>
                  <a:pt x="7735" y="8899"/>
                  <a:pt x="7764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00240" y="2946240"/>
            <a:ext cx="804960" cy="277920"/>
          </a:xfrm>
          <a:custGeom>
            <a:avLst/>
            <a:gdLst/>
            <a:ahLst/>
            <a:rect l="l" t="t" r="r" b="b"/>
            <a:pathLst>
              <a:path w="2234" h="769">
                <a:moveTo>
                  <a:pt x="8682" y="8186"/>
                </a:moveTo>
                <a:cubicBezTo>
                  <a:pt x="8591" y="8223"/>
                  <a:pt x="8501" y="8264"/>
                  <a:pt x="8409" y="8285"/>
                </a:cubicBezTo>
                <a:cubicBezTo>
                  <a:pt x="8385" y="8291"/>
                  <a:pt x="8316" y="8318"/>
                  <a:pt x="8334" y="8359"/>
                </a:cubicBezTo>
                <a:cubicBezTo>
                  <a:pt x="8358" y="8413"/>
                  <a:pt x="8438" y="8431"/>
                  <a:pt x="8483" y="8458"/>
                </a:cubicBezTo>
                <a:cubicBezTo>
                  <a:pt x="8553" y="8500"/>
                  <a:pt x="8680" y="8603"/>
                  <a:pt x="8706" y="8682"/>
                </a:cubicBezTo>
                <a:cubicBezTo>
                  <a:pt x="8722" y="8732"/>
                  <a:pt x="8712" y="8835"/>
                  <a:pt x="8682" y="8880"/>
                </a:cubicBezTo>
                <a:cubicBezTo>
                  <a:pt x="8656" y="8919"/>
                  <a:pt x="8576" y="8944"/>
                  <a:pt x="8533" y="8954"/>
                </a:cubicBezTo>
                <a:cubicBezTo>
                  <a:pt x="8484" y="8966"/>
                  <a:pt x="8445" y="8956"/>
                  <a:pt x="8409" y="8930"/>
                </a:cubicBezTo>
              </a:path>
              <a:path w="2234" h="769">
                <a:moveTo>
                  <a:pt x="8930" y="8682"/>
                </a:moveTo>
                <a:cubicBezTo>
                  <a:pt x="9017" y="8626"/>
                  <a:pt x="9118" y="8590"/>
                  <a:pt x="9203" y="8533"/>
                </a:cubicBezTo>
                <a:cubicBezTo>
                  <a:pt x="9227" y="8517"/>
                  <a:pt x="9289" y="8437"/>
                  <a:pt x="9302" y="8409"/>
                </a:cubicBezTo>
                <a:cubicBezTo>
                  <a:pt x="9320" y="8369"/>
                  <a:pt x="9253" y="8337"/>
                  <a:pt x="9227" y="8334"/>
                </a:cubicBezTo>
                <a:cubicBezTo>
                  <a:pt x="9158" y="8326"/>
                  <a:pt x="9137" y="8353"/>
                  <a:pt x="9079" y="8384"/>
                </a:cubicBezTo>
                <a:cubicBezTo>
                  <a:pt x="9007" y="8422"/>
                  <a:pt x="8990" y="8486"/>
                  <a:pt x="8954" y="8558"/>
                </a:cubicBezTo>
                <a:cubicBezTo>
                  <a:pt x="8923" y="8620"/>
                  <a:pt x="8877" y="8733"/>
                  <a:pt x="8905" y="8806"/>
                </a:cubicBezTo>
                <a:cubicBezTo>
                  <a:pt x="8926" y="8859"/>
                  <a:pt x="9007" y="8877"/>
                  <a:pt x="9054" y="8880"/>
                </a:cubicBezTo>
                <a:cubicBezTo>
                  <a:pt x="9070" y="8880"/>
                  <a:pt x="9087" y="8880"/>
                  <a:pt x="9103" y="8880"/>
                </a:cubicBezTo>
              </a:path>
              <a:path w="2234" h="769">
                <a:moveTo>
                  <a:pt x="9773" y="8334"/>
                </a:moveTo>
                <a:cubicBezTo>
                  <a:pt x="9764" y="8298"/>
                  <a:pt x="9745" y="8268"/>
                  <a:pt x="9699" y="8285"/>
                </a:cubicBezTo>
                <a:cubicBezTo>
                  <a:pt x="9635" y="8308"/>
                  <a:pt x="9583" y="8354"/>
                  <a:pt x="9550" y="8409"/>
                </a:cubicBezTo>
                <a:cubicBezTo>
                  <a:pt x="9505" y="8484"/>
                  <a:pt x="9449" y="8590"/>
                  <a:pt x="9475" y="8682"/>
                </a:cubicBezTo>
                <a:cubicBezTo>
                  <a:pt x="9494" y="8749"/>
                  <a:pt x="9507" y="8815"/>
                  <a:pt x="9575" y="8855"/>
                </a:cubicBezTo>
                <a:cubicBezTo>
                  <a:pt x="9639" y="8892"/>
                  <a:pt x="9705" y="8881"/>
                  <a:pt x="9773" y="8855"/>
                </a:cubicBezTo>
                <a:cubicBezTo>
                  <a:pt x="9790" y="8847"/>
                  <a:pt x="9806" y="8838"/>
                  <a:pt x="9823" y="8830"/>
                </a:cubicBezTo>
              </a:path>
              <a:path w="2234" h="769">
                <a:moveTo>
                  <a:pt x="10071" y="8458"/>
                </a:moveTo>
                <a:cubicBezTo>
                  <a:pt x="10114" y="8549"/>
                  <a:pt x="10157" y="8650"/>
                  <a:pt x="10220" y="8731"/>
                </a:cubicBezTo>
                <a:cubicBezTo>
                  <a:pt x="10259" y="8782"/>
                  <a:pt x="10353" y="8841"/>
                  <a:pt x="10418" y="8855"/>
                </a:cubicBezTo>
                <a:cubicBezTo>
                  <a:pt x="10463" y="8855"/>
                  <a:pt x="10476" y="8851"/>
                  <a:pt x="10492" y="8880"/>
                </a:cubicBezTo>
                <a:cubicBezTo>
                  <a:pt x="10546" y="8840"/>
                  <a:pt x="10556" y="8856"/>
                  <a:pt x="10567" y="8781"/>
                </a:cubicBezTo>
              </a:path>
              <a:path w="2234" h="769">
                <a:moveTo>
                  <a:pt x="10443" y="8359"/>
                </a:moveTo>
                <a:cubicBezTo>
                  <a:pt x="10304" y="8489"/>
                  <a:pt x="10125" y="8638"/>
                  <a:pt x="9996" y="8781"/>
                </a:cubicBezTo>
                <a:cubicBezTo>
                  <a:pt x="9979" y="8800"/>
                  <a:pt x="9867" y="8905"/>
                  <a:pt x="9872" y="8930"/>
                </a:cubicBezTo>
                <a:cubicBezTo>
                  <a:pt x="9880" y="8930"/>
                  <a:pt x="9889" y="8930"/>
                  <a:pt x="9897" y="89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3098880"/>
            <a:ext cx="152280" cy="982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11509" y="8607"/>
                </a:moveTo>
                <a:cubicBezTo>
                  <a:pt x="11599" y="8626"/>
                  <a:pt x="11691" y="8652"/>
                  <a:pt x="11782" y="8657"/>
                </a:cubicBezTo>
                <a:cubicBezTo>
                  <a:pt x="11832" y="8657"/>
                  <a:pt x="11848" y="8657"/>
                  <a:pt x="11881" y="8657"/>
                </a:cubicBezTo>
              </a:path>
              <a:path w="422" h="274">
                <a:moveTo>
                  <a:pt x="11460" y="8830"/>
                </a:moveTo>
                <a:cubicBezTo>
                  <a:pt x="11577" y="8889"/>
                  <a:pt x="11673" y="8880"/>
                  <a:pt x="11807" y="88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8120" y="3633840"/>
            <a:ext cx="2616120" cy="920520"/>
          </a:xfrm>
          <a:custGeom>
            <a:avLst/>
            <a:gdLst/>
            <a:ahLst/>
            <a:rect l="l" t="t" r="r" b="b"/>
            <a:pathLst>
              <a:path w="7269" h="2555">
                <a:moveTo>
                  <a:pt x="4465" y="11137"/>
                </a:moveTo>
                <a:cubicBezTo>
                  <a:pt x="4605" y="11164"/>
                  <a:pt x="4746" y="11200"/>
                  <a:pt x="4887" y="11212"/>
                </a:cubicBezTo>
                <a:cubicBezTo>
                  <a:pt x="5052" y="11226"/>
                  <a:pt x="5219" y="11217"/>
                  <a:pt x="5383" y="11237"/>
                </a:cubicBezTo>
                <a:cubicBezTo>
                  <a:pt x="5557" y="11258"/>
                  <a:pt x="5731" y="11242"/>
                  <a:pt x="5904" y="11261"/>
                </a:cubicBezTo>
                <a:cubicBezTo>
                  <a:pt x="6038" y="11276"/>
                  <a:pt x="6188" y="11311"/>
                  <a:pt x="6325" y="11286"/>
                </a:cubicBezTo>
                <a:cubicBezTo>
                  <a:pt x="6383" y="11276"/>
                  <a:pt x="6462" y="11307"/>
                  <a:pt x="6499" y="11261"/>
                </a:cubicBezTo>
                <a:cubicBezTo>
                  <a:pt x="6554" y="11193"/>
                  <a:pt x="6403" y="11212"/>
                  <a:pt x="6375" y="11212"/>
                </a:cubicBezTo>
              </a:path>
              <a:path w="7269" h="2555">
                <a:moveTo>
                  <a:pt x="5358" y="11807"/>
                </a:moveTo>
                <a:cubicBezTo>
                  <a:pt x="5358" y="11766"/>
                  <a:pt x="5358" y="11758"/>
                  <a:pt x="5358" y="11733"/>
                </a:cubicBezTo>
                <a:cubicBezTo>
                  <a:pt x="5309" y="11733"/>
                  <a:pt x="5272" y="11750"/>
                  <a:pt x="5234" y="11757"/>
                </a:cubicBezTo>
                <a:cubicBezTo>
                  <a:pt x="5174" y="11768"/>
                  <a:pt x="5137" y="11779"/>
                  <a:pt x="5085" y="11807"/>
                </a:cubicBezTo>
                <a:cubicBezTo>
                  <a:pt x="5039" y="11831"/>
                  <a:pt x="5012" y="11889"/>
                  <a:pt x="4986" y="11906"/>
                </a:cubicBezTo>
                <a:cubicBezTo>
                  <a:pt x="4940" y="11936"/>
                  <a:pt x="4969" y="11930"/>
                  <a:pt x="4986" y="11981"/>
                </a:cubicBezTo>
                <a:cubicBezTo>
                  <a:pt x="5006" y="12040"/>
                  <a:pt x="5034" y="12042"/>
                  <a:pt x="5085" y="12080"/>
                </a:cubicBezTo>
                <a:cubicBezTo>
                  <a:pt x="5136" y="12118"/>
                  <a:pt x="5175" y="12148"/>
                  <a:pt x="5209" y="12204"/>
                </a:cubicBezTo>
                <a:cubicBezTo>
                  <a:pt x="5240" y="12256"/>
                  <a:pt x="5294" y="12317"/>
                  <a:pt x="5308" y="12378"/>
                </a:cubicBezTo>
                <a:cubicBezTo>
                  <a:pt x="5317" y="12418"/>
                  <a:pt x="5318" y="12502"/>
                  <a:pt x="5283" y="12526"/>
                </a:cubicBezTo>
                <a:cubicBezTo>
                  <a:pt x="5218" y="12571"/>
                  <a:pt x="5135" y="12551"/>
                  <a:pt x="5060" y="12551"/>
                </a:cubicBezTo>
                <a:cubicBezTo>
                  <a:pt x="4996" y="12551"/>
                  <a:pt x="4883" y="12514"/>
                  <a:pt x="4837" y="12477"/>
                </a:cubicBezTo>
                <a:cubicBezTo>
                  <a:pt x="4800" y="12448"/>
                  <a:pt x="4812" y="12423"/>
                  <a:pt x="4812" y="12378"/>
                </a:cubicBezTo>
              </a:path>
              <a:path w="7269" h="2555">
                <a:moveTo>
                  <a:pt x="5655" y="12105"/>
                </a:moveTo>
                <a:cubicBezTo>
                  <a:pt x="5655" y="12229"/>
                  <a:pt x="5655" y="12353"/>
                  <a:pt x="5655" y="12477"/>
                </a:cubicBezTo>
                <a:cubicBezTo>
                  <a:pt x="5655" y="12444"/>
                  <a:pt x="5655" y="12411"/>
                  <a:pt x="5655" y="12378"/>
                </a:cubicBezTo>
              </a:path>
              <a:path w="7269" h="2555">
                <a:moveTo>
                  <a:pt x="5705" y="11708"/>
                </a:moveTo>
                <a:cubicBezTo>
                  <a:pt x="5727" y="11656"/>
                  <a:pt x="5719" y="11645"/>
                  <a:pt x="5755" y="11633"/>
                </a:cubicBezTo>
              </a:path>
              <a:path w="7269" h="2555">
                <a:moveTo>
                  <a:pt x="5928" y="12204"/>
                </a:moveTo>
                <a:cubicBezTo>
                  <a:pt x="5917" y="12278"/>
                  <a:pt x="5904" y="12502"/>
                  <a:pt x="5904" y="12427"/>
                </a:cubicBezTo>
                <a:cubicBezTo>
                  <a:pt x="5904" y="12373"/>
                  <a:pt x="5915" y="12355"/>
                  <a:pt x="5928" y="12303"/>
                </a:cubicBezTo>
                <a:cubicBezTo>
                  <a:pt x="5941" y="12248"/>
                  <a:pt x="5927" y="12211"/>
                  <a:pt x="5953" y="12154"/>
                </a:cubicBezTo>
                <a:cubicBezTo>
                  <a:pt x="5982" y="12089"/>
                  <a:pt x="5977" y="12056"/>
                  <a:pt x="6028" y="12005"/>
                </a:cubicBezTo>
                <a:cubicBezTo>
                  <a:pt x="6059" y="11974"/>
                  <a:pt x="6083" y="11934"/>
                  <a:pt x="6127" y="11931"/>
                </a:cubicBezTo>
                <a:cubicBezTo>
                  <a:pt x="6195" y="11926"/>
                  <a:pt x="6205" y="11936"/>
                  <a:pt x="6251" y="11981"/>
                </a:cubicBezTo>
                <a:cubicBezTo>
                  <a:pt x="6292" y="12021"/>
                  <a:pt x="6361" y="12069"/>
                  <a:pt x="6375" y="12129"/>
                </a:cubicBezTo>
                <a:cubicBezTo>
                  <a:pt x="6392" y="12201"/>
                  <a:pt x="6413" y="12281"/>
                  <a:pt x="6424" y="12353"/>
                </a:cubicBezTo>
                <a:cubicBezTo>
                  <a:pt x="6437" y="12435"/>
                  <a:pt x="6427" y="12504"/>
                  <a:pt x="6449" y="12576"/>
                </a:cubicBezTo>
                <a:cubicBezTo>
                  <a:pt x="6450" y="12579"/>
                  <a:pt x="6443" y="12690"/>
                  <a:pt x="6474" y="12650"/>
                </a:cubicBezTo>
                <a:cubicBezTo>
                  <a:pt x="6474" y="12642"/>
                  <a:pt x="6474" y="12634"/>
                  <a:pt x="6474" y="12626"/>
                </a:cubicBezTo>
              </a:path>
              <a:path w="7269" h="2555">
                <a:moveTo>
                  <a:pt x="6598" y="11956"/>
                </a:moveTo>
                <a:cubicBezTo>
                  <a:pt x="6636" y="12006"/>
                  <a:pt x="6661" y="12071"/>
                  <a:pt x="6697" y="12129"/>
                </a:cubicBezTo>
                <a:cubicBezTo>
                  <a:pt x="6748" y="12210"/>
                  <a:pt x="6810" y="12304"/>
                  <a:pt x="6871" y="12378"/>
                </a:cubicBezTo>
                <a:cubicBezTo>
                  <a:pt x="6927" y="12446"/>
                  <a:pt x="7001" y="12552"/>
                  <a:pt x="7069" y="12601"/>
                </a:cubicBezTo>
                <a:cubicBezTo>
                  <a:pt x="7109" y="12629"/>
                  <a:pt x="7127" y="12626"/>
                  <a:pt x="7169" y="12626"/>
                </a:cubicBezTo>
              </a:path>
              <a:path w="7269" h="2555">
                <a:moveTo>
                  <a:pt x="7045" y="11981"/>
                </a:moveTo>
                <a:cubicBezTo>
                  <a:pt x="6973" y="12053"/>
                  <a:pt x="6906" y="12124"/>
                  <a:pt x="6846" y="12204"/>
                </a:cubicBezTo>
                <a:cubicBezTo>
                  <a:pt x="6788" y="12282"/>
                  <a:pt x="6745" y="12386"/>
                  <a:pt x="6672" y="12452"/>
                </a:cubicBezTo>
                <a:cubicBezTo>
                  <a:pt x="6649" y="12473"/>
                  <a:pt x="6565" y="12582"/>
                  <a:pt x="6524" y="12576"/>
                </a:cubicBezTo>
                <a:cubicBezTo>
                  <a:pt x="6524" y="12551"/>
                  <a:pt x="6524" y="12543"/>
                  <a:pt x="6524" y="12526"/>
                </a:cubicBezTo>
              </a:path>
              <a:path w="7269" h="2555">
                <a:moveTo>
                  <a:pt x="7516" y="11311"/>
                </a:moveTo>
                <a:cubicBezTo>
                  <a:pt x="7541" y="11311"/>
                  <a:pt x="7549" y="11311"/>
                  <a:pt x="7541" y="11336"/>
                </a:cubicBezTo>
                <a:cubicBezTo>
                  <a:pt x="7530" y="11302"/>
                  <a:pt x="7493" y="11302"/>
                  <a:pt x="7541" y="11286"/>
                </a:cubicBezTo>
              </a:path>
              <a:path w="7269" h="2555">
                <a:moveTo>
                  <a:pt x="8781" y="10294"/>
                </a:moveTo>
                <a:cubicBezTo>
                  <a:pt x="8822" y="10349"/>
                  <a:pt x="8784" y="10350"/>
                  <a:pt x="8781" y="10418"/>
                </a:cubicBezTo>
                <a:cubicBezTo>
                  <a:pt x="8775" y="10546"/>
                  <a:pt x="8785" y="10677"/>
                  <a:pt x="8806" y="10790"/>
                </a:cubicBezTo>
                <a:cubicBezTo>
                  <a:pt x="8817" y="10849"/>
                  <a:pt x="8830" y="10902"/>
                  <a:pt x="8830" y="10964"/>
                </a:cubicBezTo>
                <a:cubicBezTo>
                  <a:pt x="8830" y="10980"/>
                  <a:pt x="8830" y="10997"/>
                  <a:pt x="8830" y="11013"/>
                </a:cubicBezTo>
              </a:path>
              <a:path w="7269" h="2555">
                <a:moveTo>
                  <a:pt x="8334" y="11212"/>
                </a:moveTo>
                <a:cubicBezTo>
                  <a:pt x="8637" y="11212"/>
                  <a:pt x="8959" y="11234"/>
                  <a:pt x="9252" y="11187"/>
                </a:cubicBezTo>
                <a:cubicBezTo>
                  <a:pt x="9306" y="11178"/>
                  <a:pt x="9329" y="11174"/>
                  <a:pt x="9376" y="11162"/>
                </a:cubicBezTo>
              </a:path>
              <a:path w="7269" h="2555">
                <a:moveTo>
                  <a:pt x="8830" y="11782"/>
                </a:moveTo>
                <a:cubicBezTo>
                  <a:pt x="8830" y="11840"/>
                  <a:pt x="8830" y="11848"/>
                  <a:pt x="8830" y="11881"/>
                </a:cubicBezTo>
                <a:cubicBezTo>
                  <a:pt x="8795" y="11834"/>
                  <a:pt x="8789" y="11788"/>
                  <a:pt x="8756" y="11733"/>
                </a:cubicBezTo>
                <a:cubicBezTo>
                  <a:pt x="8733" y="11696"/>
                  <a:pt x="8670" y="11686"/>
                  <a:pt x="8632" y="11683"/>
                </a:cubicBezTo>
                <a:cubicBezTo>
                  <a:pt x="8597" y="11680"/>
                  <a:pt x="8506" y="11731"/>
                  <a:pt x="8483" y="11757"/>
                </a:cubicBezTo>
                <a:cubicBezTo>
                  <a:pt x="8411" y="11840"/>
                  <a:pt x="8388" y="11906"/>
                  <a:pt x="8359" y="12005"/>
                </a:cubicBezTo>
                <a:cubicBezTo>
                  <a:pt x="8334" y="12093"/>
                  <a:pt x="8323" y="12136"/>
                  <a:pt x="8359" y="12229"/>
                </a:cubicBezTo>
                <a:cubicBezTo>
                  <a:pt x="8380" y="12283"/>
                  <a:pt x="8435" y="12347"/>
                  <a:pt x="8483" y="12378"/>
                </a:cubicBezTo>
                <a:cubicBezTo>
                  <a:pt x="8577" y="12440"/>
                  <a:pt x="8680" y="12440"/>
                  <a:pt x="8781" y="12402"/>
                </a:cubicBezTo>
                <a:cubicBezTo>
                  <a:pt x="8866" y="12370"/>
                  <a:pt x="8908" y="12329"/>
                  <a:pt x="8954" y="12254"/>
                </a:cubicBezTo>
              </a:path>
              <a:path w="7269" h="2555">
                <a:moveTo>
                  <a:pt x="9203" y="11931"/>
                </a:moveTo>
                <a:cubicBezTo>
                  <a:pt x="9179" y="11883"/>
                  <a:pt x="9148" y="11990"/>
                  <a:pt x="9128" y="12030"/>
                </a:cubicBezTo>
                <a:cubicBezTo>
                  <a:pt x="9108" y="12069"/>
                  <a:pt x="9083" y="12157"/>
                  <a:pt x="9103" y="12204"/>
                </a:cubicBezTo>
                <a:cubicBezTo>
                  <a:pt x="9138" y="12287"/>
                  <a:pt x="9188" y="12273"/>
                  <a:pt x="9252" y="12303"/>
                </a:cubicBezTo>
                <a:cubicBezTo>
                  <a:pt x="9318" y="12334"/>
                  <a:pt x="9353" y="12336"/>
                  <a:pt x="9426" y="12303"/>
                </a:cubicBezTo>
                <a:cubicBezTo>
                  <a:pt x="9507" y="12267"/>
                  <a:pt x="9522" y="12226"/>
                  <a:pt x="9550" y="12154"/>
                </a:cubicBezTo>
                <a:cubicBezTo>
                  <a:pt x="9573" y="12094"/>
                  <a:pt x="9579" y="12042"/>
                  <a:pt x="9550" y="11981"/>
                </a:cubicBezTo>
                <a:cubicBezTo>
                  <a:pt x="9525" y="11928"/>
                  <a:pt x="9450" y="11883"/>
                  <a:pt x="9401" y="11857"/>
                </a:cubicBezTo>
                <a:cubicBezTo>
                  <a:pt x="9319" y="11814"/>
                  <a:pt x="9298" y="11792"/>
                  <a:pt x="9203" y="11832"/>
                </a:cubicBezTo>
                <a:cubicBezTo>
                  <a:pt x="9172" y="11845"/>
                  <a:pt x="9100" y="11855"/>
                  <a:pt x="9128" y="11906"/>
                </a:cubicBezTo>
                <a:cubicBezTo>
                  <a:pt x="9136" y="11914"/>
                  <a:pt x="9145" y="11923"/>
                  <a:pt x="9153" y="11931"/>
                </a:cubicBezTo>
              </a:path>
              <a:path w="7269" h="2555">
                <a:moveTo>
                  <a:pt x="9872" y="11832"/>
                </a:moveTo>
                <a:cubicBezTo>
                  <a:pt x="9818" y="11824"/>
                  <a:pt x="9732" y="11789"/>
                  <a:pt x="9723" y="11857"/>
                </a:cubicBezTo>
                <a:cubicBezTo>
                  <a:pt x="9715" y="11923"/>
                  <a:pt x="9813" y="12002"/>
                  <a:pt x="9847" y="12055"/>
                </a:cubicBezTo>
                <a:cubicBezTo>
                  <a:pt x="9881" y="12108"/>
                  <a:pt x="9967" y="12239"/>
                  <a:pt x="9947" y="12303"/>
                </a:cubicBezTo>
                <a:cubicBezTo>
                  <a:pt x="9929" y="12360"/>
                  <a:pt x="9861" y="12365"/>
                  <a:pt x="9823" y="12378"/>
                </a:cubicBezTo>
                <a:cubicBezTo>
                  <a:pt x="9755" y="12401"/>
                  <a:pt x="9734" y="12404"/>
                  <a:pt x="9674" y="12378"/>
                </a:cubicBezTo>
                <a:cubicBezTo>
                  <a:pt x="9613" y="12352"/>
                  <a:pt x="9624" y="12355"/>
                  <a:pt x="9624" y="12303"/>
                </a:cubicBezTo>
              </a:path>
              <a:path w="7269" h="2555">
                <a:moveTo>
                  <a:pt x="10120" y="12105"/>
                </a:moveTo>
                <a:cubicBezTo>
                  <a:pt x="10182" y="12234"/>
                  <a:pt x="10234" y="12379"/>
                  <a:pt x="10368" y="12452"/>
                </a:cubicBezTo>
                <a:cubicBezTo>
                  <a:pt x="10443" y="12492"/>
                  <a:pt x="10507" y="12544"/>
                  <a:pt x="10592" y="12551"/>
                </a:cubicBezTo>
                <a:cubicBezTo>
                  <a:pt x="10600" y="12551"/>
                  <a:pt x="10608" y="12551"/>
                  <a:pt x="10616" y="12551"/>
                </a:cubicBezTo>
              </a:path>
              <a:path w="7269" h="2555">
                <a:moveTo>
                  <a:pt x="10567" y="12030"/>
                </a:moveTo>
                <a:cubicBezTo>
                  <a:pt x="10416" y="12109"/>
                  <a:pt x="10341" y="12164"/>
                  <a:pt x="10220" y="12278"/>
                </a:cubicBezTo>
                <a:cubicBezTo>
                  <a:pt x="10157" y="12338"/>
                  <a:pt x="10108" y="12400"/>
                  <a:pt x="10046" y="12452"/>
                </a:cubicBezTo>
                <a:cubicBezTo>
                  <a:pt x="9990" y="12498"/>
                  <a:pt x="10011" y="12488"/>
                  <a:pt x="10021" y="12427"/>
                </a:cubicBezTo>
              </a:path>
              <a:path w="7269" h="2555">
                <a:moveTo>
                  <a:pt x="11410" y="11137"/>
                </a:moveTo>
                <a:cubicBezTo>
                  <a:pt x="11494" y="11137"/>
                  <a:pt x="11554" y="11158"/>
                  <a:pt x="11633" y="11162"/>
                </a:cubicBezTo>
                <a:cubicBezTo>
                  <a:pt x="11650" y="11162"/>
                  <a:pt x="11666" y="11162"/>
                  <a:pt x="11683" y="11162"/>
                </a:cubicBezTo>
              </a:path>
              <a:path w="7269" h="2555">
                <a:moveTo>
                  <a:pt x="11361" y="11311"/>
                </a:moveTo>
                <a:cubicBezTo>
                  <a:pt x="11515" y="11356"/>
                  <a:pt x="11582" y="11374"/>
                  <a:pt x="11733" y="11336"/>
                </a:cubicBezTo>
              </a:path>
              <a:path w="7269" h="2555">
                <a:moveTo>
                  <a:pt x="8161" y="12353"/>
                </a:moveTo>
                <a:cubicBezTo>
                  <a:pt x="8215" y="12347"/>
                  <a:pt x="8259" y="12334"/>
                  <a:pt x="8310" y="12328"/>
                </a:cubicBezTo>
                <a:cubicBezTo>
                  <a:pt x="8410" y="12317"/>
                  <a:pt x="8506" y="12304"/>
                  <a:pt x="8607" y="12278"/>
                </a:cubicBezTo>
                <a:cubicBezTo>
                  <a:pt x="8736" y="12244"/>
                  <a:pt x="8871" y="12231"/>
                  <a:pt x="9004" y="12204"/>
                </a:cubicBezTo>
                <a:cubicBezTo>
                  <a:pt x="9205" y="12163"/>
                  <a:pt x="9399" y="12098"/>
                  <a:pt x="9599" y="12055"/>
                </a:cubicBezTo>
                <a:cubicBezTo>
                  <a:pt x="9735" y="12026"/>
                  <a:pt x="9883" y="12010"/>
                  <a:pt x="10021" y="12005"/>
                </a:cubicBezTo>
                <a:cubicBezTo>
                  <a:pt x="10086" y="12003"/>
                  <a:pt x="10181" y="12000"/>
                  <a:pt x="10244" y="11981"/>
                </a:cubicBezTo>
                <a:cubicBezTo>
                  <a:pt x="10278" y="11971"/>
                  <a:pt x="10308" y="11942"/>
                  <a:pt x="10344" y="11931"/>
                </a:cubicBezTo>
                <a:cubicBezTo>
                  <a:pt x="10352" y="11931"/>
                  <a:pt x="10360" y="11931"/>
                  <a:pt x="10368" y="11931"/>
                </a:cubicBezTo>
                <a:cubicBezTo>
                  <a:pt x="10313" y="11903"/>
                  <a:pt x="10253" y="11868"/>
                  <a:pt x="10195" y="11832"/>
                </a:cubicBezTo>
              </a:path>
              <a:path w="7269" h="2555">
                <a:moveTo>
                  <a:pt x="4589" y="10889"/>
                </a:moveTo>
                <a:cubicBezTo>
                  <a:pt x="4690" y="10880"/>
                  <a:pt x="4787" y="10868"/>
                  <a:pt x="4887" y="10840"/>
                </a:cubicBezTo>
                <a:cubicBezTo>
                  <a:pt x="4992" y="10811"/>
                  <a:pt x="5086" y="10752"/>
                  <a:pt x="5184" y="10716"/>
                </a:cubicBezTo>
                <a:cubicBezTo>
                  <a:pt x="5334" y="10661"/>
                  <a:pt x="5482" y="10602"/>
                  <a:pt x="5631" y="10542"/>
                </a:cubicBezTo>
                <a:cubicBezTo>
                  <a:pt x="5793" y="10477"/>
                  <a:pt x="5963" y="10448"/>
                  <a:pt x="6127" y="10393"/>
                </a:cubicBezTo>
                <a:cubicBezTo>
                  <a:pt x="6254" y="10351"/>
                  <a:pt x="6400" y="10275"/>
                  <a:pt x="6524" y="10244"/>
                </a:cubicBezTo>
                <a:cubicBezTo>
                  <a:pt x="6614" y="10221"/>
                  <a:pt x="6664" y="10212"/>
                  <a:pt x="6747" y="10170"/>
                </a:cubicBezTo>
                <a:cubicBezTo>
                  <a:pt x="6786" y="10151"/>
                  <a:pt x="6815" y="10066"/>
                  <a:pt x="6846" y="10096"/>
                </a:cubicBezTo>
                <a:cubicBezTo>
                  <a:pt x="6869" y="10118"/>
                  <a:pt x="6810" y="10142"/>
                  <a:pt x="6796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71760" y="3633840"/>
            <a:ext cx="946080" cy="287280"/>
          </a:xfrm>
          <a:custGeom>
            <a:avLst/>
            <a:gdLst/>
            <a:ahLst/>
            <a:rect l="l" t="t" r="r" b="b"/>
            <a:pathLst>
              <a:path w="2630" h="794">
                <a:moveTo>
                  <a:pt x="4862" y="10170"/>
                </a:moveTo>
                <a:cubicBezTo>
                  <a:pt x="4862" y="10203"/>
                  <a:pt x="4862" y="10236"/>
                  <a:pt x="4862" y="10269"/>
                </a:cubicBezTo>
                <a:cubicBezTo>
                  <a:pt x="4862" y="10233"/>
                  <a:pt x="4855" y="10197"/>
                  <a:pt x="4837" y="10170"/>
                </a:cubicBezTo>
                <a:cubicBezTo>
                  <a:pt x="4814" y="10135"/>
                  <a:pt x="4809" y="10099"/>
                  <a:pt x="4762" y="10096"/>
                </a:cubicBezTo>
                <a:cubicBezTo>
                  <a:pt x="4703" y="10092"/>
                  <a:pt x="4683" y="10094"/>
                  <a:pt x="4638" y="10120"/>
                </a:cubicBezTo>
                <a:cubicBezTo>
                  <a:pt x="4571" y="10158"/>
                  <a:pt x="4508" y="10253"/>
                  <a:pt x="4465" y="10319"/>
                </a:cubicBezTo>
                <a:cubicBezTo>
                  <a:pt x="4414" y="10397"/>
                  <a:pt x="4413" y="10460"/>
                  <a:pt x="4390" y="10542"/>
                </a:cubicBezTo>
                <a:cubicBezTo>
                  <a:pt x="4371" y="10610"/>
                  <a:pt x="4375" y="10695"/>
                  <a:pt x="4415" y="10765"/>
                </a:cubicBezTo>
                <a:cubicBezTo>
                  <a:pt x="4460" y="10843"/>
                  <a:pt x="4520" y="10841"/>
                  <a:pt x="4589" y="10864"/>
                </a:cubicBezTo>
                <a:cubicBezTo>
                  <a:pt x="4681" y="10895"/>
                  <a:pt x="4720" y="10883"/>
                  <a:pt x="4812" y="10840"/>
                </a:cubicBezTo>
                <a:cubicBezTo>
                  <a:pt x="4829" y="10832"/>
                  <a:pt x="4845" y="10823"/>
                  <a:pt x="4862" y="10815"/>
                </a:cubicBezTo>
              </a:path>
              <a:path w="2630" h="794">
                <a:moveTo>
                  <a:pt x="5234" y="10344"/>
                </a:moveTo>
                <a:cubicBezTo>
                  <a:pt x="5234" y="10400"/>
                  <a:pt x="5211" y="10417"/>
                  <a:pt x="5184" y="10468"/>
                </a:cubicBezTo>
                <a:cubicBezTo>
                  <a:pt x="5151" y="10529"/>
                  <a:pt x="5121" y="10600"/>
                  <a:pt x="5110" y="10666"/>
                </a:cubicBezTo>
                <a:cubicBezTo>
                  <a:pt x="5104" y="10703"/>
                  <a:pt x="5135" y="10795"/>
                  <a:pt x="5159" y="10815"/>
                </a:cubicBezTo>
                <a:cubicBezTo>
                  <a:pt x="5219" y="10864"/>
                  <a:pt x="5304" y="10884"/>
                  <a:pt x="5383" y="10864"/>
                </a:cubicBezTo>
                <a:cubicBezTo>
                  <a:pt x="5444" y="10848"/>
                  <a:pt x="5495" y="10781"/>
                  <a:pt x="5531" y="10740"/>
                </a:cubicBezTo>
                <a:cubicBezTo>
                  <a:pt x="5605" y="10656"/>
                  <a:pt x="5606" y="10629"/>
                  <a:pt x="5606" y="10517"/>
                </a:cubicBezTo>
                <a:cubicBezTo>
                  <a:pt x="5606" y="10449"/>
                  <a:pt x="5577" y="10394"/>
                  <a:pt x="5531" y="10344"/>
                </a:cubicBezTo>
                <a:cubicBezTo>
                  <a:pt x="5483" y="10292"/>
                  <a:pt x="5425" y="10273"/>
                  <a:pt x="5358" y="10269"/>
                </a:cubicBezTo>
                <a:cubicBezTo>
                  <a:pt x="5301" y="10266"/>
                  <a:pt x="5251" y="10257"/>
                  <a:pt x="5209" y="10294"/>
                </a:cubicBezTo>
                <a:cubicBezTo>
                  <a:pt x="5193" y="10308"/>
                  <a:pt x="5149" y="10371"/>
                  <a:pt x="5159" y="10393"/>
                </a:cubicBezTo>
                <a:cubicBezTo>
                  <a:pt x="5182" y="10416"/>
                  <a:pt x="5190" y="10420"/>
                  <a:pt x="5184" y="10443"/>
                </a:cubicBezTo>
              </a:path>
              <a:path w="2630" h="794">
                <a:moveTo>
                  <a:pt x="6176" y="10294"/>
                </a:moveTo>
                <a:cubicBezTo>
                  <a:pt x="6144" y="10274"/>
                  <a:pt x="6073" y="10250"/>
                  <a:pt x="6028" y="10269"/>
                </a:cubicBezTo>
                <a:cubicBezTo>
                  <a:pt x="5983" y="10288"/>
                  <a:pt x="5949" y="10324"/>
                  <a:pt x="5904" y="10344"/>
                </a:cubicBezTo>
                <a:cubicBezTo>
                  <a:pt x="5876" y="10344"/>
                  <a:pt x="5865" y="10346"/>
                  <a:pt x="5854" y="10368"/>
                </a:cubicBezTo>
                <a:cubicBezTo>
                  <a:pt x="5863" y="10406"/>
                  <a:pt x="5877" y="10438"/>
                  <a:pt x="5904" y="10468"/>
                </a:cubicBezTo>
                <a:cubicBezTo>
                  <a:pt x="5952" y="10522"/>
                  <a:pt x="6045" y="10598"/>
                  <a:pt x="6102" y="10641"/>
                </a:cubicBezTo>
                <a:cubicBezTo>
                  <a:pt x="6169" y="10692"/>
                  <a:pt x="6176" y="10703"/>
                  <a:pt x="6176" y="10790"/>
                </a:cubicBezTo>
                <a:cubicBezTo>
                  <a:pt x="6176" y="10832"/>
                  <a:pt x="6113" y="10879"/>
                  <a:pt x="6077" y="10889"/>
                </a:cubicBezTo>
                <a:cubicBezTo>
                  <a:pt x="6010" y="10907"/>
                  <a:pt x="5857" y="10901"/>
                  <a:pt x="5829" y="10864"/>
                </a:cubicBezTo>
                <a:cubicBezTo>
                  <a:pt x="5821" y="10856"/>
                  <a:pt x="5812" y="10848"/>
                  <a:pt x="5804" y="10840"/>
                </a:cubicBezTo>
              </a:path>
              <a:path w="2630" h="794">
                <a:moveTo>
                  <a:pt x="6474" y="10418"/>
                </a:moveTo>
                <a:cubicBezTo>
                  <a:pt x="6531" y="10539"/>
                  <a:pt x="6577" y="10576"/>
                  <a:pt x="6648" y="10666"/>
                </a:cubicBezTo>
                <a:cubicBezTo>
                  <a:pt x="6707" y="10740"/>
                  <a:pt x="6739" y="10766"/>
                  <a:pt x="6821" y="10815"/>
                </a:cubicBezTo>
                <a:cubicBezTo>
                  <a:pt x="6898" y="10861"/>
                  <a:pt x="6914" y="10864"/>
                  <a:pt x="6995" y="10864"/>
                </a:cubicBezTo>
              </a:path>
              <a:path w="2630" h="794">
                <a:moveTo>
                  <a:pt x="6821" y="10319"/>
                </a:moveTo>
                <a:cubicBezTo>
                  <a:pt x="6737" y="10415"/>
                  <a:pt x="6661" y="10479"/>
                  <a:pt x="6573" y="10567"/>
                </a:cubicBezTo>
                <a:cubicBezTo>
                  <a:pt x="6518" y="10622"/>
                  <a:pt x="6470" y="10661"/>
                  <a:pt x="6424" y="10716"/>
                </a:cubicBezTo>
                <a:cubicBezTo>
                  <a:pt x="6395" y="10745"/>
                  <a:pt x="6380" y="10756"/>
                  <a:pt x="6350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84320" y="4822920"/>
            <a:ext cx="27000" cy="347400"/>
          </a:xfrm>
          <a:custGeom>
            <a:avLst/>
            <a:gdLst/>
            <a:ahLst/>
            <a:rect l="l" t="t" r="r" b="b"/>
            <a:pathLst>
              <a:path w="75" h="968">
                <a:moveTo>
                  <a:pt x="8012" y="13395"/>
                </a:moveTo>
                <a:cubicBezTo>
                  <a:pt x="8012" y="13564"/>
                  <a:pt x="8017" y="13730"/>
                  <a:pt x="8037" y="13891"/>
                </a:cubicBezTo>
                <a:cubicBezTo>
                  <a:pt x="8047" y="13973"/>
                  <a:pt x="8059" y="14060"/>
                  <a:pt x="8062" y="14139"/>
                </a:cubicBezTo>
                <a:cubicBezTo>
                  <a:pt x="8063" y="14173"/>
                  <a:pt x="8110" y="14302"/>
                  <a:pt x="8086" y="14337"/>
                </a:cubicBezTo>
                <a:cubicBezTo>
                  <a:pt x="8062" y="14337"/>
                  <a:pt x="8054" y="14337"/>
                  <a:pt x="8062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0760" y="5180040"/>
            <a:ext cx="509400" cy="34920"/>
          </a:xfrm>
          <a:custGeom>
            <a:avLst/>
            <a:gdLst/>
            <a:ahLst/>
            <a:rect l="l" t="t" r="r" b="b"/>
            <a:pathLst>
              <a:path w="1415" h="100">
                <a:moveTo>
                  <a:pt x="7392" y="14436"/>
                </a:moveTo>
                <a:cubicBezTo>
                  <a:pt x="7505" y="14436"/>
                  <a:pt x="7605" y="14449"/>
                  <a:pt x="7714" y="14461"/>
                </a:cubicBezTo>
                <a:cubicBezTo>
                  <a:pt x="7835" y="14475"/>
                  <a:pt x="7965" y="14476"/>
                  <a:pt x="8086" y="14486"/>
                </a:cubicBezTo>
                <a:cubicBezTo>
                  <a:pt x="8238" y="14499"/>
                  <a:pt x="8386" y="14477"/>
                  <a:pt x="8533" y="14461"/>
                </a:cubicBezTo>
                <a:cubicBezTo>
                  <a:pt x="8621" y="14451"/>
                  <a:pt x="8705" y="14436"/>
                  <a:pt x="8781" y="14412"/>
                </a:cubicBezTo>
                <a:cubicBezTo>
                  <a:pt x="8835" y="14395"/>
                  <a:pt x="8800" y="14394"/>
                  <a:pt x="8756" y="143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5840" y="5384880"/>
            <a:ext cx="169920" cy="303120"/>
          </a:xfrm>
          <a:custGeom>
            <a:avLst/>
            <a:gdLst/>
            <a:ahLst/>
            <a:rect l="l" t="t" r="r" b="b"/>
            <a:pathLst>
              <a:path w="472" h="845">
                <a:moveTo>
                  <a:pt x="7714" y="15131"/>
                </a:moveTo>
                <a:cubicBezTo>
                  <a:pt x="7698" y="15094"/>
                  <a:pt x="7685" y="15036"/>
                  <a:pt x="7665" y="15007"/>
                </a:cubicBezTo>
                <a:cubicBezTo>
                  <a:pt x="7639" y="14968"/>
                  <a:pt x="7559" y="14961"/>
                  <a:pt x="7516" y="14957"/>
                </a:cubicBezTo>
                <a:cubicBezTo>
                  <a:pt x="7483" y="14954"/>
                  <a:pt x="7434" y="14946"/>
                  <a:pt x="7417" y="14982"/>
                </a:cubicBezTo>
                <a:cubicBezTo>
                  <a:pt x="7390" y="15038"/>
                  <a:pt x="7400" y="15030"/>
                  <a:pt x="7417" y="15081"/>
                </a:cubicBezTo>
                <a:cubicBezTo>
                  <a:pt x="7434" y="15130"/>
                  <a:pt x="7422" y="15137"/>
                  <a:pt x="7466" y="15180"/>
                </a:cubicBezTo>
                <a:cubicBezTo>
                  <a:pt x="7515" y="15229"/>
                  <a:pt x="7534" y="15262"/>
                  <a:pt x="7590" y="15304"/>
                </a:cubicBezTo>
                <a:cubicBezTo>
                  <a:pt x="7632" y="15335"/>
                  <a:pt x="7665" y="15407"/>
                  <a:pt x="7689" y="15453"/>
                </a:cubicBezTo>
                <a:cubicBezTo>
                  <a:pt x="7721" y="15514"/>
                  <a:pt x="7760" y="15562"/>
                  <a:pt x="7764" y="15627"/>
                </a:cubicBezTo>
                <a:cubicBezTo>
                  <a:pt x="7768" y="15693"/>
                  <a:pt x="7756" y="15700"/>
                  <a:pt x="7739" y="15751"/>
                </a:cubicBezTo>
                <a:cubicBezTo>
                  <a:pt x="7729" y="15782"/>
                  <a:pt x="7638" y="15814"/>
                  <a:pt x="7590" y="15801"/>
                </a:cubicBezTo>
                <a:cubicBezTo>
                  <a:pt x="7546" y="15789"/>
                  <a:pt x="7461" y="15752"/>
                  <a:pt x="7417" y="15726"/>
                </a:cubicBezTo>
                <a:cubicBezTo>
                  <a:pt x="7372" y="15699"/>
                  <a:pt x="7367" y="15623"/>
                  <a:pt x="7342" y="15602"/>
                </a:cubicBezTo>
                <a:cubicBezTo>
                  <a:pt x="7319" y="15583"/>
                  <a:pt x="7320" y="15589"/>
                  <a:pt x="7293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01960" y="5518080"/>
            <a:ext cx="9360" cy="152640"/>
          </a:xfrm>
          <a:custGeom>
            <a:avLst/>
            <a:gdLst/>
            <a:ahLst/>
            <a:rect l="l" t="t" r="r" b="b"/>
            <a:pathLst>
              <a:path w="25" h="423">
                <a:moveTo>
                  <a:pt x="8086" y="15329"/>
                </a:moveTo>
                <a:cubicBezTo>
                  <a:pt x="8086" y="15423"/>
                  <a:pt x="8069" y="15489"/>
                  <a:pt x="8062" y="15577"/>
                </a:cubicBezTo>
                <a:cubicBezTo>
                  <a:pt x="8060" y="15606"/>
                  <a:pt x="8074" y="15796"/>
                  <a:pt x="8086" y="15726"/>
                </a:cubicBezTo>
                <a:cubicBezTo>
                  <a:pt x="8086" y="15701"/>
                  <a:pt x="8086" y="15677"/>
                  <a:pt x="8086" y="156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38320" y="5384880"/>
            <a:ext cx="17640" cy="9360"/>
          </a:xfrm>
          <a:custGeom>
            <a:avLst/>
            <a:gdLst/>
            <a:ahLst/>
            <a:rect l="l" t="t" r="r" b="b"/>
            <a:pathLst>
              <a:path w="50" h="26">
                <a:moveTo>
                  <a:pt x="8161" y="14957"/>
                </a:moveTo>
                <a:cubicBezTo>
                  <a:pt x="8189" y="14957"/>
                  <a:pt x="8200" y="14959"/>
                  <a:pt x="8210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00240" y="5473800"/>
            <a:ext cx="2066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8334" y="15602"/>
                </a:moveTo>
                <a:cubicBezTo>
                  <a:pt x="8334" y="15676"/>
                  <a:pt x="8309" y="15709"/>
                  <a:pt x="8359" y="15701"/>
                </a:cubicBezTo>
                <a:cubicBezTo>
                  <a:pt x="8387" y="15655"/>
                  <a:pt x="8406" y="15610"/>
                  <a:pt x="8409" y="15553"/>
                </a:cubicBezTo>
                <a:cubicBezTo>
                  <a:pt x="8413" y="15488"/>
                  <a:pt x="8447" y="15445"/>
                  <a:pt x="8458" y="15379"/>
                </a:cubicBezTo>
                <a:cubicBezTo>
                  <a:pt x="8462" y="15353"/>
                  <a:pt x="8487" y="15243"/>
                  <a:pt x="8508" y="15230"/>
                </a:cubicBezTo>
                <a:cubicBezTo>
                  <a:pt x="8546" y="15206"/>
                  <a:pt x="8627" y="15193"/>
                  <a:pt x="8657" y="15230"/>
                </a:cubicBezTo>
                <a:cubicBezTo>
                  <a:pt x="8703" y="15287"/>
                  <a:pt x="8710" y="15341"/>
                  <a:pt x="8731" y="15404"/>
                </a:cubicBezTo>
                <a:cubicBezTo>
                  <a:pt x="8750" y="15461"/>
                  <a:pt x="8785" y="15523"/>
                  <a:pt x="8806" y="15577"/>
                </a:cubicBezTo>
                <a:cubicBezTo>
                  <a:pt x="8817" y="15605"/>
                  <a:pt x="8861" y="15713"/>
                  <a:pt x="8880" y="15726"/>
                </a:cubicBezTo>
                <a:cubicBezTo>
                  <a:pt x="8888" y="15726"/>
                  <a:pt x="8897" y="15726"/>
                  <a:pt x="8905" y="157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4160" y="5473800"/>
            <a:ext cx="19692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8954" y="15205"/>
                </a:moveTo>
                <a:cubicBezTo>
                  <a:pt x="9005" y="15277"/>
                  <a:pt x="9048" y="15361"/>
                  <a:pt x="9103" y="15429"/>
                </a:cubicBezTo>
                <a:cubicBezTo>
                  <a:pt x="9161" y="15500"/>
                  <a:pt x="9232" y="15594"/>
                  <a:pt x="9302" y="15652"/>
                </a:cubicBezTo>
                <a:cubicBezTo>
                  <a:pt x="9361" y="15701"/>
                  <a:pt x="9426" y="15761"/>
                  <a:pt x="9500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87800" y="5429160"/>
            <a:ext cx="187200" cy="214560"/>
          </a:xfrm>
          <a:custGeom>
            <a:avLst/>
            <a:gdLst/>
            <a:ahLst/>
            <a:rect l="l" t="t" r="r" b="b"/>
            <a:pathLst>
              <a:path w="522" h="597">
                <a:moveTo>
                  <a:pt x="9376" y="15081"/>
                </a:moveTo>
                <a:cubicBezTo>
                  <a:pt x="9267" y="15136"/>
                  <a:pt x="9196" y="15236"/>
                  <a:pt x="9103" y="15329"/>
                </a:cubicBezTo>
                <a:cubicBezTo>
                  <a:pt x="9021" y="15412"/>
                  <a:pt x="8932" y="15495"/>
                  <a:pt x="8880" y="15602"/>
                </a:cubicBezTo>
                <a:cubicBezTo>
                  <a:pt x="8872" y="15627"/>
                  <a:pt x="8863" y="15652"/>
                  <a:pt x="8855" y="156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6054840"/>
            <a:ext cx="152280" cy="330120"/>
          </a:xfrm>
          <a:custGeom>
            <a:avLst/>
            <a:gdLst/>
            <a:ahLst/>
            <a:rect l="l" t="t" r="r" b="b"/>
            <a:pathLst>
              <a:path w="422" h="918">
                <a:moveTo>
                  <a:pt x="8434" y="16818"/>
                </a:moveTo>
                <a:cubicBezTo>
                  <a:pt x="8434" y="16910"/>
                  <a:pt x="8453" y="16923"/>
                  <a:pt x="8458" y="16991"/>
                </a:cubicBezTo>
                <a:cubicBezTo>
                  <a:pt x="8458" y="17033"/>
                  <a:pt x="8450" y="17049"/>
                  <a:pt x="8483" y="17041"/>
                </a:cubicBezTo>
                <a:cubicBezTo>
                  <a:pt x="8475" y="17009"/>
                  <a:pt x="8469" y="16975"/>
                  <a:pt x="8458" y="16942"/>
                </a:cubicBezTo>
                <a:cubicBezTo>
                  <a:pt x="8442" y="16896"/>
                  <a:pt x="8408" y="16846"/>
                  <a:pt x="8359" y="16842"/>
                </a:cubicBezTo>
                <a:cubicBezTo>
                  <a:pt x="8295" y="16837"/>
                  <a:pt x="8261" y="16853"/>
                  <a:pt x="8210" y="16892"/>
                </a:cubicBezTo>
                <a:cubicBezTo>
                  <a:pt x="8165" y="16927"/>
                  <a:pt x="8131" y="17014"/>
                  <a:pt x="8111" y="17066"/>
                </a:cubicBezTo>
                <a:cubicBezTo>
                  <a:pt x="8084" y="17133"/>
                  <a:pt x="8045" y="17267"/>
                  <a:pt x="8062" y="17338"/>
                </a:cubicBezTo>
                <a:cubicBezTo>
                  <a:pt x="8089" y="17448"/>
                  <a:pt x="8145" y="17586"/>
                  <a:pt x="8235" y="17661"/>
                </a:cubicBezTo>
                <a:cubicBezTo>
                  <a:pt x="8298" y="17713"/>
                  <a:pt x="8335" y="17726"/>
                  <a:pt x="8409" y="177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89160" y="6062760"/>
            <a:ext cx="117720" cy="287280"/>
          </a:xfrm>
          <a:custGeom>
            <a:avLst/>
            <a:gdLst/>
            <a:ahLst/>
            <a:rect l="l" t="t" r="r" b="b"/>
            <a:pathLst>
              <a:path w="324" h="795">
                <a:moveTo>
                  <a:pt x="8830" y="16942"/>
                </a:moveTo>
                <a:cubicBezTo>
                  <a:pt x="8794" y="16868"/>
                  <a:pt x="8806" y="16835"/>
                  <a:pt x="8756" y="16842"/>
                </a:cubicBezTo>
                <a:cubicBezTo>
                  <a:pt x="8732" y="16848"/>
                  <a:pt x="8678" y="16886"/>
                  <a:pt x="8682" y="16917"/>
                </a:cubicBezTo>
                <a:cubicBezTo>
                  <a:pt x="8690" y="16973"/>
                  <a:pt x="8731" y="17040"/>
                  <a:pt x="8756" y="17090"/>
                </a:cubicBezTo>
                <a:cubicBezTo>
                  <a:pt x="8800" y="17177"/>
                  <a:pt x="8833" y="17279"/>
                  <a:pt x="8880" y="17363"/>
                </a:cubicBezTo>
                <a:cubicBezTo>
                  <a:pt x="8927" y="17446"/>
                  <a:pt x="8900" y="17503"/>
                  <a:pt x="8880" y="17587"/>
                </a:cubicBezTo>
                <a:cubicBezTo>
                  <a:pt x="8874" y="17614"/>
                  <a:pt x="8843" y="17633"/>
                  <a:pt x="8806" y="17636"/>
                </a:cubicBezTo>
                <a:cubicBezTo>
                  <a:pt x="8759" y="17639"/>
                  <a:pt x="8716" y="17634"/>
                  <a:pt x="8682" y="17611"/>
                </a:cubicBezTo>
                <a:cubicBezTo>
                  <a:pt x="8628" y="17576"/>
                  <a:pt x="8598" y="17522"/>
                  <a:pt x="8582" y="17462"/>
                </a:cubicBezTo>
                <a:cubicBezTo>
                  <a:pt x="8582" y="17454"/>
                  <a:pt x="8582" y="17446"/>
                  <a:pt x="8582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51160" y="6107040"/>
            <a:ext cx="123840" cy="23328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9227" y="16966"/>
                </a:moveTo>
                <a:cubicBezTo>
                  <a:pt x="9263" y="16975"/>
                  <a:pt x="9277" y="17078"/>
                  <a:pt x="9277" y="17041"/>
                </a:cubicBezTo>
                <a:cubicBezTo>
                  <a:pt x="9277" y="16989"/>
                  <a:pt x="9245" y="16991"/>
                  <a:pt x="9203" y="16991"/>
                </a:cubicBezTo>
                <a:cubicBezTo>
                  <a:pt x="9160" y="16991"/>
                  <a:pt x="9083" y="17029"/>
                  <a:pt x="9054" y="17066"/>
                </a:cubicBezTo>
                <a:cubicBezTo>
                  <a:pt x="9028" y="17100"/>
                  <a:pt x="9019" y="17195"/>
                  <a:pt x="9029" y="17239"/>
                </a:cubicBezTo>
                <a:cubicBezTo>
                  <a:pt x="9050" y="17335"/>
                  <a:pt x="9116" y="17414"/>
                  <a:pt x="9178" y="17487"/>
                </a:cubicBezTo>
                <a:cubicBezTo>
                  <a:pt x="9253" y="17576"/>
                  <a:pt x="9257" y="17600"/>
                  <a:pt x="9376" y="176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63920" y="61340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9624" y="17041"/>
                </a:moveTo>
                <a:cubicBezTo>
                  <a:pt x="9687" y="17220"/>
                  <a:pt x="9765" y="17326"/>
                  <a:pt x="9872" y="17487"/>
                </a:cubicBezTo>
                <a:cubicBezTo>
                  <a:pt x="9919" y="17558"/>
                  <a:pt x="9970" y="17631"/>
                  <a:pt x="10046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6153120"/>
            <a:ext cx="134640" cy="177840"/>
          </a:xfrm>
          <a:custGeom>
            <a:avLst/>
            <a:gdLst/>
            <a:ahLst/>
            <a:rect l="l" t="t" r="r" b="b"/>
            <a:pathLst>
              <a:path w="373" h="498">
                <a:moveTo>
                  <a:pt x="9872" y="17090"/>
                </a:moveTo>
                <a:cubicBezTo>
                  <a:pt x="9739" y="17230"/>
                  <a:pt x="9664" y="17342"/>
                  <a:pt x="9550" y="17487"/>
                </a:cubicBezTo>
                <a:cubicBezTo>
                  <a:pt x="9518" y="17528"/>
                  <a:pt x="9502" y="17576"/>
                  <a:pt x="9525" y="175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76760" y="611676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0492" y="16991"/>
                </a:moveTo>
                <a:cubicBezTo>
                  <a:pt x="10616" y="17009"/>
                  <a:pt x="10624" y="17017"/>
                  <a:pt x="10691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76760" y="6188040"/>
            <a:ext cx="81000" cy="27000"/>
          </a:xfrm>
          <a:custGeom>
            <a:avLst/>
            <a:gdLst/>
            <a:ahLst/>
            <a:rect l="l" t="t" r="r" b="b"/>
            <a:pathLst>
              <a:path w="225" h="75">
                <a:moveTo>
                  <a:pt x="10492" y="17190"/>
                </a:moveTo>
                <a:cubicBezTo>
                  <a:pt x="10565" y="17244"/>
                  <a:pt x="10621" y="17253"/>
                  <a:pt x="10716" y="172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224320"/>
            <a:ext cx="125640" cy="17640"/>
          </a:xfrm>
          <a:custGeom>
            <a:avLst/>
            <a:gdLst/>
            <a:ahLst/>
            <a:rect l="l" t="t" r="r" b="b"/>
            <a:pathLst>
              <a:path w="348" h="50">
                <a:moveTo>
                  <a:pt x="9947" y="14560"/>
                </a:moveTo>
                <a:cubicBezTo>
                  <a:pt x="10020" y="14549"/>
                  <a:pt x="10167" y="14557"/>
                  <a:pt x="10244" y="14536"/>
                </a:cubicBezTo>
                <a:cubicBezTo>
                  <a:pt x="10261" y="14528"/>
                  <a:pt x="10277" y="14519"/>
                  <a:pt x="10294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25920" y="5322960"/>
            <a:ext cx="106200" cy="3492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10071" y="14784"/>
                </a:moveTo>
                <a:cubicBezTo>
                  <a:pt x="10175" y="14832"/>
                  <a:pt x="10261" y="14853"/>
                  <a:pt x="10368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8960" y="5884920"/>
            <a:ext cx="357120" cy="349200"/>
          </a:xfrm>
          <a:custGeom>
            <a:avLst/>
            <a:gdLst/>
            <a:ahLst/>
            <a:rect l="l" t="t" r="r" b="b"/>
            <a:pathLst>
              <a:path w="993" h="969">
                <a:moveTo>
                  <a:pt x="4887" y="16644"/>
                </a:moveTo>
                <a:cubicBezTo>
                  <a:pt x="4915" y="16746"/>
                  <a:pt x="4952" y="16841"/>
                  <a:pt x="4986" y="16942"/>
                </a:cubicBezTo>
                <a:cubicBezTo>
                  <a:pt x="5017" y="17033"/>
                  <a:pt x="5075" y="17098"/>
                  <a:pt x="5110" y="17190"/>
                </a:cubicBezTo>
                <a:cubicBezTo>
                  <a:pt x="5125" y="17230"/>
                  <a:pt x="5141" y="17278"/>
                  <a:pt x="5159" y="17314"/>
                </a:cubicBezTo>
                <a:cubicBezTo>
                  <a:pt x="5168" y="17303"/>
                  <a:pt x="5203" y="17271"/>
                  <a:pt x="5209" y="17239"/>
                </a:cubicBezTo>
                <a:cubicBezTo>
                  <a:pt x="5225" y="17160"/>
                  <a:pt x="5284" y="17090"/>
                  <a:pt x="5333" y="17016"/>
                </a:cubicBezTo>
                <a:cubicBezTo>
                  <a:pt x="5409" y="16901"/>
                  <a:pt x="5500" y="16803"/>
                  <a:pt x="5581" y="16694"/>
                </a:cubicBezTo>
                <a:cubicBezTo>
                  <a:pt x="5673" y="16571"/>
                  <a:pt x="5775" y="16458"/>
                  <a:pt x="5879" y="163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35040" y="1143000"/>
            <a:ext cx="457200" cy="438120"/>
          </a:xfrm>
          <a:custGeom>
            <a:avLst/>
            <a:gdLst/>
            <a:ahLst/>
            <a:rect l="l" t="t" r="r" b="b"/>
            <a:pathLst>
              <a:path w="1266" h="1216">
                <a:moveTo>
                  <a:pt x="4291" y="3646"/>
                </a:moveTo>
                <a:cubicBezTo>
                  <a:pt x="4291" y="3695"/>
                  <a:pt x="4295" y="3708"/>
                  <a:pt x="4266" y="3746"/>
                </a:cubicBezTo>
                <a:cubicBezTo>
                  <a:pt x="4266" y="3810"/>
                  <a:pt x="4266" y="3707"/>
                  <a:pt x="4266" y="3696"/>
                </a:cubicBezTo>
                <a:cubicBezTo>
                  <a:pt x="4266" y="3682"/>
                  <a:pt x="4285" y="3587"/>
                  <a:pt x="4291" y="3572"/>
                </a:cubicBezTo>
                <a:cubicBezTo>
                  <a:pt x="4307" y="3535"/>
                  <a:pt x="4340" y="3478"/>
                  <a:pt x="4366" y="3448"/>
                </a:cubicBezTo>
                <a:cubicBezTo>
                  <a:pt x="4412" y="3395"/>
                  <a:pt x="4445" y="3355"/>
                  <a:pt x="4514" y="3349"/>
                </a:cubicBezTo>
                <a:cubicBezTo>
                  <a:pt x="4572" y="3344"/>
                  <a:pt x="4570" y="3369"/>
                  <a:pt x="4614" y="3398"/>
                </a:cubicBezTo>
                <a:cubicBezTo>
                  <a:pt x="4659" y="3427"/>
                  <a:pt x="4727" y="3487"/>
                  <a:pt x="4738" y="3547"/>
                </a:cubicBezTo>
                <a:cubicBezTo>
                  <a:pt x="4753" y="3631"/>
                  <a:pt x="4762" y="3708"/>
                  <a:pt x="4762" y="3795"/>
                </a:cubicBezTo>
                <a:cubicBezTo>
                  <a:pt x="4762" y="3910"/>
                  <a:pt x="4750" y="4008"/>
                  <a:pt x="4713" y="4118"/>
                </a:cubicBezTo>
                <a:cubicBezTo>
                  <a:pt x="4682" y="4212"/>
                  <a:pt x="4640" y="4239"/>
                  <a:pt x="4589" y="4316"/>
                </a:cubicBezTo>
                <a:cubicBezTo>
                  <a:pt x="4560" y="4360"/>
                  <a:pt x="4545" y="4384"/>
                  <a:pt x="4490" y="4390"/>
                </a:cubicBezTo>
                <a:cubicBezTo>
                  <a:pt x="4431" y="4396"/>
                  <a:pt x="4439" y="4377"/>
                  <a:pt x="4415" y="4341"/>
                </a:cubicBezTo>
                <a:cubicBezTo>
                  <a:pt x="4393" y="4309"/>
                  <a:pt x="4370" y="4282"/>
                  <a:pt x="4366" y="4242"/>
                </a:cubicBezTo>
                <a:cubicBezTo>
                  <a:pt x="4363" y="4218"/>
                  <a:pt x="4366" y="4191"/>
                  <a:pt x="4366" y="4167"/>
                </a:cubicBezTo>
                <a:cubicBezTo>
                  <a:pt x="4406" y="4167"/>
                  <a:pt x="4432" y="4174"/>
                  <a:pt x="4465" y="4192"/>
                </a:cubicBezTo>
                <a:cubicBezTo>
                  <a:pt x="4502" y="4212"/>
                  <a:pt x="4531" y="4234"/>
                  <a:pt x="4564" y="4266"/>
                </a:cubicBezTo>
                <a:cubicBezTo>
                  <a:pt x="4584" y="4285"/>
                  <a:pt x="4632" y="4308"/>
                  <a:pt x="4663" y="4291"/>
                </a:cubicBezTo>
                <a:cubicBezTo>
                  <a:pt x="4671" y="4283"/>
                  <a:pt x="4680" y="4274"/>
                  <a:pt x="4688" y="4266"/>
                </a:cubicBezTo>
              </a:path>
              <a:path w="1266" h="1216">
                <a:moveTo>
                  <a:pt x="4986" y="3249"/>
                </a:moveTo>
                <a:cubicBezTo>
                  <a:pt x="5042" y="3249"/>
                  <a:pt x="5083" y="3233"/>
                  <a:pt x="5135" y="3225"/>
                </a:cubicBezTo>
                <a:cubicBezTo>
                  <a:pt x="5199" y="3215"/>
                  <a:pt x="5269" y="3209"/>
                  <a:pt x="5333" y="3200"/>
                </a:cubicBezTo>
                <a:cubicBezTo>
                  <a:pt x="5390" y="3192"/>
                  <a:pt x="5433" y="3183"/>
                  <a:pt x="5482" y="3175"/>
                </a:cubicBezTo>
                <a:cubicBezTo>
                  <a:pt x="5507" y="3175"/>
                  <a:pt x="5515" y="3175"/>
                  <a:pt x="5531" y="3175"/>
                </a:cubicBezTo>
                <a:cubicBezTo>
                  <a:pt x="5514" y="3211"/>
                  <a:pt x="5511" y="3242"/>
                  <a:pt x="5482" y="3274"/>
                </a:cubicBezTo>
                <a:cubicBezTo>
                  <a:pt x="5440" y="3320"/>
                  <a:pt x="5418" y="3359"/>
                  <a:pt x="5407" y="3423"/>
                </a:cubicBezTo>
                <a:cubicBezTo>
                  <a:pt x="5395" y="3497"/>
                  <a:pt x="5367" y="3574"/>
                  <a:pt x="5358" y="3646"/>
                </a:cubicBezTo>
                <a:cubicBezTo>
                  <a:pt x="5344" y="3756"/>
                  <a:pt x="5314" y="3866"/>
                  <a:pt x="5283" y="3969"/>
                </a:cubicBezTo>
                <a:cubicBezTo>
                  <a:pt x="5263" y="4036"/>
                  <a:pt x="5237" y="4096"/>
                  <a:pt x="5234" y="4167"/>
                </a:cubicBezTo>
                <a:cubicBezTo>
                  <a:pt x="5231" y="4225"/>
                  <a:pt x="5216" y="4231"/>
                  <a:pt x="5209" y="4266"/>
                </a:cubicBezTo>
                <a:cubicBezTo>
                  <a:pt x="5209" y="4291"/>
                  <a:pt x="5209" y="4299"/>
                  <a:pt x="5209" y="4316"/>
                </a:cubicBezTo>
              </a:path>
              <a:path w="1266" h="1216">
                <a:moveTo>
                  <a:pt x="5531" y="4242"/>
                </a:moveTo>
                <a:cubicBezTo>
                  <a:pt x="5523" y="4234"/>
                  <a:pt x="5515" y="4225"/>
                  <a:pt x="5507" y="42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28920" y="1170000"/>
            <a:ext cx="3027240" cy="527040"/>
          </a:xfrm>
          <a:custGeom>
            <a:avLst/>
            <a:gdLst/>
            <a:ahLst/>
            <a:rect l="l" t="t" r="r" b="b"/>
            <a:pathLst>
              <a:path w="8410" h="1465">
                <a:moveTo>
                  <a:pt x="7367" y="3696"/>
                </a:moveTo>
                <a:cubicBezTo>
                  <a:pt x="7451" y="3682"/>
                  <a:pt x="7387" y="3690"/>
                  <a:pt x="7441" y="3671"/>
                </a:cubicBezTo>
                <a:cubicBezTo>
                  <a:pt x="7432" y="3644"/>
                  <a:pt x="7424" y="3625"/>
                  <a:pt x="7392" y="3621"/>
                </a:cubicBezTo>
                <a:cubicBezTo>
                  <a:pt x="7320" y="3612"/>
                  <a:pt x="7282" y="3630"/>
                  <a:pt x="7218" y="3646"/>
                </a:cubicBezTo>
                <a:cubicBezTo>
                  <a:pt x="7178" y="3656"/>
                  <a:pt x="7156" y="3684"/>
                  <a:pt x="7119" y="3696"/>
                </a:cubicBezTo>
                <a:cubicBezTo>
                  <a:pt x="7087" y="3707"/>
                  <a:pt x="7080" y="3714"/>
                  <a:pt x="7069" y="3746"/>
                </a:cubicBezTo>
                <a:cubicBezTo>
                  <a:pt x="7102" y="3754"/>
                  <a:pt x="7164" y="3781"/>
                  <a:pt x="7193" y="3795"/>
                </a:cubicBezTo>
                <a:cubicBezTo>
                  <a:pt x="7249" y="3824"/>
                  <a:pt x="7308" y="3865"/>
                  <a:pt x="7367" y="3894"/>
                </a:cubicBezTo>
                <a:cubicBezTo>
                  <a:pt x="7413" y="3917"/>
                  <a:pt x="7477" y="3991"/>
                  <a:pt x="7491" y="4043"/>
                </a:cubicBezTo>
                <a:cubicBezTo>
                  <a:pt x="7511" y="4117"/>
                  <a:pt x="7484" y="4165"/>
                  <a:pt x="7441" y="4217"/>
                </a:cubicBezTo>
                <a:cubicBezTo>
                  <a:pt x="7391" y="4277"/>
                  <a:pt x="7336" y="4307"/>
                  <a:pt x="7268" y="4341"/>
                </a:cubicBezTo>
                <a:cubicBezTo>
                  <a:pt x="7207" y="4371"/>
                  <a:pt x="7160" y="4366"/>
                  <a:pt x="7094" y="4366"/>
                </a:cubicBezTo>
                <a:cubicBezTo>
                  <a:pt x="7029" y="4366"/>
                  <a:pt x="7044" y="4320"/>
                  <a:pt x="7045" y="4316"/>
                </a:cubicBezTo>
                <a:cubicBezTo>
                  <a:pt x="7045" y="4308"/>
                  <a:pt x="7045" y="4299"/>
                  <a:pt x="7045" y="4291"/>
                </a:cubicBezTo>
              </a:path>
              <a:path w="8410" h="1465">
                <a:moveTo>
                  <a:pt x="7789" y="3969"/>
                </a:moveTo>
                <a:cubicBezTo>
                  <a:pt x="7863" y="3946"/>
                  <a:pt x="7899" y="3931"/>
                  <a:pt x="7962" y="3894"/>
                </a:cubicBezTo>
                <a:cubicBezTo>
                  <a:pt x="7991" y="3877"/>
                  <a:pt x="8071" y="3850"/>
                  <a:pt x="8086" y="3820"/>
                </a:cubicBezTo>
                <a:cubicBezTo>
                  <a:pt x="8101" y="3789"/>
                  <a:pt x="8118" y="3718"/>
                  <a:pt x="8086" y="3696"/>
                </a:cubicBezTo>
                <a:cubicBezTo>
                  <a:pt x="8048" y="3670"/>
                  <a:pt x="8019" y="3716"/>
                  <a:pt x="8012" y="3721"/>
                </a:cubicBezTo>
                <a:cubicBezTo>
                  <a:pt x="7963" y="3757"/>
                  <a:pt x="7908" y="3778"/>
                  <a:pt x="7863" y="3820"/>
                </a:cubicBezTo>
                <a:cubicBezTo>
                  <a:pt x="7802" y="3877"/>
                  <a:pt x="7776" y="3945"/>
                  <a:pt x="7739" y="4018"/>
                </a:cubicBezTo>
                <a:cubicBezTo>
                  <a:pt x="7711" y="4075"/>
                  <a:pt x="7651" y="4150"/>
                  <a:pt x="7665" y="4217"/>
                </a:cubicBezTo>
                <a:cubicBezTo>
                  <a:pt x="7684" y="4305"/>
                  <a:pt x="7731" y="4305"/>
                  <a:pt x="7789" y="4341"/>
                </a:cubicBezTo>
                <a:cubicBezTo>
                  <a:pt x="7849" y="4377"/>
                  <a:pt x="7901" y="4363"/>
                  <a:pt x="7962" y="4316"/>
                </a:cubicBezTo>
                <a:cubicBezTo>
                  <a:pt x="8012" y="4266"/>
                  <a:pt x="8028" y="4250"/>
                  <a:pt x="8062" y="4217"/>
                </a:cubicBezTo>
              </a:path>
              <a:path w="8410" h="1465">
                <a:moveTo>
                  <a:pt x="8830" y="3746"/>
                </a:moveTo>
                <a:cubicBezTo>
                  <a:pt x="8814" y="3695"/>
                  <a:pt x="8806" y="3701"/>
                  <a:pt x="8731" y="3696"/>
                </a:cubicBezTo>
                <a:cubicBezTo>
                  <a:pt x="8686" y="3693"/>
                  <a:pt x="8665" y="3692"/>
                  <a:pt x="8632" y="3721"/>
                </a:cubicBezTo>
                <a:cubicBezTo>
                  <a:pt x="8585" y="3762"/>
                  <a:pt x="8539" y="3818"/>
                  <a:pt x="8508" y="3870"/>
                </a:cubicBezTo>
                <a:cubicBezTo>
                  <a:pt x="8469" y="3936"/>
                  <a:pt x="8438" y="4018"/>
                  <a:pt x="8434" y="4093"/>
                </a:cubicBezTo>
                <a:cubicBezTo>
                  <a:pt x="8429" y="4188"/>
                  <a:pt x="8417" y="4237"/>
                  <a:pt x="8483" y="4291"/>
                </a:cubicBezTo>
                <a:cubicBezTo>
                  <a:pt x="8513" y="4316"/>
                  <a:pt x="8590" y="4351"/>
                  <a:pt x="8632" y="4341"/>
                </a:cubicBezTo>
                <a:cubicBezTo>
                  <a:pt x="8753" y="4313"/>
                  <a:pt x="8821" y="4227"/>
                  <a:pt x="8905" y="4142"/>
                </a:cubicBezTo>
              </a:path>
              <a:path w="8410" h="1465">
                <a:moveTo>
                  <a:pt x="9575" y="3373"/>
                </a:moveTo>
                <a:cubicBezTo>
                  <a:pt x="9542" y="3406"/>
                  <a:pt x="9468" y="3466"/>
                  <a:pt x="9451" y="3497"/>
                </a:cubicBezTo>
                <a:cubicBezTo>
                  <a:pt x="9389" y="3606"/>
                  <a:pt x="9337" y="3710"/>
                  <a:pt x="9277" y="3820"/>
                </a:cubicBezTo>
                <a:cubicBezTo>
                  <a:pt x="9231" y="3905"/>
                  <a:pt x="9227" y="3974"/>
                  <a:pt x="9227" y="4068"/>
                </a:cubicBezTo>
                <a:cubicBezTo>
                  <a:pt x="9227" y="4139"/>
                  <a:pt x="9237" y="4201"/>
                  <a:pt x="9302" y="4242"/>
                </a:cubicBezTo>
                <a:cubicBezTo>
                  <a:pt x="9352" y="4274"/>
                  <a:pt x="9394" y="4266"/>
                  <a:pt x="9451" y="4266"/>
                </a:cubicBezTo>
              </a:path>
              <a:path w="8410" h="1465">
                <a:moveTo>
                  <a:pt x="9699" y="3770"/>
                </a:moveTo>
                <a:cubicBezTo>
                  <a:pt x="9752" y="3845"/>
                  <a:pt x="9791" y="3946"/>
                  <a:pt x="9847" y="4018"/>
                </a:cubicBezTo>
                <a:cubicBezTo>
                  <a:pt x="9901" y="4088"/>
                  <a:pt x="9982" y="4133"/>
                  <a:pt x="10046" y="4192"/>
                </a:cubicBezTo>
                <a:cubicBezTo>
                  <a:pt x="10081" y="4224"/>
                  <a:pt x="10099" y="4217"/>
                  <a:pt x="10145" y="4217"/>
                </a:cubicBezTo>
                <a:cubicBezTo>
                  <a:pt x="10153" y="4217"/>
                  <a:pt x="10162" y="4217"/>
                  <a:pt x="10170" y="4217"/>
                </a:cubicBezTo>
              </a:path>
              <a:path w="8410" h="1465">
                <a:moveTo>
                  <a:pt x="9401" y="4093"/>
                </a:moveTo>
                <a:cubicBezTo>
                  <a:pt x="9437" y="4071"/>
                  <a:pt x="9504" y="4051"/>
                  <a:pt x="9550" y="4043"/>
                </a:cubicBezTo>
                <a:cubicBezTo>
                  <a:pt x="9588" y="4036"/>
                  <a:pt x="9635" y="4043"/>
                  <a:pt x="9674" y="4043"/>
                </a:cubicBezTo>
              </a:path>
              <a:path w="8410" h="1465">
                <a:moveTo>
                  <a:pt x="10145" y="3671"/>
                </a:moveTo>
                <a:cubicBezTo>
                  <a:pt x="10086" y="3753"/>
                  <a:pt x="10049" y="3838"/>
                  <a:pt x="9996" y="3919"/>
                </a:cubicBezTo>
                <a:cubicBezTo>
                  <a:pt x="9947" y="3993"/>
                  <a:pt x="9879" y="4075"/>
                  <a:pt x="9823" y="4142"/>
                </a:cubicBezTo>
                <a:cubicBezTo>
                  <a:pt x="9782" y="4191"/>
                  <a:pt x="9723" y="4255"/>
                  <a:pt x="9699" y="4316"/>
                </a:cubicBezTo>
                <a:cubicBezTo>
                  <a:pt x="9685" y="4353"/>
                  <a:pt x="9700" y="4358"/>
                  <a:pt x="9723" y="4366"/>
                </a:cubicBezTo>
              </a:path>
              <a:path w="8410" h="1465">
                <a:moveTo>
                  <a:pt x="10443" y="3249"/>
                </a:moveTo>
                <a:cubicBezTo>
                  <a:pt x="10484" y="3363"/>
                  <a:pt x="10540" y="3459"/>
                  <a:pt x="10567" y="3572"/>
                </a:cubicBezTo>
                <a:cubicBezTo>
                  <a:pt x="10594" y="3686"/>
                  <a:pt x="10611" y="3803"/>
                  <a:pt x="10616" y="3919"/>
                </a:cubicBezTo>
                <a:cubicBezTo>
                  <a:pt x="10619" y="3980"/>
                  <a:pt x="10604" y="4091"/>
                  <a:pt x="10567" y="4142"/>
                </a:cubicBezTo>
                <a:cubicBezTo>
                  <a:pt x="10527" y="4197"/>
                  <a:pt x="10467" y="4277"/>
                  <a:pt x="10418" y="4316"/>
                </a:cubicBezTo>
                <a:cubicBezTo>
                  <a:pt x="10382" y="4345"/>
                  <a:pt x="10328" y="4344"/>
                  <a:pt x="10294" y="4366"/>
                </a:cubicBezTo>
                <a:cubicBezTo>
                  <a:pt x="10240" y="4401"/>
                  <a:pt x="10248" y="4406"/>
                  <a:pt x="10294" y="4366"/>
                </a:cubicBezTo>
                <a:cubicBezTo>
                  <a:pt x="10319" y="4341"/>
                  <a:pt x="10327" y="4333"/>
                  <a:pt x="10344" y="4316"/>
                </a:cubicBezTo>
              </a:path>
              <a:path w="8410" h="1465">
                <a:moveTo>
                  <a:pt x="11237" y="4043"/>
                </a:moveTo>
                <a:cubicBezTo>
                  <a:pt x="11321" y="4043"/>
                  <a:pt x="11360" y="4049"/>
                  <a:pt x="11435" y="4068"/>
                </a:cubicBezTo>
                <a:cubicBezTo>
                  <a:pt x="11491" y="4082"/>
                  <a:pt x="11624" y="4033"/>
                  <a:pt x="11584" y="4093"/>
                </a:cubicBezTo>
              </a:path>
              <a:path w="8410" h="1465">
                <a:moveTo>
                  <a:pt x="11286" y="4266"/>
                </a:moveTo>
                <a:cubicBezTo>
                  <a:pt x="11361" y="4294"/>
                  <a:pt x="11410" y="4272"/>
                  <a:pt x="11485" y="4291"/>
                </a:cubicBezTo>
                <a:cubicBezTo>
                  <a:pt x="11544" y="4306"/>
                  <a:pt x="11606" y="4325"/>
                  <a:pt x="11658" y="4341"/>
                </a:cubicBezTo>
                <a:cubicBezTo>
                  <a:pt x="11697" y="4353"/>
                  <a:pt x="11697" y="4349"/>
                  <a:pt x="11708" y="4390"/>
                </a:cubicBezTo>
              </a:path>
              <a:path w="8410" h="1465">
                <a:moveTo>
                  <a:pt x="6747" y="4638"/>
                </a:moveTo>
                <a:cubicBezTo>
                  <a:pt x="6799" y="4655"/>
                  <a:pt x="6805" y="4663"/>
                  <a:pt x="6871" y="4663"/>
                </a:cubicBezTo>
                <a:cubicBezTo>
                  <a:pt x="7003" y="4663"/>
                  <a:pt x="7099" y="4685"/>
                  <a:pt x="7243" y="4688"/>
                </a:cubicBezTo>
                <a:cubicBezTo>
                  <a:pt x="7715" y="4698"/>
                  <a:pt x="8188" y="4687"/>
                  <a:pt x="8657" y="4663"/>
                </a:cubicBezTo>
                <a:cubicBezTo>
                  <a:pt x="8883" y="4651"/>
                  <a:pt x="9105" y="4673"/>
                  <a:pt x="9327" y="4688"/>
                </a:cubicBezTo>
                <a:cubicBezTo>
                  <a:pt x="9542" y="4702"/>
                  <a:pt x="10137" y="4688"/>
                  <a:pt x="9922" y="4688"/>
                </a:cubicBezTo>
                <a:cubicBezTo>
                  <a:pt x="9905" y="4688"/>
                  <a:pt x="9889" y="4688"/>
                  <a:pt x="9872" y="4688"/>
                </a:cubicBezTo>
              </a:path>
              <a:path w="8410" h="1465">
                <a:moveTo>
                  <a:pt x="12229" y="4415"/>
                </a:moveTo>
                <a:cubicBezTo>
                  <a:pt x="12314" y="4415"/>
                  <a:pt x="12374" y="4403"/>
                  <a:pt x="12452" y="4390"/>
                </a:cubicBezTo>
                <a:cubicBezTo>
                  <a:pt x="12531" y="4377"/>
                  <a:pt x="12653" y="4378"/>
                  <a:pt x="12700" y="4366"/>
                </a:cubicBezTo>
                <a:cubicBezTo>
                  <a:pt x="12717" y="4366"/>
                  <a:pt x="12733" y="4366"/>
                  <a:pt x="12750" y="4366"/>
                </a:cubicBezTo>
              </a:path>
              <a:path w="8410" h="1465">
                <a:moveTo>
                  <a:pt x="13370" y="3746"/>
                </a:moveTo>
                <a:cubicBezTo>
                  <a:pt x="13370" y="3974"/>
                  <a:pt x="13324" y="4283"/>
                  <a:pt x="13395" y="4490"/>
                </a:cubicBezTo>
                <a:cubicBezTo>
                  <a:pt x="13419" y="4560"/>
                  <a:pt x="13330" y="4453"/>
                  <a:pt x="13320" y="4440"/>
                </a:cubicBezTo>
              </a:path>
              <a:path w="8410" h="1465">
                <a:moveTo>
                  <a:pt x="13097" y="4217"/>
                </a:moveTo>
                <a:cubicBezTo>
                  <a:pt x="13141" y="4190"/>
                  <a:pt x="13217" y="4176"/>
                  <a:pt x="13271" y="4167"/>
                </a:cubicBezTo>
                <a:cubicBezTo>
                  <a:pt x="13383" y="4148"/>
                  <a:pt x="13506" y="4157"/>
                  <a:pt x="13618" y="4142"/>
                </a:cubicBezTo>
                <a:cubicBezTo>
                  <a:pt x="13689" y="4132"/>
                  <a:pt x="13756" y="4111"/>
                  <a:pt x="13816" y="4093"/>
                </a:cubicBezTo>
                <a:cubicBezTo>
                  <a:pt x="13841" y="4093"/>
                  <a:pt x="13849" y="4093"/>
                  <a:pt x="13866" y="4093"/>
                </a:cubicBezTo>
                <a:cubicBezTo>
                  <a:pt x="13840" y="4172"/>
                  <a:pt x="13779" y="4221"/>
                  <a:pt x="13742" y="4291"/>
                </a:cubicBezTo>
                <a:cubicBezTo>
                  <a:pt x="13698" y="4376"/>
                  <a:pt x="13667" y="4418"/>
                  <a:pt x="13667" y="4514"/>
                </a:cubicBezTo>
                <a:cubicBezTo>
                  <a:pt x="13667" y="4560"/>
                  <a:pt x="13665" y="4583"/>
                  <a:pt x="13717" y="4589"/>
                </a:cubicBezTo>
                <a:cubicBezTo>
                  <a:pt x="13753" y="4593"/>
                  <a:pt x="13804" y="4580"/>
                  <a:pt x="13816" y="4539"/>
                </a:cubicBezTo>
                <a:cubicBezTo>
                  <a:pt x="13833" y="4480"/>
                  <a:pt x="13841" y="4433"/>
                  <a:pt x="13841" y="4366"/>
                </a:cubicBezTo>
                <a:cubicBezTo>
                  <a:pt x="13841" y="4332"/>
                  <a:pt x="13841" y="4166"/>
                  <a:pt x="13841" y="4217"/>
                </a:cubicBezTo>
                <a:cubicBezTo>
                  <a:pt x="13841" y="4290"/>
                  <a:pt x="13855" y="4348"/>
                  <a:pt x="13866" y="4415"/>
                </a:cubicBezTo>
                <a:cubicBezTo>
                  <a:pt x="13879" y="4492"/>
                  <a:pt x="13885" y="4478"/>
                  <a:pt x="13940" y="4514"/>
                </a:cubicBezTo>
                <a:cubicBezTo>
                  <a:pt x="13992" y="4549"/>
                  <a:pt x="14012" y="4549"/>
                  <a:pt x="14039" y="4514"/>
                </a:cubicBezTo>
                <a:cubicBezTo>
                  <a:pt x="14047" y="4506"/>
                  <a:pt x="14056" y="4498"/>
                  <a:pt x="14064" y="4490"/>
                </a:cubicBezTo>
              </a:path>
              <a:path w="8410" h="1465">
                <a:moveTo>
                  <a:pt x="14163" y="4266"/>
                </a:moveTo>
                <a:cubicBezTo>
                  <a:pt x="14163" y="4332"/>
                  <a:pt x="14163" y="4399"/>
                  <a:pt x="14163" y="4465"/>
                </a:cubicBezTo>
                <a:cubicBezTo>
                  <a:pt x="14163" y="4409"/>
                  <a:pt x="14165" y="4338"/>
                  <a:pt x="14188" y="4291"/>
                </a:cubicBezTo>
                <a:cubicBezTo>
                  <a:pt x="14213" y="4242"/>
                  <a:pt x="14220" y="4210"/>
                  <a:pt x="14263" y="4167"/>
                </a:cubicBezTo>
                <a:cubicBezTo>
                  <a:pt x="14311" y="4119"/>
                  <a:pt x="14352" y="4102"/>
                  <a:pt x="14412" y="4142"/>
                </a:cubicBezTo>
                <a:cubicBezTo>
                  <a:pt x="14467" y="4179"/>
                  <a:pt x="14469" y="4242"/>
                  <a:pt x="14486" y="4291"/>
                </a:cubicBezTo>
                <a:cubicBezTo>
                  <a:pt x="14506" y="4348"/>
                  <a:pt x="14512" y="4416"/>
                  <a:pt x="14536" y="4465"/>
                </a:cubicBezTo>
                <a:cubicBezTo>
                  <a:pt x="14553" y="4500"/>
                  <a:pt x="14580" y="4490"/>
                  <a:pt x="14610" y="4490"/>
                </a:cubicBezTo>
              </a:path>
              <a:path w="8410" h="1465">
                <a:moveTo>
                  <a:pt x="14833" y="4266"/>
                </a:moveTo>
                <a:cubicBezTo>
                  <a:pt x="14860" y="4332"/>
                  <a:pt x="14887" y="4446"/>
                  <a:pt x="14957" y="4490"/>
                </a:cubicBezTo>
                <a:cubicBezTo>
                  <a:pt x="14988" y="4509"/>
                  <a:pt x="15049" y="4535"/>
                  <a:pt x="15081" y="4539"/>
                </a:cubicBezTo>
                <a:cubicBezTo>
                  <a:pt x="15109" y="4539"/>
                  <a:pt x="15120" y="4537"/>
                  <a:pt x="15131" y="4514"/>
                </a:cubicBezTo>
              </a:path>
              <a:path w="8410" h="1465">
                <a:moveTo>
                  <a:pt x="15156" y="4341"/>
                </a:moveTo>
                <a:cubicBezTo>
                  <a:pt x="15077" y="4415"/>
                  <a:pt x="14949" y="4498"/>
                  <a:pt x="14883" y="4589"/>
                </a:cubicBezTo>
                <a:cubicBezTo>
                  <a:pt x="14842" y="4646"/>
                  <a:pt x="14825" y="4686"/>
                  <a:pt x="14759" y="47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847880"/>
            <a:ext cx="1187640" cy="358920"/>
          </a:xfrm>
          <a:custGeom>
            <a:avLst/>
            <a:gdLst/>
            <a:ahLst/>
            <a:rect l="l" t="t" r="r" b="b"/>
            <a:pathLst>
              <a:path w="3300" h="993">
                <a:moveTo>
                  <a:pt x="7094" y="5283"/>
                </a:moveTo>
                <a:cubicBezTo>
                  <a:pt x="7111" y="5323"/>
                  <a:pt x="7124" y="5422"/>
                  <a:pt x="7144" y="5383"/>
                </a:cubicBezTo>
                <a:cubicBezTo>
                  <a:pt x="7153" y="5365"/>
                  <a:pt x="7103" y="5315"/>
                  <a:pt x="7094" y="5308"/>
                </a:cubicBezTo>
                <a:cubicBezTo>
                  <a:pt x="7053" y="5272"/>
                  <a:pt x="7050" y="5259"/>
                  <a:pt x="6995" y="5259"/>
                </a:cubicBezTo>
                <a:cubicBezTo>
                  <a:pt x="6934" y="5259"/>
                  <a:pt x="6928" y="5319"/>
                  <a:pt x="6896" y="5358"/>
                </a:cubicBezTo>
                <a:cubicBezTo>
                  <a:pt x="6844" y="5421"/>
                  <a:pt x="6802" y="5478"/>
                  <a:pt x="6772" y="5556"/>
                </a:cubicBezTo>
                <a:cubicBezTo>
                  <a:pt x="6741" y="5636"/>
                  <a:pt x="6709" y="5719"/>
                  <a:pt x="6697" y="5804"/>
                </a:cubicBezTo>
                <a:cubicBezTo>
                  <a:pt x="6689" y="5857"/>
                  <a:pt x="6719" y="5958"/>
                  <a:pt x="6747" y="6003"/>
                </a:cubicBezTo>
                <a:cubicBezTo>
                  <a:pt x="6778" y="6053"/>
                  <a:pt x="6845" y="6065"/>
                  <a:pt x="6896" y="6077"/>
                </a:cubicBezTo>
                <a:cubicBezTo>
                  <a:pt x="6968" y="6094"/>
                  <a:pt x="7058" y="6064"/>
                  <a:pt x="7119" y="6028"/>
                </a:cubicBezTo>
                <a:cubicBezTo>
                  <a:pt x="7152" y="5995"/>
                  <a:pt x="7169" y="5978"/>
                  <a:pt x="7193" y="5953"/>
                </a:cubicBezTo>
              </a:path>
              <a:path w="3300" h="993">
                <a:moveTo>
                  <a:pt x="7615" y="5358"/>
                </a:moveTo>
                <a:cubicBezTo>
                  <a:pt x="7530" y="5382"/>
                  <a:pt x="7458" y="5397"/>
                  <a:pt x="7392" y="5457"/>
                </a:cubicBezTo>
                <a:cubicBezTo>
                  <a:pt x="7361" y="5485"/>
                  <a:pt x="7355" y="5498"/>
                  <a:pt x="7317" y="5507"/>
                </a:cubicBezTo>
                <a:cubicBezTo>
                  <a:pt x="7355" y="5593"/>
                  <a:pt x="7337" y="5577"/>
                  <a:pt x="7417" y="5606"/>
                </a:cubicBezTo>
                <a:cubicBezTo>
                  <a:pt x="7482" y="5629"/>
                  <a:pt x="7551" y="5672"/>
                  <a:pt x="7590" y="5730"/>
                </a:cubicBezTo>
                <a:cubicBezTo>
                  <a:pt x="7602" y="5748"/>
                  <a:pt x="7675" y="5831"/>
                  <a:pt x="7665" y="5854"/>
                </a:cubicBezTo>
                <a:cubicBezTo>
                  <a:pt x="7649" y="5889"/>
                  <a:pt x="7605" y="5942"/>
                  <a:pt x="7565" y="5953"/>
                </a:cubicBezTo>
                <a:cubicBezTo>
                  <a:pt x="7512" y="5967"/>
                  <a:pt x="7439" y="5994"/>
                  <a:pt x="7392" y="6003"/>
                </a:cubicBezTo>
                <a:cubicBezTo>
                  <a:pt x="7321" y="6017"/>
                  <a:pt x="7304" y="6004"/>
                  <a:pt x="7342" y="5953"/>
                </a:cubicBezTo>
              </a:path>
              <a:path w="3300" h="993">
                <a:moveTo>
                  <a:pt x="8285" y="5383"/>
                </a:moveTo>
                <a:cubicBezTo>
                  <a:pt x="8301" y="5383"/>
                  <a:pt x="8318" y="5383"/>
                  <a:pt x="8334" y="5383"/>
                </a:cubicBezTo>
                <a:cubicBezTo>
                  <a:pt x="8259" y="5383"/>
                  <a:pt x="8152" y="5363"/>
                  <a:pt x="8086" y="5407"/>
                </a:cubicBezTo>
                <a:cubicBezTo>
                  <a:pt x="8043" y="5436"/>
                  <a:pt x="8010" y="5487"/>
                  <a:pt x="7987" y="5531"/>
                </a:cubicBezTo>
                <a:cubicBezTo>
                  <a:pt x="7940" y="5620"/>
                  <a:pt x="7918" y="5702"/>
                  <a:pt x="7913" y="5804"/>
                </a:cubicBezTo>
                <a:cubicBezTo>
                  <a:pt x="7909" y="5879"/>
                  <a:pt x="7937" y="5890"/>
                  <a:pt x="7962" y="5953"/>
                </a:cubicBezTo>
                <a:cubicBezTo>
                  <a:pt x="7976" y="5988"/>
                  <a:pt x="8018" y="6025"/>
                  <a:pt x="8062" y="6028"/>
                </a:cubicBezTo>
                <a:cubicBezTo>
                  <a:pt x="8142" y="6034"/>
                  <a:pt x="8169" y="6017"/>
                  <a:pt x="8235" y="5978"/>
                </a:cubicBezTo>
              </a:path>
              <a:path w="3300" h="993">
                <a:moveTo>
                  <a:pt x="8930" y="5159"/>
                </a:moveTo>
                <a:cubicBezTo>
                  <a:pt x="8844" y="5214"/>
                  <a:pt x="8791" y="5252"/>
                  <a:pt x="8731" y="5333"/>
                </a:cubicBezTo>
                <a:cubicBezTo>
                  <a:pt x="8661" y="5428"/>
                  <a:pt x="8619" y="5493"/>
                  <a:pt x="8582" y="5606"/>
                </a:cubicBezTo>
                <a:cubicBezTo>
                  <a:pt x="8562" y="5666"/>
                  <a:pt x="8519" y="5792"/>
                  <a:pt x="8533" y="5854"/>
                </a:cubicBezTo>
                <a:cubicBezTo>
                  <a:pt x="8543" y="5898"/>
                  <a:pt x="8558" y="5981"/>
                  <a:pt x="8607" y="6003"/>
                </a:cubicBezTo>
                <a:cubicBezTo>
                  <a:pt x="8647" y="6021"/>
                  <a:pt x="8677" y="5996"/>
                  <a:pt x="8706" y="5978"/>
                </a:cubicBezTo>
              </a:path>
              <a:path w="3300" h="993">
                <a:moveTo>
                  <a:pt x="8954" y="5581"/>
                </a:moveTo>
                <a:cubicBezTo>
                  <a:pt x="9036" y="5543"/>
                  <a:pt x="9091" y="5513"/>
                  <a:pt x="9178" y="5507"/>
                </a:cubicBezTo>
                <a:cubicBezTo>
                  <a:pt x="9186" y="5507"/>
                  <a:pt x="9195" y="5507"/>
                  <a:pt x="9203" y="5507"/>
                </a:cubicBezTo>
              </a:path>
              <a:path w="3300" h="993">
                <a:moveTo>
                  <a:pt x="9327" y="5507"/>
                </a:moveTo>
                <a:cubicBezTo>
                  <a:pt x="9394" y="5610"/>
                  <a:pt x="9440" y="5681"/>
                  <a:pt x="9525" y="5755"/>
                </a:cubicBezTo>
                <a:cubicBezTo>
                  <a:pt x="9587" y="5809"/>
                  <a:pt x="9625" y="5841"/>
                  <a:pt x="9699" y="5879"/>
                </a:cubicBezTo>
                <a:cubicBezTo>
                  <a:pt x="9724" y="5891"/>
                  <a:pt x="9790" y="5923"/>
                  <a:pt x="9823" y="5904"/>
                </a:cubicBezTo>
                <a:cubicBezTo>
                  <a:pt x="9831" y="5896"/>
                  <a:pt x="9839" y="5887"/>
                  <a:pt x="9847" y="5879"/>
                </a:cubicBezTo>
              </a:path>
              <a:path w="3300" h="993">
                <a:moveTo>
                  <a:pt x="9699" y="5432"/>
                </a:moveTo>
                <a:cubicBezTo>
                  <a:pt x="9615" y="5499"/>
                  <a:pt x="9580" y="5559"/>
                  <a:pt x="9525" y="5655"/>
                </a:cubicBezTo>
                <a:cubicBezTo>
                  <a:pt x="9479" y="5735"/>
                  <a:pt x="9426" y="5805"/>
                  <a:pt x="9376" y="5879"/>
                </a:cubicBezTo>
                <a:cubicBezTo>
                  <a:pt x="9339" y="5933"/>
                  <a:pt x="9325" y="5981"/>
                  <a:pt x="9277" y="6028"/>
                </a:cubicBezTo>
                <a:cubicBezTo>
                  <a:pt x="9255" y="6050"/>
                  <a:pt x="9246" y="6061"/>
                  <a:pt x="9252" y="6028"/>
                </a:cubicBezTo>
              </a:path>
              <a:path w="3300" h="993">
                <a:moveTo>
                  <a:pt x="9823" y="5135"/>
                </a:moveTo>
                <a:cubicBezTo>
                  <a:pt x="9915" y="5236"/>
                  <a:pt x="9972" y="5341"/>
                  <a:pt x="9996" y="5482"/>
                </a:cubicBezTo>
                <a:cubicBezTo>
                  <a:pt x="10012" y="5578"/>
                  <a:pt x="9997" y="5688"/>
                  <a:pt x="9971" y="5779"/>
                </a:cubicBezTo>
                <a:cubicBezTo>
                  <a:pt x="9948" y="5859"/>
                  <a:pt x="9916" y="5950"/>
                  <a:pt x="9847" y="6003"/>
                </a:cubicBezTo>
                <a:cubicBezTo>
                  <a:pt x="9804" y="6036"/>
                  <a:pt x="9727" y="6090"/>
                  <a:pt x="9674" y="6102"/>
                </a:cubicBezTo>
                <a:cubicBezTo>
                  <a:pt x="9620" y="6114"/>
                  <a:pt x="9610" y="6125"/>
                  <a:pt x="9599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55920" y="2724120"/>
            <a:ext cx="1527120" cy="455760"/>
          </a:xfrm>
          <a:custGeom>
            <a:avLst/>
            <a:gdLst/>
            <a:ahLst/>
            <a:rect l="l" t="t" r="r" b="b"/>
            <a:pathLst>
              <a:path w="4243" h="1266">
                <a:moveTo>
                  <a:pt x="7342" y="7739"/>
                </a:moveTo>
                <a:cubicBezTo>
                  <a:pt x="7342" y="7714"/>
                  <a:pt x="7342" y="7706"/>
                  <a:pt x="7342" y="7689"/>
                </a:cubicBezTo>
                <a:cubicBezTo>
                  <a:pt x="7275" y="7689"/>
                  <a:pt x="7202" y="7675"/>
                  <a:pt x="7144" y="7714"/>
                </a:cubicBezTo>
                <a:cubicBezTo>
                  <a:pt x="7093" y="7749"/>
                  <a:pt x="7028" y="7749"/>
                  <a:pt x="6970" y="7789"/>
                </a:cubicBezTo>
                <a:cubicBezTo>
                  <a:pt x="6956" y="7799"/>
                  <a:pt x="6873" y="7860"/>
                  <a:pt x="6871" y="7863"/>
                </a:cubicBezTo>
                <a:cubicBezTo>
                  <a:pt x="6848" y="7898"/>
                  <a:pt x="6896" y="7946"/>
                  <a:pt x="6921" y="7962"/>
                </a:cubicBezTo>
                <a:cubicBezTo>
                  <a:pt x="6992" y="8007"/>
                  <a:pt x="7057" y="8027"/>
                  <a:pt x="7119" y="8086"/>
                </a:cubicBezTo>
                <a:cubicBezTo>
                  <a:pt x="7188" y="8150"/>
                  <a:pt x="7217" y="8211"/>
                  <a:pt x="7268" y="8285"/>
                </a:cubicBezTo>
                <a:cubicBezTo>
                  <a:pt x="7300" y="8332"/>
                  <a:pt x="7307" y="8365"/>
                  <a:pt x="7268" y="8409"/>
                </a:cubicBezTo>
                <a:cubicBezTo>
                  <a:pt x="7221" y="8462"/>
                  <a:pt x="7135" y="8456"/>
                  <a:pt x="7069" y="8458"/>
                </a:cubicBezTo>
                <a:cubicBezTo>
                  <a:pt x="7006" y="8460"/>
                  <a:pt x="6923" y="8460"/>
                  <a:pt x="6871" y="8434"/>
                </a:cubicBezTo>
                <a:cubicBezTo>
                  <a:pt x="6821" y="8409"/>
                  <a:pt x="6851" y="8385"/>
                  <a:pt x="6871" y="8359"/>
                </a:cubicBezTo>
              </a:path>
              <a:path w="4243" h="1266">
                <a:moveTo>
                  <a:pt x="7590" y="8037"/>
                </a:moveTo>
                <a:cubicBezTo>
                  <a:pt x="7673" y="8011"/>
                  <a:pt x="7772" y="7997"/>
                  <a:pt x="7838" y="7938"/>
                </a:cubicBezTo>
                <a:cubicBezTo>
                  <a:pt x="7862" y="7916"/>
                  <a:pt x="7910" y="7878"/>
                  <a:pt x="7888" y="7838"/>
                </a:cubicBezTo>
                <a:cubicBezTo>
                  <a:pt x="7859" y="7786"/>
                  <a:pt x="7852" y="7789"/>
                  <a:pt x="7789" y="7789"/>
                </a:cubicBezTo>
                <a:cubicBezTo>
                  <a:pt x="7732" y="7789"/>
                  <a:pt x="7712" y="7810"/>
                  <a:pt x="7665" y="7838"/>
                </a:cubicBezTo>
                <a:cubicBezTo>
                  <a:pt x="7582" y="7888"/>
                  <a:pt x="7593" y="7901"/>
                  <a:pt x="7565" y="7987"/>
                </a:cubicBezTo>
                <a:cubicBezTo>
                  <a:pt x="7540" y="8064"/>
                  <a:pt x="7541" y="8127"/>
                  <a:pt x="7541" y="8210"/>
                </a:cubicBezTo>
                <a:cubicBezTo>
                  <a:pt x="7541" y="8289"/>
                  <a:pt x="7594" y="8346"/>
                  <a:pt x="7665" y="8384"/>
                </a:cubicBezTo>
                <a:cubicBezTo>
                  <a:pt x="7722" y="8415"/>
                  <a:pt x="7756" y="8411"/>
                  <a:pt x="7813" y="8384"/>
                </a:cubicBezTo>
                <a:cubicBezTo>
                  <a:pt x="7830" y="8376"/>
                  <a:pt x="7846" y="8367"/>
                  <a:pt x="7863" y="8359"/>
                </a:cubicBezTo>
              </a:path>
              <a:path w="4243" h="1266">
                <a:moveTo>
                  <a:pt x="8458" y="7863"/>
                </a:moveTo>
                <a:cubicBezTo>
                  <a:pt x="8478" y="7822"/>
                  <a:pt x="8461" y="7806"/>
                  <a:pt x="8409" y="7789"/>
                </a:cubicBezTo>
                <a:cubicBezTo>
                  <a:pt x="8343" y="7768"/>
                  <a:pt x="8330" y="7809"/>
                  <a:pt x="8285" y="7838"/>
                </a:cubicBezTo>
                <a:cubicBezTo>
                  <a:pt x="8202" y="7891"/>
                  <a:pt x="8180" y="7921"/>
                  <a:pt x="8136" y="8012"/>
                </a:cubicBezTo>
                <a:cubicBezTo>
                  <a:pt x="8115" y="8056"/>
                  <a:pt x="8074" y="8164"/>
                  <a:pt x="8086" y="8210"/>
                </a:cubicBezTo>
                <a:cubicBezTo>
                  <a:pt x="8108" y="8295"/>
                  <a:pt x="8127" y="8299"/>
                  <a:pt x="8186" y="8334"/>
                </a:cubicBezTo>
                <a:cubicBezTo>
                  <a:pt x="8252" y="8373"/>
                  <a:pt x="8307" y="8363"/>
                  <a:pt x="8384" y="8334"/>
                </a:cubicBezTo>
                <a:cubicBezTo>
                  <a:pt x="8401" y="8326"/>
                  <a:pt x="8417" y="8318"/>
                  <a:pt x="8434" y="8310"/>
                </a:cubicBezTo>
              </a:path>
              <a:path w="4243" h="1266">
                <a:moveTo>
                  <a:pt x="8954" y="7714"/>
                </a:moveTo>
                <a:cubicBezTo>
                  <a:pt x="8900" y="7790"/>
                  <a:pt x="8818" y="7877"/>
                  <a:pt x="8781" y="7962"/>
                </a:cubicBezTo>
                <a:cubicBezTo>
                  <a:pt x="8747" y="8040"/>
                  <a:pt x="8719" y="8130"/>
                  <a:pt x="8706" y="8210"/>
                </a:cubicBezTo>
                <a:cubicBezTo>
                  <a:pt x="8695" y="8281"/>
                  <a:pt x="8709" y="8332"/>
                  <a:pt x="8756" y="8384"/>
                </a:cubicBezTo>
                <a:cubicBezTo>
                  <a:pt x="8794" y="8426"/>
                  <a:pt x="8852" y="8409"/>
                  <a:pt x="8905" y="8409"/>
                </a:cubicBezTo>
                <a:cubicBezTo>
                  <a:pt x="8940" y="8409"/>
                  <a:pt x="8957" y="8404"/>
                  <a:pt x="8979" y="8384"/>
                </a:cubicBezTo>
              </a:path>
              <a:path w="4243" h="1266">
                <a:moveTo>
                  <a:pt x="9178" y="7913"/>
                </a:moveTo>
                <a:cubicBezTo>
                  <a:pt x="9203" y="8005"/>
                  <a:pt x="9217" y="8132"/>
                  <a:pt x="9277" y="8210"/>
                </a:cubicBezTo>
                <a:cubicBezTo>
                  <a:pt x="9310" y="8252"/>
                  <a:pt x="9400" y="8307"/>
                  <a:pt x="9451" y="8334"/>
                </a:cubicBezTo>
                <a:cubicBezTo>
                  <a:pt x="9496" y="8358"/>
                  <a:pt x="9567" y="8408"/>
                  <a:pt x="9624" y="8384"/>
                </a:cubicBezTo>
                <a:cubicBezTo>
                  <a:pt x="9648" y="8374"/>
                  <a:pt x="9680" y="8328"/>
                  <a:pt x="9699" y="8310"/>
                </a:cubicBezTo>
              </a:path>
              <a:path w="4243" h="1266">
                <a:moveTo>
                  <a:pt x="9550" y="7913"/>
                </a:moveTo>
                <a:cubicBezTo>
                  <a:pt x="9459" y="8020"/>
                  <a:pt x="9373" y="8134"/>
                  <a:pt x="9277" y="8235"/>
                </a:cubicBezTo>
                <a:cubicBezTo>
                  <a:pt x="9239" y="8275"/>
                  <a:pt x="9182" y="8385"/>
                  <a:pt x="9153" y="8409"/>
                </a:cubicBezTo>
                <a:cubicBezTo>
                  <a:pt x="9143" y="8418"/>
                  <a:pt x="9092" y="8450"/>
                  <a:pt x="9153" y="8409"/>
                </a:cubicBezTo>
              </a:path>
              <a:path w="4243" h="1266">
                <a:moveTo>
                  <a:pt x="9872" y="7565"/>
                </a:moveTo>
                <a:cubicBezTo>
                  <a:pt x="9994" y="7687"/>
                  <a:pt x="10016" y="7706"/>
                  <a:pt x="10046" y="7863"/>
                </a:cubicBezTo>
                <a:cubicBezTo>
                  <a:pt x="10070" y="7991"/>
                  <a:pt x="10063" y="8061"/>
                  <a:pt x="10046" y="8186"/>
                </a:cubicBezTo>
                <a:cubicBezTo>
                  <a:pt x="10036" y="8255"/>
                  <a:pt x="10013" y="8302"/>
                  <a:pt x="9971" y="8359"/>
                </a:cubicBezTo>
                <a:cubicBezTo>
                  <a:pt x="9914" y="8436"/>
                  <a:pt x="9834" y="8427"/>
                  <a:pt x="9748" y="8434"/>
                </a:cubicBezTo>
              </a:path>
              <a:path w="4243" h="1266">
                <a:moveTo>
                  <a:pt x="6821" y="8607"/>
                </a:moveTo>
                <a:cubicBezTo>
                  <a:pt x="6955" y="8626"/>
                  <a:pt x="7084" y="8654"/>
                  <a:pt x="7218" y="8657"/>
                </a:cubicBezTo>
                <a:cubicBezTo>
                  <a:pt x="7410" y="8662"/>
                  <a:pt x="7598" y="8679"/>
                  <a:pt x="7789" y="8682"/>
                </a:cubicBezTo>
                <a:cubicBezTo>
                  <a:pt x="8046" y="8686"/>
                  <a:pt x="8303" y="8702"/>
                  <a:pt x="8558" y="8731"/>
                </a:cubicBezTo>
                <a:cubicBezTo>
                  <a:pt x="8796" y="8758"/>
                  <a:pt x="9039" y="8789"/>
                  <a:pt x="9277" y="8806"/>
                </a:cubicBezTo>
                <a:cubicBezTo>
                  <a:pt x="9411" y="8816"/>
                  <a:pt x="9773" y="8898"/>
                  <a:pt x="9674" y="8806"/>
                </a:cubicBezTo>
                <a:cubicBezTo>
                  <a:pt x="9743" y="8806"/>
                  <a:pt x="9710" y="8792"/>
                  <a:pt x="9550" y="8756"/>
                </a:cubicBezTo>
              </a:path>
              <a:path w="4243" h="1266">
                <a:moveTo>
                  <a:pt x="10840" y="8235"/>
                </a:moveTo>
                <a:cubicBezTo>
                  <a:pt x="10889" y="8265"/>
                  <a:pt x="10927" y="8260"/>
                  <a:pt x="10988" y="8260"/>
                </a:cubicBezTo>
                <a:cubicBezTo>
                  <a:pt x="11020" y="8260"/>
                  <a:pt x="11033" y="8277"/>
                  <a:pt x="11063" y="8285"/>
                </a:cubicBezTo>
              </a:path>
              <a:path w="4243" h="1266">
                <a:moveTo>
                  <a:pt x="10840" y="8458"/>
                </a:moveTo>
                <a:cubicBezTo>
                  <a:pt x="10905" y="8476"/>
                  <a:pt x="10973" y="8497"/>
                  <a:pt x="11038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78000" y="3232080"/>
            <a:ext cx="1366920" cy="357120"/>
          </a:xfrm>
          <a:custGeom>
            <a:avLst/>
            <a:gdLst/>
            <a:ahLst/>
            <a:rect l="l" t="t" r="r" b="b"/>
            <a:pathLst>
              <a:path w="3796" h="993">
                <a:moveTo>
                  <a:pt x="6052" y="9327"/>
                </a:moveTo>
                <a:cubicBezTo>
                  <a:pt x="6166" y="9327"/>
                  <a:pt x="6243" y="9317"/>
                  <a:pt x="6350" y="9302"/>
                </a:cubicBezTo>
                <a:cubicBezTo>
                  <a:pt x="6434" y="9290"/>
                  <a:pt x="6515" y="9285"/>
                  <a:pt x="6598" y="9277"/>
                </a:cubicBezTo>
              </a:path>
              <a:path w="3796" h="993">
                <a:moveTo>
                  <a:pt x="7367" y="9153"/>
                </a:moveTo>
                <a:cubicBezTo>
                  <a:pt x="7367" y="9210"/>
                  <a:pt x="7367" y="9254"/>
                  <a:pt x="7342" y="9178"/>
                </a:cubicBezTo>
                <a:cubicBezTo>
                  <a:pt x="7329" y="9139"/>
                  <a:pt x="7346" y="9102"/>
                  <a:pt x="7293" y="9079"/>
                </a:cubicBezTo>
                <a:cubicBezTo>
                  <a:pt x="7256" y="9063"/>
                  <a:pt x="7194" y="9080"/>
                  <a:pt x="7169" y="9103"/>
                </a:cubicBezTo>
                <a:cubicBezTo>
                  <a:pt x="7108" y="9157"/>
                  <a:pt x="7092" y="9217"/>
                  <a:pt x="7045" y="9277"/>
                </a:cubicBezTo>
                <a:cubicBezTo>
                  <a:pt x="6994" y="9343"/>
                  <a:pt x="6959" y="9391"/>
                  <a:pt x="6945" y="9475"/>
                </a:cubicBezTo>
                <a:cubicBezTo>
                  <a:pt x="6935" y="9535"/>
                  <a:pt x="6935" y="9637"/>
                  <a:pt x="6995" y="9674"/>
                </a:cubicBezTo>
                <a:cubicBezTo>
                  <a:pt x="7043" y="9704"/>
                  <a:pt x="7113" y="9684"/>
                  <a:pt x="7169" y="9699"/>
                </a:cubicBezTo>
                <a:cubicBezTo>
                  <a:pt x="7248" y="9720"/>
                  <a:pt x="7251" y="9720"/>
                  <a:pt x="7317" y="9699"/>
                </a:cubicBezTo>
                <a:cubicBezTo>
                  <a:pt x="7353" y="9687"/>
                  <a:pt x="7353" y="9686"/>
                  <a:pt x="7317" y="9674"/>
                </a:cubicBezTo>
              </a:path>
              <a:path w="3796" h="993">
                <a:moveTo>
                  <a:pt x="7938" y="9103"/>
                </a:moveTo>
                <a:cubicBezTo>
                  <a:pt x="7894" y="9103"/>
                  <a:pt x="7824" y="9102"/>
                  <a:pt x="7789" y="9128"/>
                </a:cubicBezTo>
                <a:cubicBezTo>
                  <a:pt x="7751" y="9156"/>
                  <a:pt x="7703" y="9186"/>
                  <a:pt x="7689" y="9227"/>
                </a:cubicBezTo>
                <a:cubicBezTo>
                  <a:pt x="7674" y="9271"/>
                  <a:pt x="7760" y="9317"/>
                  <a:pt x="7789" y="9327"/>
                </a:cubicBezTo>
                <a:cubicBezTo>
                  <a:pt x="7866" y="9353"/>
                  <a:pt x="7881" y="9380"/>
                  <a:pt x="7938" y="9426"/>
                </a:cubicBezTo>
                <a:cubicBezTo>
                  <a:pt x="7998" y="9474"/>
                  <a:pt x="8045" y="9527"/>
                  <a:pt x="7987" y="9599"/>
                </a:cubicBezTo>
                <a:cubicBezTo>
                  <a:pt x="7954" y="9639"/>
                  <a:pt x="7913" y="9661"/>
                  <a:pt x="7863" y="9674"/>
                </a:cubicBezTo>
                <a:cubicBezTo>
                  <a:pt x="7824" y="9684"/>
                  <a:pt x="7710" y="9692"/>
                  <a:pt x="7689" y="9649"/>
                </a:cubicBezTo>
                <a:cubicBezTo>
                  <a:pt x="7673" y="9617"/>
                  <a:pt x="7698" y="9595"/>
                  <a:pt x="7714" y="9575"/>
                </a:cubicBezTo>
              </a:path>
              <a:path w="3796" h="993">
                <a:moveTo>
                  <a:pt x="8582" y="9252"/>
                </a:moveTo>
                <a:cubicBezTo>
                  <a:pt x="8554" y="9223"/>
                  <a:pt x="8518" y="9190"/>
                  <a:pt x="8483" y="9178"/>
                </a:cubicBezTo>
                <a:cubicBezTo>
                  <a:pt x="8465" y="9172"/>
                  <a:pt x="8393" y="9209"/>
                  <a:pt x="8384" y="9227"/>
                </a:cubicBezTo>
                <a:cubicBezTo>
                  <a:pt x="8353" y="9288"/>
                  <a:pt x="8324" y="9382"/>
                  <a:pt x="8310" y="9451"/>
                </a:cubicBezTo>
                <a:cubicBezTo>
                  <a:pt x="8299" y="9506"/>
                  <a:pt x="8305" y="9577"/>
                  <a:pt x="8334" y="9624"/>
                </a:cubicBezTo>
                <a:cubicBezTo>
                  <a:pt x="8362" y="9670"/>
                  <a:pt x="8459" y="9704"/>
                  <a:pt x="8508" y="9699"/>
                </a:cubicBezTo>
                <a:cubicBezTo>
                  <a:pt x="8556" y="9675"/>
                  <a:pt x="8570" y="9667"/>
                  <a:pt x="8607" y="9674"/>
                </a:cubicBezTo>
              </a:path>
              <a:path w="3796" h="993">
                <a:moveTo>
                  <a:pt x="9103" y="9252"/>
                </a:moveTo>
                <a:cubicBezTo>
                  <a:pt x="9148" y="9356"/>
                  <a:pt x="9167" y="9410"/>
                  <a:pt x="9227" y="9500"/>
                </a:cubicBezTo>
                <a:cubicBezTo>
                  <a:pt x="9270" y="9564"/>
                  <a:pt x="9310" y="9609"/>
                  <a:pt x="9376" y="9649"/>
                </a:cubicBezTo>
                <a:cubicBezTo>
                  <a:pt x="9437" y="9686"/>
                  <a:pt x="9480" y="9699"/>
                  <a:pt x="9550" y="9699"/>
                </a:cubicBezTo>
                <a:cubicBezTo>
                  <a:pt x="9582" y="9699"/>
                  <a:pt x="9578" y="9678"/>
                  <a:pt x="9599" y="9649"/>
                </a:cubicBezTo>
              </a:path>
              <a:path w="3796" h="993">
                <a:moveTo>
                  <a:pt x="9426" y="9203"/>
                </a:moveTo>
                <a:cubicBezTo>
                  <a:pt x="9328" y="9301"/>
                  <a:pt x="9226" y="9381"/>
                  <a:pt x="9128" y="9475"/>
                </a:cubicBezTo>
                <a:cubicBezTo>
                  <a:pt x="9071" y="9530"/>
                  <a:pt x="9010" y="9572"/>
                  <a:pt x="8954" y="9624"/>
                </a:cubicBezTo>
                <a:cubicBezTo>
                  <a:pt x="8942" y="9635"/>
                  <a:pt x="8869" y="9706"/>
                  <a:pt x="8855" y="9699"/>
                </a:cubicBezTo>
                <a:cubicBezTo>
                  <a:pt x="8855" y="9691"/>
                  <a:pt x="8855" y="9682"/>
                  <a:pt x="8855" y="9674"/>
                </a:cubicBezTo>
              </a:path>
              <a:path w="3796" h="993">
                <a:moveTo>
                  <a:pt x="8954" y="8979"/>
                </a:moveTo>
                <a:cubicBezTo>
                  <a:pt x="8891" y="9111"/>
                  <a:pt x="8821" y="9237"/>
                  <a:pt x="8781" y="9376"/>
                </a:cubicBezTo>
                <a:cubicBezTo>
                  <a:pt x="8751" y="9482"/>
                  <a:pt x="8743" y="9573"/>
                  <a:pt x="8781" y="9674"/>
                </a:cubicBezTo>
                <a:cubicBezTo>
                  <a:pt x="8810" y="9751"/>
                  <a:pt x="8856" y="9854"/>
                  <a:pt x="8954" y="9872"/>
                </a:cubicBezTo>
                <a:cubicBezTo>
                  <a:pt x="9032" y="9886"/>
                  <a:pt x="9107" y="9846"/>
                  <a:pt x="9178" y="9823"/>
                </a:cubicBezTo>
              </a:path>
              <a:path w="3796" h="993">
                <a:moveTo>
                  <a:pt x="9773" y="8979"/>
                </a:moveTo>
                <a:cubicBezTo>
                  <a:pt x="9828" y="9182"/>
                  <a:pt x="9878" y="9300"/>
                  <a:pt x="9823" y="9500"/>
                </a:cubicBezTo>
                <a:cubicBezTo>
                  <a:pt x="9791" y="9618"/>
                  <a:pt x="9745" y="9657"/>
                  <a:pt x="9674" y="9748"/>
                </a:cubicBezTo>
                <a:cubicBezTo>
                  <a:pt x="9618" y="9820"/>
                  <a:pt x="9558" y="9904"/>
                  <a:pt x="9475" y="9947"/>
                </a:cubicBezTo>
                <a:cubicBezTo>
                  <a:pt x="9450" y="9955"/>
                  <a:pt x="9426" y="9963"/>
                  <a:pt x="9401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5320" y="4037040"/>
            <a:ext cx="2249640" cy="812880"/>
          </a:xfrm>
          <a:custGeom>
            <a:avLst/>
            <a:gdLst/>
            <a:ahLst/>
            <a:rect l="l" t="t" r="r" b="b"/>
            <a:pathLst>
              <a:path w="6252" h="2258">
                <a:moveTo>
                  <a:pt x="5531" y="11956"/>
                </a:moveTo>
                <a:cubicBezTo>
                  <a:pt x="5569" y="11985"/>
                  <a:pt x="5582" y="11981"/>
                  <a:pt x="5631" y="11981"/>
                </a:cubicBezTo>
                <a:cubicBezTo>
                  <a:pt x="5683" y="11981"/>
                  <a:pt x="5764" y="11956"/>
                  <a:pt x="5730" y="12005"/>
                </a:cubicBezTo>
              </a:path>
              <a:path w="6252" h="2258">
                <a:moveTo>
                  <a:pt x="7069" y="11212"/>
                </a:moveTo>
                <a:cubicBezTo>
                  <a:pt x="7049" y="11313"/>
                  <a:pt x="7042" y="11413"/>
                  <a:pt x="7020" y="11509"/>
                </a:cubicBezTo>
                <a:cubicBezTo>
                  <a:pt x="6994" y="11622"/>
                  <a:pt x="6949" y="11714"/>
                  <a:pt x="6945" y="11832"/>
                </a:cubicBezTo>
                <a:cubicBezTo>
                  <a:pt x="6941" y="11938"/>
                  <a:pt x="6906" y="12144"/>
                  <a:pt x="6970" y="12229"/>
                </a:cubicBezTo>
              </a:path>
              <a:path w="6252" h="2258">
                <a:moveTo>
                  <a:pt x="6176" y="12328"/>
                </a:moveTo>
                <a:cubicBezTo>
                  <a:pt x="6284" y="12364"/>
                  <a:pt x="6365" y="12362"/>
                  <a:pt x="6474" y="12378"/>
                </a:cubicBezTo>
                <a:cubicBezTo>
                  <a:pt x="6606" y="12398"/>
                  <a:pt x="6739" y="12384"/>
                  <a:pt x="6871" y="12402"/>
                </a:cubicBezTo>
                <a:cubicBezTo>
                  <a:pt x="6975" y="12417"/>
                  <a:pt x="7063" y="12427"/>
                  <a:pt x="7169" y="12427"/>
                </a:cubicBezTo>
                <a:cubicBezTo>
                  <a:pt x="7225" y="12427"/>
                  <a:pt x="7230" y="12442"/>
                  <a:pt x="7243" y="12402"/>
                </a:cubicBezTo>
              </a:path>
              <a:path w="6252" h="2258">
                <a:moveTo>
                  <a:pt x="6548" y="12675"/>
                </a:moveTo>
                <a:cubicBezTo>
                  <a:pt x="6548" y="12733"/>
                  <a:pt x="6548" y="12857"/>
                  <a:pt x="6548" y="12799"/>
                </a:cubicBezTo>
                <a:cubicBezTo>
                  <a:pt x="6548" y="12774"/>
                  <a:pt x="6541" y="12711"/>
                  <a:pt x="6524" y="12700"/>
                </a:cubicBezTo>
                <a:cubicBezTo>
                  <a:pt x="6497" y="12682"/>
                  <a:pt x="6460" y="12675"/>
                  <a:pt x="6424" y="12675"/>
                </a:cubicBezTo>
                <a:cubicBezTo>
                  <a:pt x="6374" y="12675"/>
                  <a:pt x="6342" y="12693"/>
                  <a:pt x="6300" y="12725"/>
                </a:cubicBezTo>
                <a:cubicBezTo>
                  <a:pt x="6254" y="12760"/>
                  <a:pt x="6187" y="12869"/>
                  <a:pt x="6176" y="12923"/>
                </a:cubicBezTo>
                <a:cubicBezTo>
                  <a:pt x="6159" y="13003"/>
                  <a:pt x="6158" y="13176"/>
                  <a:pt x="6201" y="13246"/>
                </a:cubicBezTo>
                <a:cubicBezTo>
                  <a:pt x="6232" y="13297"/>
                  <a:pt x="6271" y="13334"/>
                  <a:pt x="6325" y="13345"/>
                </a:cubicBezTo>
                <a:cubicBezTo>
                  <a:pt x="6371" y="13354"/>
                  <a:pt x="6463" y="13346"/>
                  <a:pt x="6499" y="13320"/>
                </a:cubicBezTo>
                <a:cubicBezTo>
                  <a:pt x="6515" y="13304"/>
                  <a:pt x="6532" y="13287"/>
                  <a:pt x="6548" y="13271"/>
                </a:cubicBezTo>
              </a:path>
              <a:path w="6252" h="2258">
                <a:moveTo>
                  <a:pt x="6796" y="12849"/>
                </a:moveTo>
                <a:cubicBezTo>
                  <a:pt x="6796" y="12940"/>
                  <a:pt x="6800" y="13037"/>
                  <a:pt x="6772" y="13122"/>
                </a:cubicBezTo>
                <a:cubicBezTo>
                  <a:pt x="6751" y="13185"/>
                  <a:pt x="6735" y="13232"/>
                  <a:pt x="6772" y="13295"/>
                </a:cubicBezTo>
                <a:cubicBezTo>
                  <a:pt x="6803" y="13349"/>
                  <a:pt x="6841" y="13345"/>
                  <a:pt x="6896" y="13345"/>
                </a:cubicBezTo>
                <a:cubicBezTo>
                  <a:pt x="6949" y="13345"/>
                  <a:pt x="7033" y="13313"/>
                  <a:pt x="7069" y="13271"/>
                </a:cubicBezTo>
                <a:cubicBezTo>
                  <a:pt x="7106" y="13228"/>
                  <a:pt x="7149" y="13096"/>
                  <a:pt x="7144" y="13047"/>
                </a:cubicBezTo>
                <a:cubicBezTo>
                  <a:pt x="7133" y="12944"/>
                  <a:pt x="7096" y="12889"/>
                  <a:pt x="7020" y="12824"/>
                </a:cubicBezTo>
                <a:cubicBezTo>
                  <a:pt x="6960" y="12773"/>
                  <a:pt x="6922" y="12774"/>
                  <a:pt x="6846" y="12774"/>
                </a:cubicBezTo>
                <a:cubicBezTo>
                  <a:pt x="6805" y="12774"/>
                  <a:pt x="6740" y="12808"/>
                  <a:pt x="6722" y="12849"/>
                </a:cubicBezTo>
                <a:cubicBezTo>
                  <a:pt x="6703" y="12893"/>
                  <a:pt x="6702" y="12884"/>
                  <a:pt x="6722" y="12923"/>
                </a:cubicBezTo>
              </a:path>
              <a:path w="6252" h="2258">
                <a:moveTo>
                  <a:pt x="7367" y="12849"/>
                </a:moveTo>
                <a:cubicBezTo>
                  <a:pt x="7303" y="12833"/>
                  <a:pt x="7327" y="12829"/>
                  <a:pt x="7268" y="12849"/>
                </a:cubicBezTo>
                <a:cubicBezTo>
                  <a:pt x="7159" y="12885"/>
                  <a:pt x="7199" y="12919"/>
                  <a:pt x="7243" y="13047"/>
                </a:cubicBezTo>
                <a:cubicBezTo>
                  <a:pt x="7278" y="13148"/>
                  <a:pt x="7355" y="13238"/>
                  <a:pt x="7417" y="13320"/>
                </a:cubicBezTo>
                <a:cubicBezTo>
                  <a:pt x="7454" y="13369"/>
                  <a:pt x="7449" y="13395"/>
                  <a:pt x="7417" y="13419"/>
                </a:cubicBezTo>
                <a:cubicBezTo>
                  <a:pt x="7365" y="13458"/>
                  <a:pt x="7324" y="13434"/>
                  <a:pt x="7268" y="13395"/>
                </a:cubicBezTo>
                <a:cubicBezTo>
                  <a:pt x="7211" y="13356"/>
                  <a:pt x="7201" y="13309"/>
                  <a:pt x="7193" y="13246"/>
                </a:cubicBezTo>
              </a:path>
              <a:path w="6252" h="2258">
                <a:moveTo>
                  <a:pt x="7615" y="12998"/>
                </a:moveTo>
                <a:cubicBezTo>
                  <a:pt x="7646" y="13082"/>
                  <a:pt x="7676" y="13166"/>
                  <a:pt x="7714" y="13246"/>
                </a:cubicBezTo>
                <a:cubicBezTo>
                  <a:pt x="7736" y="13293"/>
                  <a:pt x="7815" y="13371"/>
                  <a:pt x="7863" y="13395"/>
                </a:cubicBezTo>
                <a:cubicBezTo>
                  <a:pt x="7945" y="13435"/>
                  <a:pt x="7980" y="13427"/>
                  <a:pt x="8037" y="13370"/>
                </a:cubicBezTo>
              </a:path>
              <a:path w="6252" h="2258">
                <a:moveTo>
                  <a:pt x="7987" y="12898"/>
                </a:moveTo>
                <a:cubicBezTo>
                  <a:pt x="7849" y="12909"/>
                  <a:pt x="7841" y="12945"/>
                  <a:pt x="7739" y="13047"/>
                </a:cubicBezTo>
                <a:cubicBezTo>
                  <a:pt x="7659" y="13127"/>
                  <a:pt x="7593" y="13214"/>
                  <a:pt x="7516" y="13295"/>
                </a:cubicBezTo>
                <a:cubicBezTo>
                  <a:pt x="7507" y="13304"/>
                  <a:pt x="7415" y="13444"/>
                  <a:pt x="7417" y="13444"/>
                </a:cubicBezTo>
                <a:cubicBezTo>
                  <a:pt x="7439" y="13422"/>
                  <a:pt x="7447" y="13417"/>
                  <a:pt x="7441" y="13395"/>
                </a:cubicBezTo>
              </a:path>
              <a:path w="6252" h="2258">
                <a:moveTo>
                  <a:pt x="8260" y="12204"/>
                </a:moveTo>
                <a:cubicBezTo>
                  <a:pt x="8260" y="12229"/>
                  <a:pt x="8260" y="12237"/>
                  <a:pt x="8260" y="12254"/>
                </a:cubicBezTo>
              </a:path>
              <a:path w="6252" h="2258">
                <a:moveTo>
                  <a:pt x="8285" y="12824"/>
                </a:moveTo>
                <a:cubicBezTo>
                  <a:pt x="8285" y="12829"/>
                  <a:pt x="8285" y="13057"/>
                  <a:pt x="8285" y="12998"/>
                </a:cubicBezTo>
                <a:cubicBezTo>
                  <a:pt x="8285" y="12990"/>
                  <a:pt x="8285" y="12981"/>
                  <a:pt x="8285" y="12973"/>
                </a:cubicBezTo>
              </a:path>
              <a:path w="6252" h="2258">
                <a:moveTo>
                  <a:pt x="8062" y="12526"/>
                </a:moveTo>
                <a:cubicBezTo>
                  <a:pt x="8160" y="12543"/>
                  <a:pt x="8261" y="12571"/>
                  <a:pt x="8359" y="12576"/>
                </a:cubicBezTo>
                <a:cubicBezTo>
                  <a:pt x="8432" y="12580"/>
                  <a:pt x="8489" y="12610"/>
                  <a:pt x="8558" y="12626"/>
                </a:cubicBezTo>
                <a:cubicBezTo>
                  <a:pt x="8597" y="12635"/>
                  <a:pt x="8582" y="12601"/>
                  <a:pt x="8582" y="12576"/>
                </a:cubicBezTo>
              </a:path>
              <a:path w="6252" h="2258">
                <a:moveTo>
                  <a:pt x="5531" y="12080"/>
                </a:moveTo>
                <a:cubicBezTo>
                  <a:pt x="5551" y="12120"/>
                  <a:pt x="5562" y="12070"/>
                  <a:pt x="5606" y="12055"/>
                </a:cubicBezTo>
                <a:cubicBezTo>
                  <a:pt x="5646" y="12042"/>
                  <a:pt x="5651" y="12008"/>
                  <a:pt x="5655" y="11956"/>
                </a:cubicBezTo>
                <a:cubicBezTo>
                  <a:pt x="5657" y="11931"/>
                  <a:pt x="5655" y="11906"/>
                  <a:pt x="5655" y="11881"/>
                </a:cubicBezTo>
                <a:cubicBezTo>
                  <a:pt x="5587" y="11853"/>
                  <a:pt x="5568" y="11856"/>
                  <a:pt x="5507" y="11906"/>
                </a:cubicBezTo>
                <a:cubicBezTo>
                  <a:pt x="5456" y="11948"/>
                  <a:pt x="5383" y="11992"/>
                  <a:pt x="5358" y="12055"/>
                </a:cubicBezTo>
                <a:cubicBezTo>
                  <a:pt x="5331" y="12122"/>
                  <a:pt x="5421" y="12107"/>
                  <a:pt x="5432" y="12105"/>
                </a:cubicBezTo>
                <a:cubicBezTo>
                  <a:pt x="5504" y="12095"/>
                  <a:pt x="5503" y="12109"/>
                  <a:pt x="5556" y="12055"/>
                </a:cubicBezTo>
                <a:cubicBezTo>
                  <a:pt x="5564" y="12047"/>
                  <a:pt x="5573" y="12038"/>
                  <a:pt x="5581" y="12030"/>
                </a:cubicBezTo>
                <a:cubicBezTo>
                  <a:pt x="5581" y="12005"/>
                  <a:pt x="5581" y="11981"/>
                  <a:pt x="5581" y="11956"/>
                </a:cubicBezTo>
                <a:cubicBezTo>
                  <a:pt x="5525" y="11965"/>
                  <a:pt x="5444" y="11978"/>
                  <a:pt x="5407" y="12030"/>
                </a:cubicBezTo>
                <a:cubicBezTo>
                  <a:pt x="5396" y="12046"/>
                  <a:pt x="5324" y="12134"/>
                  <a:pt x="5333" y="12154"/>
                </a:cubicBezTo>
                <a:cubicBezTo>
                  <a:pt x="5341" y="12162"/>
                  <a:pt x="5350" y="12171"/>
                  <a:pt x="5358" y="12179"/>
                </a:cubicBezTo>
                <a:cubicBezTo>
                  <a:pt x="5421" y="12179"/>
                  <a:pt x="5475" y="12189"/>
                  <a:pt x="5531" y="12154"/>
                </a:cubicBezTo>
                <a:cubicBezTo>
                  <a:pt x="5592" y="12116"/>
                  <a:pt x="5651" y="12049"/>
                  <a:pt x="5655" y="11981"/>
                </a:cubicBezTo>
                <a:cubicBezTo>
                  <a:pt x="5658" y="11927"/>
                  <a:pt x="5636" y="11896"/>
                  <a:pt x="5606" y="11857"/>
                </a:cubicBezTo>
                <a:cubicBezTo>
                  <a:pt x="5519" y="11885"/>
                  <a:pt x="5433" y="11891"/>
                  <a:pt x="5358" y="11956"/>
                </a:cubicBezTo>
                <a:cubicBezTo>
                  <a:pt x="5297" y="12009"/>
                  <a:pt x="5209" y="12070"/>
                  <a:pt x="5209" y="12154"/>
                </a:cubicBezTo>
                <a:cubicBezTo>
                  <a:pt x="5248" y="12183"/>
                  <a:pt x="5306" y="12194"/>
                  <a:pt x="5358" y="12179"/>
                </a:cubicBezTo>
                <a:cubicBezTo>
                  <a:pt x="5441" y="12156"/>
                  <a:pt x="5476" y="12099"/>
                  <a:pt x="5531" y="12055"/>
                </a:cubicBezTo>
                <a:cubicBezTo>
                  <a:pt x="5566" y="12027"/>
                  <a:pt x="5626" y="11967"/>
                  <a:pt x="5606" y="11906"/>
                </a:cubicBezTo>
                <a:cubicBezTo>
                  <a:pt x="5596" y="11875"/>
                  <a:pt x="5511" y="11812"/>
                  <a:pt x="5482" y="11807"/>
                </a:cubicBezTo>
                <a:cubicBezTo>
                  <a:pt x="5404" y="11793"/>
                  <a:pt x="5280" y="11798"/>
                  <a:pt x="5209" y="11832"/>
                </a:cubicBezTo>
                <a:cubicBezTo>
                  <a:pt x="5167" y="11852"/>
                  <a:pt x="5036" y="11885"/>
                  <a:pt x="5011" y="11931"/>
                </a:cubicBezTo>
                <a:cubicBezTo>
                  <a:pt x="4986" y="11976"/>
                  <a:pt x="5084" y="11940"/>
                  <a:pt x="5135" y="11931"/>
                </a:cubicBezTo>
                <a:cubicBezTo>
                  <a:pt x="5205" y="11918"/>
                  <a:pt x="5232" y="11908"/>
                  <a:pt x="5283" y="11857"/>
                </a:cubicBezTo>
                <a:cubicBezTo>
                  <a:pt x="5291" y="11857"/>
                  <a:pt x="5300" y="11857"/>
                  <a:pt x="5308" y="11857"/>
                </a:cubicBezTo>
                <a:cubicBezTo>
                  <a:pt x="5293" y="11842"/>
                  <a:pt x="5205" y="11873"/>
                  <a:pt x="5159" y="11906"/>
                </a:cubicBezTo>
                <a:cubicBezTo>
                  <a:pt x="5106" y="11944"/>
                  <a:pt x="5010" y="12022"/>
                  <a:pt x="4986" y="12080"/>
                </a:cubicBezTo>
                <a:cubicBezTo>
                  <a:pt x="4973" y="12111"/>
                  <a:pt x="5018" y="12136"/>
                  <a:pt x="5035" y="12154"/>
                </a:cubicBezTo>
              </a:path>
              <a:path w="6252" h="2258">
                <a:moveTo>
                  <a:pt x="8930" y="12278"/>
                </a:moveTo>
                <a:cubicBezTo>
                  <a:pt x="9001" y="12278"/>
                  <a:pt x="9038" y="12268"/>
                  <a:pt x="9103" y="12278"/>
                </a:cubicBezTo>
                <a:cubicBezTo>
                  <a:pt x="9170" y="12288"/>
                  <a:pt x="9220" y="12284"/>
                  <a:pt x="9277" y="12303"/>
                </a:cubicBezTo>
                <a:cubicBezTo>
                  <a:pt x="9347" y="12326"/>
                  <a:pt x="9246" y="12219"/>
                  <a:pt x="9302" y="12303"/>
                </a:cubicBezTo>
              </a:path>
              <a:path w="6252" h="2258">
                <a:moveTo>
                  <a:pt x="10120" y="11658"/>
                </a:moveTo>
                <a:cubicBezTo>
                  <a:pt x="10120" y="11722"/>
                  <a:pt x="10105" y="11769"/>
                  <a:pt x="10096" y="11832"/>
                </a:cubicBezTo>
                <a:cubicBezTo>
                  <a:pt x="10088" y="11893"/>
                  <a:pt x="10049" y="11946"/>
                  <a:pt x="10046" y="12005"/>
                </a:cubicBezTo>
                <a:cubicBezTo>
                  <a:pt x="10042" y="12088"/>
                  <a:pt x="10064" y="12091"/>
                  <a:pt x="10071" y="12154"/>
                </a:cubicBezTo>
                <a:cubicBezTo>
                  <a:pt x="10075" y="12186"/>
                  <a:pt x="10071" y="12221"/>
                  <a:pt x="10071" y="12254"/>
                </a:cubicBezTo>
              </a:path>
              <a:path w="6252" h="2258">
                <a:moveTo>
                  <a:pt x="9451" y="12526"/>
                </a:moveTo>
                <a:cubicBezTo>
                  <a:pt x="9545" y="12518"/>
                  <a:pt x="9625" y="12502"/>
                  <a:pt x="9723" y="12502"/>
                </a:cubicBezTo>
                <a:cubicBezTo>
                  <a:pt x="9996" y="12502"/>
                  <a:pt x="10269" y="12502"/>
                  <a:pt x="10542" y="12502"/>
                </a:cubicBezTo>
              </a:path>
              <a:path w="6252" h="2258">
                <a:moveTo>
                  <a:pt x="9748" y="12923"/>
                </a:moveTo>
                <a:cubicBezTo>
                  <a:pt x="9738" y="12858"/>
                  <a:pt x="9741" y="12849"/>
                  <a:pt x="9674" y="12849"/>
                </a:cubicBezTo>
                <a:cubicBezTo>
                  <a:pt x="9634" y="12849"/>
                  <a:pt x="9535" y="12857"/>
                  <a:pt x="9500" y="12874"/>
                </a:cubicBezTo>
                <a:cubicBezTo>
                  <a:pt x="9456" y="12895"/>
                  <a:pt x="9434" y="12912"/>
                  <a:pt x="9401" y="12923"/>
                </a:cubicBezTo>
                <a:cubicBezTo>
                  <a:pt x="9409" y="12946"/>
                  <a:pt x="9410" y="12971"/>
                  <a:pt x="9426" y="12998"/>
                </a:cubicBezTo>
                <a:cubicBezTo>
                  <a:pt x="9449" y="13038"/>
                  <a:pt x="9519" y="13059"/>
                  <a:pt x="9550" y="13097"/>
                </a:cubicBezTo>
                <a:cubicBezTo>
                  <a:pt x="9592" y="13149"/>
                  <a:pt x="9639" y="13213"/>
                  <a:pt x="9674" y="13271"/>
                </a:cubicBezTo>
                <a:cubicBezTo>
                  <a:pt x="9703" y="13319"/>
                  <a:pt x="9723" y="13341"/>
                  <a:pt x="9723" y="13395"/>
                </a:cubicBezTo>
                <a:cubicBezTo>
                  <a:pt x="9723" y="13437"/>
                  <a:pt x="9718" y="13454"/>
                  <a:pt x="9674" y="13469"/>
                </a:cubicBezTo>
                <a:cubicBezTo>
                  <a:pt x="9605" y="13492"/>
                  <a:pt x="9506" y="13463"/>
                  <a:pt x="9451" y="13444"/>
                </a:cubicBezTo>
                <a:cubicBezTo>
                  <a:pt x="9426" y="13444"/>
                  <a:pt x="9418" y="13444"/>
                  <a:pt x="9426" y="13419"/>
                </a:cubicBezTo>
              </a:path>
              <a:path w="6252" h="2258">
                <a:moveTo>
                  <a:pt x="9996" y="13196"/>
                </a:moveTo>
                <a:cubicBezTo>
                  <a:pt x="9988" y="13238"/>
                  <a:pt x="9893" y="13498"/>
                  <a:pt x="9971" y="13444"/>
                </a:cubicBezTo>
              </a:path>
              <a:path w="6252" h="2258">
                <a:moveTo>
                  <a:pt x="10096" y="12750"/>
                </a:moveTo>
                <a:cubicBezTo>
                  <a:pt x="10156" y="12698"/>
                  <a:pt x="10132" y="12700"/>
                  <a:pt x="10195" y="12700"/>
                </a:cubicBezTo>
              </a:path>
              <a:path w="6252" h="2258">
                <a:moveTo>
                  <a:pt x="10120" y="13345"/>
                </a:moveTo>
                <a:cubicBezTo>
                  <a:pt x="10120" y="13402"/>
                  <a:pt x="10143" y="13305"/>
                  <a:pt x="10145" y="13295"/>
                </a:cubicBezTo>
                <a:cubicBezTo>
                  <a:pt x="10157" y="13240"/>
                  <a:pt x="10171" y="13169"/>
                  <a:pt x="10195" y="13122"/>
                </a:cubicBezTo>
                <a:cubicBezTo>
                  <a:pt x="10215" y="13083"/>
                  <a:pt x="10265" y="13030"/>
                  <a:pt x="10294" y="12998"/>
                </a:cubicBezTo>
                <a:cubicBezTo>
                  <a:pt x="10316" y="12974"/>
                  <a:pt x="10353" y="12926"/>
                  <a:pt x="10393" y="12948"/>
                </a:cubicBezTo>
                <a:cubicBezTo>
                  <a:pt x="10455" y="12982"/>
                  <a:pt x="10454" y="13040"/>
                  <a:pt x="10468" y="13097"/>
                </a:cubicBezTo>
                <a:cubicBezTo>
                  <a:pt x="10489" y="13180"/>
                  <a:pt x="10484" y="13294"/>
                  <a:pt x="10517" y="13370"/>
                </a:cubicBezTo>
                <a:cubicBezTo>
                  <a:pt x="10539" y="13421"/>
                  <a:pt x="10561" y="13410"/>
                  <a:pt x="10592" y="13395"/>
                </a:cubicBezTo>
              </a:path>
              <a:path w="6252" h="2258">
                <a:moveTo>
                  <a:pt x="10740" y="12973"/>
                </a:moveTo>
                <a:cubicBezTo>
                  <a:pt x="10803" y="13079"/>
                  <a:pt x="10861" y="13199"/>
                  <a:pt x="10939" y="13295"/>
                </a:cubicBezTo>
                <a:cubicBezTo>
                  <a:pt x="11005" y="13376"/>
                  <a:pt x="11070" y="13403"/>
                  <a:pt x="11162" y="13444"/>
                </a:cubicBezTo>
              </a:path>
              <a:path w="6252" h="2258">
                <a:moveTo>
                  <a:pt x="11237" y="13022"/>
                </a:moveTo>
                <a:cubicBezTo>
                  <a:pt x="11106" y="13101"/>
                  <a:pt x="11000" y="13222"/>
                  <a:pt x="10864" y="13295"/>
                </a:cubicBezTo>
                <a:cubicBezTo>
                  <a:pt x="10755" y="13353"/>
                  <a:pt x="10650" y="13408"/>
                  <a:pt x="10542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920" y="5232240"/>
            <a:ext cx="1616040" cy="795600"/>
          </a:xfrm>
          <a:custGeom>
            <a:avLst/>
            <a:gdLst/>
            <a:ahLst/>
            <a:rect l="l" t="t" r="r" b="b"/>
            <a:pathLst>
              <a:path w="4491" h="2208">
                <a:moveTo>
                  <a:pt x="7541" y="14536"/>
                </a:moveTo>
                <a:cubicBezTo>
                  <a:pt x="7525" y="14631"/>
                  <a:pt x="7457" y="14832"/>
                  <a:pt x="7466" y="14932"/>
                </a:cubicBezTo>
                <a:cubicBezTo>
                  <a:pt x="7471" y="14989"/>
                  <a:pt x="7491" y="15042"/>
                  <a:pt x="7491" y="15106"/>
                </a:cubicBezTo>
                <a:cubicBezTo>
                  <a:pt x="7491" y="15114"/>
                  <a:pt x="7491" y="15123"/>
                  <a:pt x="7491" y="15131"/>
                </a:cubicBezTo>
              </a:path>
              <a:path w="4491" h="2208">
                <a:moveTo>
                  <a:pt x="6970" y="15230"/>
                </a:moveTo>
                <a:cubicBezTo>
                  <a:pt x="6990" y="15260"/>
                  <a:pt x="7112" y="15274"/>
                  <a:pt x="7169" y="15280"/>
                </a:cubicBezTo>
                <a:cubicBezTo>
                  <a:pt x="7284" y="15293"/>
                  <a:pt x="7403" y="15319"/>
                  <a:pt x="7516" y="15329"/>
                </a:cubicBezTo>
                <a:cubicBezTo>
                  <a:pt x="7623" y="15339"/>
                  <a:pt x="7731" y="15354"/>
                  <a:pt x="7838" y="15354"/>
                </a:cubicBezTo>
                <a:cubicBezTo>
                  <a:pt x="7880" y="15354"/>
                  <a:pt x="7896" y="15362"/>
                  <a:pt x="7888" y="15329"/>
                </a:cubicBezTo>
              </a:path>
              <a:path w="4491" h="2208">
                <a:moveTo>
                  <a:pt x="7441" y="15627"/>
                </a:moveTo>
                <a:cubicBezTo>
                  <a:pt x="7441" y="15685"/>
                  <a:pt x="7441" y="15693"/>
                  <a:pt x="7441" y="15726"/>
                </a:cubicBezTo>
                <a:cubicBezTo>
                  <a:pt x="7461" y="15716"/>
                  <a:pt x="7447" y="15651"/>
                  <a:pt x="7417" y="15602"/>
                </a:cubicBezTo>
                <a:cubicBezTo>
                  <a:pt x="7396" y="15567"/>
                  <a:pt x="7306" y="15535"/>
                  <a:pt x="7268" y="15528"/>
                </a:cubicBezTo>
                <a:cubicBezTo>
                  <a:pt x="7142" y="15506"/>
                  <a:pt x="7091" y="15585"/>
                  <a:pt x="7045" y="15677"/>
                </a:cubicBezTo>
                <a:cubicBezTo>
                  <a:pt x="7002" y="15763"/>
                  <a:pt x="6995" y="15803"/>
                  <a:pt x="6995" y="15900"/>
                </a:cubicBezTo>
                <a:cubicBezTo>
                  <a:pt x="6995" y="15954"/>
                  <a:pt x="7027" y="16059"/>
                  <a:pt x="7069" y="16098"/>
                </a:cubicBezTo>
                <a:cubicBezTo>
                  <a:pt x="7136" y="16160"/>
                  <a:pt x="7162" y="16164"/>
                  <a:pt x="7243" y="16148"/>
                </a:cubicBezTo>
              </a:path>
              <a:path w="4491" h="2208">
                <a:moveTo>
                  <a:pt x="7590" y="15726"/>
                </a:moveTo>
                <a:cubicBezTo>
                  <a:pt x="7566" y="15817"/>
                  <a:pt x="7519" y="15927"/>
                  <a:pt x="7541" y="16024"/>
                </a:cubicBezTo>
                <a:cubicBezTo>
                  <a:pt x="7553" y="16076"/>
                  <a:pt x="7616" y="16158"/>
                  <a:pt x="7665" y="16173"/>
                </a:cubicBezTo>
                <a:cubicBezTo>
                  <a:pt x="7725" y="16191"/>
                  <a:pt x="7780" y="16196"/>
                  <a:pt x="7838" y="16173"/>
                </a:cubicBezTo>
                <a:cubicBezTo>
                  <a:pt x="7927" y="16138"/>
                  <a:pt x="7934" y="16088"/>
                  <a:pt x="7938" y="15999"/>
                </a:cubicBezTo>
                <a:cubicBezTo>
                  <a:pt x="7941" y="15946"/>
                  <a:pt x="7939" y="15844"/>
                  <a:pt x="7913" y="15801"/>
                </a:cubicBezTo>
                <a:cubicBezTo>
                  <a:pt x="7889" y="15762"/>
                  <a:pt x="7815" y="15693"/>
                  <a:pt x="7764" y="15701"/>
                </a:cubicBezTo>
                <a:cubicBezTo>
                  <a:pt x="7698" y="15712"/>
                  <a:pt x="7640" y="15721"/>
                  <a:pt x="7590" y="15751"/>
                </a:cubicBezTo>
              </a:path>
              <a:path w="4491" h="2208">
                <a:moveTo>
                  <a:pt x="8161" y="15677"/>
                </a:moveTo>
                <a:cubicBezTo>
                  <a:pt x="8128" y="15677"/>
                  <a:pt x="8080" y="15664"/>
                  <a:pt x="8062" y="15701"/>
                </a:cubicBezTo>
                <a:cubicBezTo>
                  <a:pt x="8040" y="15746"/>
                  <a:pt x="8093" y="15815"/>
                  <a:pt x="8111" y="15850"/>
                </a:cubicBezTo>
                <a:cubicBezTo>
                  <a:pt x="8150" y="15929"/>
                  <a:pt x="8196" y="15991"/>
                  <a:pt x="8235" y="16073"/>
                </a:cubicBezTo>
                <a:cubicBezTo>
                  <a:pt x="8257" y="16119"/>
                  <a:pt x="8327" y="16196"/>
                  <a:pt x="8310" y="16247"/>
                </a:cubicBezTo>
                <a:cubicBezTo>
                  <a:pt x="8284" y="16324"/>
                  <a:pt x="8224" y="16280"/>
                  <a:pt x="8186" y="16272"/>
                </a:cubicBezTo>
                <a:cubicBezTo>
                  <a:pt x="8112" y="16257"/>
                  <a:pt x="8081" y="16220"/>
                  <a:pt x="8012" y="16197"/>
                </a:cubicBezTo>
                <a:cubicBezTo>
                  <a:pt x="7978" y="16186"/>
                  <a:pt x="7990" y="16184"/>
                  <a:pt x="7962" y="16148"/>
                </a:cubicBezTo>
              </a:path>
              <a:path w="4491" h="2208">
                <a:moveTo>
                  <a:pt x="8706" y="15156"/>
                </a:moveTo>
                <a:cubicBezTo>
                  <a:pt x="8706" y="15121"/>
                  <a:pt x="8711" y="15122"/>
                  <a:pt x="8731" y="15180"/>
                </a:cubicBezTo>
              </a:path>
              <a:path w="4491" h="2208">
                <a:moveTo>
                  <a:pt x="8756" y="15627"/>
                </a:moveTo>
                <a:cubicBezTo>
                  <a:pt x="8756" y="15660"/>
                  <a:pt x="8756" y="15693"/>
                  <a:pt x="8756" y="15726"/>
                </a:cubicBezTo>
              </a:path>
              <a:path w="4491" h="2208">
                <a:moveTo>
                  <a:pt x="8756" y="15156"/>
                </a:moveTo>
                <a:cubicBezTo>
                  <a:pt x="8719" y="15201"/>
                  <a:pt x="8670" y="15271"/>
                  <a:pt x="8657" y="15329"/>
                </a:cubicBezTo>
                <a:cubicBezTo>
                  <a:pt x="8645" y="15384"/>
                  <a:pt x="8651" y="15438"/>
                  <a:pt x="8682" y="15478"/>
                </a:cubicBezTo>
                <a:cubicBezTo>
                  <a:pt x="8730" y="15478"/>
                  <a:pt x="8740" y="15488"/>
                  <a:pt x="8756" y="15453"/>
                </a:cubicBezTo>
                <a:cubicBezTo>
                  <a:pt x="8791" y="15379"/>
                  <a:pt x="8806" y="15366"/>
                  <a:pt x="8806" y="15280"/>
                </a:cubicBezTo>
                <a:cubicBezTo>
                  <a:pt x="8806" y="15252"/>
                  <a:pt x="8804" y="15241"/>
                  <a:pt x="8781" y="15230"/>
                </a:cubicBezTo>
                <a:cubicBezTo>
                  <a:pt x="8705" y="15230"/>
                  <a:pt x="8707" y="15225"/>
                  <a:pt x="8657" y="15280"/>
                </a:cubicBezTo>
                <a:cubicBezTo>
                  <a:pt x="8613" y="15328"/>
                  <a:pt x="8584" y="15344"/>
                  <a:pt x="8632" y="15404"/>
                </a:cubicBezTo>
                <a:cubicBezTo>
                  <a:pt x="8658" y="15437"/>
                  <a:pt x="8692" y="15474"/>
                  <a:pt x="8731" y="15478"/>
                </a:cubicBezTo>
                <a:cubicBezTo>
                  <a:pt x="8766" y="15482"/>
                  <a:pt x="8819" y="15470"/>
                  <a:pt x="8830" y="15429"/>
                </a:cubicBezTo>
                <a:cubicBezTo>
                  <a:pt x="8837" y="15404"/>
                  <a:pt x="8830" y="15357"/>
                  <a:pt x="8830" y="15329"/>
                </a:cubicBezTo>
                <a:cubicBezTo>
                  <a:pt x="8774" y="15286"/>
                  <a:pt x="8717" y="15315"/>
                  <a:pt x="8657" y="15354"/>
                </a:cubicBezTo>
                <a:cubicBezTo>
                  <a:pt x="8623" y="15376"/>
                  <a:pt x="8632" y="15395"/>
                  <a:pt x="8632" y="15429"/>
                </a:cubicBezTo>
                <a:cubicBezTo>
                  <a:pt x="8647" y="15488"/>
                  <a:pt x="8672" y="15478"/>
                  <a:pt x="8731" y="15478"/>
                </a:cubicBezTo>
                <a:cubicBezTo>
                  <a:pt x="8785" y="15478"/>
                  <a:pt x="8786" y="15435"/>
                  <a:pt x="8806" y="15404"/>
                </a:cubicBezTo>
                <a:cubicBezTo>
                  <a:pt x="8824" y="15376"/>
                  <a:pt x="8841" y="15327"/>
                  <a:pt x="8806" y="15304"/>
                </a:cubicBezTo>
                <a:cubicBezTo>
                  <a:pt x="8767" y="15278"/>
                  <a:pt x="8778" y="15271"/>
                  <a:pt x="8781" y="15255"/>
                </a:cubicBezTo>
                <a:cubicBezTo>
                  <a:pt x="8781" y="15238"/>
                  <a:pt x="8781" y="15222"/>
                  <a:pt x="8781" y="15205"/>
                </a:cubicBezTo>
              </a:path>
              <a:path w="4491" h="2208">
                <a:moveTo>
                  <a:pt x="9922" y="14585"/>
                </a:moveTo>
                <a:cubicBezTo>
                  <a:pt x="9849" y="14570"/>
                  <a:pt x="9801" y="14536"/>
                  <a:pt x="9723" y="14536"/>
                </a:cubicBezTo>
                <a:cubicBezTo>
                  <a:pt x="9649" y="14536"/>
                  <a:pt x="9607" y="14533"/>
                  <a:pt x="9550" y="14585"/>
                </a:cubicBezTo>
                <a:cubicBezTo>
                  <a:pt x="9504" y="14626"/>
                  <a:pt x="9522" y="14687"/>
                  <a:pt x="9550" y="14734"/>
                </a:cubicBezTo>
                <a:cubicBezTo>
                  <a:pt x="9610" y="14836"/>
                  <a:pt x="9699" y="14898"/>
                  <a:pt x="9773" y="14982"/>
                </a:cubicBezTo>
                <a:cubicBezTo>
                  <a:pt x="9850" y="15070"/>
                  <a:pt x="9860" y="15108"/>
                  <a:pt x="9847" y="15205"/>
                </a:cubicBezTo>
                <a:cubicBezTo>
                  <a:pt x="9842" y="15242"/>
                  <a:pt x="9767" y="15292"/>
                  <a:pt x="9723" y="15280"/>
                </a:cubicBezTo>
                <a:cubicBezTo>
                  <a:pt x="9692" y="15272"/>
                  <a:pt x="9610" y="15244"/>
                  <a:pt x="9599" y="15205"/>
                </a:cubicBezTo>
                <a:cubicBezTo>
                  <a:pt x="9581" y="15144"/>
                  <a:pt x="9614" y="15099"/>
                  <a:pt x="9649" y="15056"/>
                </a:cubicBezTo>
              </a:path>
              <a:path w="4491" h="2208">
                <a:moveTo>
                  <a:pt x="10145" y="14883"/>
                </a:moveTo>
                <a:cubicBezTo>
                  <a:pt x="10153" y="15013"/>
                  <a:pt x="10218" y="15376"/>
                  <a:pt x="10170" y="15255"/>
                </a:cubicBezTo>
                <a:cubicBezTo>
                  <a:pt x="10162" y="15238"/>
                  <a:pt x="10153" y="15222"/>
                  <a:pt x="10145" y="15205"/>
                </a:cubicBezTo>
              </a:path>
              <a:path w="4491" h="2208">
                <a:moveTo>
                  <a:pt x="10220" y="14585"/>
                </a:moveTo>
                <a:cubicBezTo>
                  <a:pt x="10257" y="14528"/>
                  <a:pt x="10235" y="14536"/>
                  <a:pt x="10294" y="14536"/>
                </a:cubicBezTo>
              </a:path>
              <a:path w="4491" h="2208">
                <a:moveTo>
                  <a:pt x="10418" y="15056"/>
                </a:moveTo>
                <a:cubicBezTo>
                  <a:pt x="10432" y="15147"/>
                  <a:pt x="10413" y="15212"/>
                  <a:pt x="10468" y="15230"/>
                </a:cubicBezTo>
                <a:cubicBezTo>
                  <a:pt x="10468" y="15177"/>
                  <a:pt x="10478" y="15104"/>
                  <a:pt x="10492" y="15056"/>
                </a:cubicBezTo>
                <a:cubicBezTo>
                  <a:pt x="10513" y="14982"/>
                  <a:pt x="10525" y="14907"/>
                  <a:pt x="10542" y="14833"/>
                </a:cubicBezTo>
                <a:cubicBezTo>
                  <a:pt x="10542" y="14808"/>
                  <a:pt x="10542" y="14800"/>
                  <a:pt x="10567" y="14808"/>
                </a:cubicBezTo>
                <a:cubicBezTo>
                  <a:pt x="10638" y="14880"/>
                  <a:pt x="10681" y="14961"/>
                  <a:pt x="10716" y="15056"/>
                </a:cubicBezTo>
                <a:cubicBezTo>
                  <a:pt x="10744" y="15131"/>
                  <a:pt x="10832" y="15253"/>
                  <a:pt x="10914" y="15280"/>
                </a:cubicBezTo>
                <a:cubicBezTo>
                  <a:pt x="10959" y="15280"/>
                  <a:pt x="10972" y="15284"/>
                  <a:pt x="10988" y="15255"/>
                </a:cubicBezTo>
              </a:path>
              <a:path w="4491" h="2208">
                <a:moveTo>
                  <a:pt x="10988" y="14858"/>
                </a:moveTo>
                <a:cubicBezTo>
                  <a:pt x="11032" y="14970"/>
                  <a:pt x="11071" y="15118"/>
                  <a:pt x="11162" y="15205"/>
                </a:cubicBezTo>
                <a:cubicBezTo>
                  <a:pt x="11244" y="15283"/>
                  <a:pt x="11309" y="15317"/>
                  <a:pt x="11410" y="15280"/>
                </a:cubicBezTo>
              </a:path>
              <a:path w="4491" h="2208">
                <a:moveTo>
                  <a:pt x="11460" y="14858"/>
                </a:moveTo>
                <a:cubicBezTo>
                  <a:pt x="11305" y="14968"/>
                  <a:pt x="11214" y="15049"/>
                  <a:pt x="11088" y="15180"/>
                </a:cubicBezTo>
                <a:cubicBezTo>
                  <a:pt x="11017" y="15251"/>
                  <a:pt x="10997" y="15273"/>
                  <a:pt x="10939" y="15304"/>
                </a:cubicBezTo>
              </a:path>
              <a:path w="4491" h="2208">
                <a:moveTo>
                  <a:pt x="9029" y="14784"/>
                </a:moveTo>
                <a:cubicBezTo>
                  <a:pt x="9186" y="14764"/>
                  <a:pt x="9210" y="14756"/>
                  <a:pt x="9302" y="14759"/>
                </a:cubicBezTo>
              </a:path>
              <a:path w="4491" h="2208">
                <a:moveTo>
                  <a:pt x="9699" y="15453"/>
                </a:moveTo>
                <a:cubicBezTo>
                  <a:pt x="9857" y="15453"/>
                  <a:pt x="10014" y="15459"/>
                  <a:pt x="10170" y="15478"/>
                </a:cubicBezTo>
                <a:cubicBezTo>
                  <a:pt x="10346" y="15499"/>
                  <a:pt x="10514" y="15503"/>
                  <a:pt x="10691" y="15503"/>
                </a:cubicBezTo>
                <a:cubicBezTo>
                  <a:pt x="10818" y="15503"/>
                  <a:pt x="10946" y="15497"/>
                  <a:pt x="11063" y="15453"/>
                </a:cubicBezTo>
              </a:path>
              <a:path w="4491" h="2208">
                <a:moveTo>
                  <a:pt x="10666" y="15925"/>
                </a:moveTo>
                <a:cubicBezTo>
                  <a:pt x="10652" y="16154"/>
                  <a:pt x="10672" y="16342"/>
                  <a:pt x="10691" y="16570"/>
                </a:cubicBezTo>
                <a:cubicBezTo>
                  <a:pt x="10697" y="16639"/>
                  <a:pt x="10681" y="16686"/>
                  <a:pt x="10716" y="167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3240" y="6429240"/>
            <a:ext cx="349560" cy="250920"/>
          </a:xfrm>
          <a:custGeom>
            <a:avLst/>
            <a:gdLst/>
            <a:ahLst/>
            <a:rect l="l" t="t" r="r" b="b"/>
            <a:pathLst>
              <a:path w="968" h="696">
                <a:moveTo>
                  <a:pt x="8756" y="17884"/>
                </a:moveTo>
                <a:cubicBezTo>
                  <a:pt x="8731" y="17909"/>
                  <a:pt x="8723" y="17917"/>
                  <a:pt x="8756" y="17934"/>
                </a:cubicBezTo>
                <a:cubicBezTo>
                  <a:pt x="8722" y="17889"/>
                  <a:pt x="8723" y="17876"/>
                  <a:pt x="8657" y="17859"/>
                </a:cubicBezTo>
                <a:cubicBezTo>
                  <a:pt x="8595" y="17843"/>
                  <a:pt x="8436" y="17900"/>
                  <a:pt x="8384" y="17934"/>
                </a:cubicBezTo>
                <a:cubicBezTo>
                  <a:pt x="8331" y="17969"/>
                  <a:pt x="8257" y="18066"/>
                  <a:pt x="8260" y="18132"/>
                </a:cubicBezTo>
                <a:cubicBezTo>
                  <a:pt x="8264" y="18214"/>
                  <a:pt x="8348" y="18307"/>
                  <a:pt x="8409" y="18355"/>
                </a:cubicBezTo>
                <a:cubicBezTo>
                  <a:pt x="8504" y="18429"/>
                  <a:pt x="8573" y="18407"/>
                  <a:pt x="8682" y="18380"/>
                </a:cubicBezTo>
              </a:path>
              <a:path w="968" h="696">
                <a:moveTo>
                  <a:pt x="8880" y="18058"/>
                </a:moveTo>
                <a:cubicBezTo>
                  <a:pt x="8837" y="18118"/>
                  <a:pt x="8773" y="18167"/>
                  <a:pt x="8781" y="18256"/>
                </a:cubicBezTo>
                <a:cubicBezTo>
                  <a:pt x="8786" y="18303"/>
                  <a:pt x="8839" y="18351"/>
                  <a:pt x="8880" y="18355"/>
                </a:cubicBezTo>
                <a:cubicBezTo>
                  <a:pt x="8971" y="18365"/>
                  <a:pt x="8955" y="18304"/>
                  <a:pt x="8979" y="18256"/>
                </a:cubicBezTo>
                <a:cubicBezTo>
                  <a:pt x="9012" y="18190"/>
                  <a:pt x="9001" y="18151"/>
                  <a:pt x="8954" y="18083"/>
                </a:cubicBezTo>
                <a:cubicBezTo>
                  <a:pt x="8940" y="18063"/>
                  <a:pt x="8871" y="17990"/>
                  <a:pt x="8880" y="17983"/>
                </a:cubicBezTo>
                <a:cubicBezTo>
                  <a:pt x="8888" y="17983"/>
                  <a:pt x="8897" y="17983"/>
                  <a:pt x="8905" y="17983"/>
                </a:cubicBezTo>
              </a:path>
              <a:path w="968" h="696">
                <a:moveTo>
                  <a:pt x="9227" y="17983"/>
                </a:moveTo>
                <a:cubicBezTo>
                  <a:pt x="9145" y="18221"/>
                  <a:pt x="9165" y="18221"/>
                  <a:pt x="9203" y="18455"/>
                </a:cubicBezTo>
                <a:cubicBezTo>
                  <a:pt x="9208" y="18485"/>
                  <a:pt x="9203" y="18523"/>
                  <a:pt x="9203" y="18554"/>
                </a:cubicBezTo>
                <a:cubicBezTo>
                  <a:pt x="9162" y="18554"/>
                  <a:pt x="9111" y="18564"/>
                  <a:pt x="9079" y="18529"/>
                </a:cubicBezTo>
                <a:cubicBezTo>
                  <a:pt x="9056" y="18504"/>
                  <a:pt x="8987" y="18410"/>
                  <a:pt x="8979" y="18380"/>
                </a:cubicBezTo>
                <a:cubicBezTo>
                  <a:pt x="8979" y="18312"/>
                  <a:pt x="8992" y="18282"/>
                  <a:pt x="9054" y="182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44920" y="6286680"/>
            <a:ext cx="1027080" cy="268200"/>
          </a:xfrm>
          <a:custGeom>
            <a:avLst/>
            <a:gdLst/>
            <a:ahLst/>
            <a:rect l="l" t="t" r="r" b="b"/>
            <a:pathLst>
              <a:path w="2854" h="746">
                <a:moveTo>
                  <a:pt x="9872" y="17661"/>
                </a:moveTo>
                <a:cubicBezTo>
                  <a:pt x="9947" y="17661"/>
                  <a:pt x="10003" y="17655"/>
                  <a:pt x="10071" y="17686"/>
                </a:cubicBezTo>
                <a:cubicBezTo>
                  <a:pt x="10087" y="17694"/>
                  <a:pt x="10104" y="17703"/>
                  <a:pt x="10120" y="17711"/>
                </a:cubicBezTo>
              </a:path>
              <a:path w="2854" h="746">
                <a:moveTo>
                  <a:pt x="9847" y="18033"/>
                </a:moveTo>
                <a:cubicBezTo>
                  <a:pt x="9995" y="18047"/>
                  <a:pt x="9999" y="18063"/>
                  <a:pt x="10120" y="18008"/>
                </a:cubicBezTo>
              </a:path>
              <a:path w="2854" h="746">
                <a:moveTo>
                  <a:pt x="10393" y="17785"/>
                </a:moveTo>
                <a:cubicBezTo>
                  <a:pt x="10495" y="17764"/>
                  <a:pt x="10591" y="17762"/>
                  <a:pt x="10691" y="17735"/>
                </a:cubicBezTo>
              </a:path>
              <a:path w="2854" h="746">
                <a:moveTo>
                  <a:pt x="11013" y="17462"/>
                </a:moveTo>
                <a:cubicBezTo>
                  <a:pt x="10983" y="17627"/>
                  <a:pt x="10964" y="17767"/>
                  <a:pt x="10964" y="17934"/>
                </a:cubicBezTo>
                <a:cubicBezTo>
                  <a:pt x="10964" y="18025"/>
                  <a:pt x="10964" y="18116"/>
                  <a:pt x="10964" y="18207"/>
                </a:cubicBezTo>
              </a:path>
              <a:path w="2854" h="746">
                <a:moveTo>
                  <a:pt x="10716" y="17636"/>
                </a:moveTo>
                <a:cubicBezTo>
                  <a:pt x="10843" y="17642"/>
                  <a:pt x="10964" y="17659"/>
                  <a:pt x="11088" y="17686"/>
                </a:cubicBezTo>
                <a:cubicBezTo>
                  <a:pt x="11113" y="17694"/>
                  <a:pt x="11137" y="17703"/>
                  <a:pt x="11162" y="17711"/>
                </a:cubicBezTo>
              </a:path>
              <a:path w="2854" h="746">
                <a:moveTo>
                  <a:pt x="11286" y="17735"/>
                </a:moveTo>
                <a:cubicBezTo>
                  <a:pt x="11221" y="17797"/>
                  <a:pt x="11087" y="17864"/>
                  <a:pt x="11137" y="17983"/>
                </a:cubicBezTo>
                <a:cubicBezTo>
                  <a:pt x="11155" y="18026"/>
                  <a:pt x="11226" y="18008"/>
                  <a:pt x="11261" y="18008"/>
                </a:cubicBezTo>
                <a:cubicBezTo>
                  <a:pt x="11316" y="18008"/>
                  <a:pt x="11329" y="17946"/>
                  <a:pt x="11361" y="17909"/>
                </a:cubicBezTo>
                <a:cubicBezTo>
                  <a:pt x="11390" y="17879"/>
                  <a:pt x="11401" y="17865"/>
                  <a:pt x="11410" y="17835"/>
                </a:cubicBezTo>
                <a:cubicBezTo>
                  <a:pt x="11432" y="17912"/>
                  <a:pt x="11456" y="18036"/>
                  <a:pt x="11534" y="18083"/>
                </a:cubicBezTo>
                <a:cubicBezTo>
                  <a:pt x="11542" y="18083"/>
                  <a:pt x="11551" y="18083"/>
                  <a:pt x="11559" y="18083"/>
                </a:cubicBezTo>
              </a:path>
              <a:path w="2854" h="746">
                <a:moveTo>
                  <a:pt x="11683" y="17735"/>
                </a:moveTo>
                <a:cubicBezTo>
                  <a:pt x="11654" y="17811"/>
                  <a:pt x="11637" y="17876"/>
                  <a:pt x="11633" y="17959"/>
                </a:cubicBezTo>
                <a:cubicBezTo>
                  <a:pt x="11630" y="18013"/>
                  <a:pt x="11654" y="18044"/>
                  <a:pt x="11683" y="18083"/>
                </a:cubicBezTo>
                <a:cubicBezTo>
                  <a:pt x="11696" y="18033"/>
                  <a:pt x="11715" y="17988"/>
                  <a:pt x="11733" y="17934"/>
                </a:cubicBezTo>
                <a:cubicBezTo>
                  <a:pt x="11764" y="17843"/>
                  <a:pt x="11760" y="17769"/>
                  <a:pt x="11807" y="17686"/>
                </a:cubicBezTo>
                <a:cubicBezTo>
                  <a:pt x="11840" y="17627"/>
                  <a:pt x="11825" y="17636"/>
                  <a:pt x="11881" y="17636"/>
                </a:cubicBezTo>
                <a:cubicBezTo>
                  <a:pt x="11922" y="17726"/>
                  <a:pt x="11950" y="17852"/>
                  <a:pt x="12005" y="17934"/>
                </a:cubicBezTo>
                <a:cubicBezTo>
                  <a:pt x="12033" y="17975"/>
                  <a:pt x="12064" y="17998"/>
                  <a:pt x="12105" y="18008"/>
                </a:cubicBezTo>
              </a:path>
              <a:path w="2854" h="746">
                <a:moveTo>
                  <a:pt x="12254" y="17537"/>
                </a:moveTo>
                <a:cubicBezTo>
                  <a:pt x="12348" y="17631"/>
                  <a:pt x="12416" y="17738"/>
                  <a:pt x="12477" y="17859"/>
                </a:cubicBezTo>
                <a:cubicBezTo>
                  <a:pt x="12501" y="17931"/>
                  <a:pt x="12507" y="17954"/>
                  <a:pt x="12551" y="17983"/>
                </a:cubicBezTo>
              </a:path>
              <a:path w="2854" h="746">
                <a:moveTo>
                  <a:pt x="12700" y="17487"/>
                </a:moveTo>
                <a:cubicBezTo>
                  <a:pt x="12498" y="17601"/>
                  <a:pt x="12323" y="17702"/>
                  <a:pt x="12154" y="17859"/>
                </a:cubicBezTo>
                <a:cubicBezTo>
                  <a:pt x="12059" y="17955"/>
                  <a:pt x="12029" y="17984"/>
                  <a:pt x="11981" y="180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6054840"/>
            <a:ext cx="795240" cy="312480"/>
          </a:xfrm>
          <a:custGeom>
            <a:avLst/>
            <a:gdLst/>
            <a:ahLst/>
            <a:rect l="l" t="t" r="r" b="b"/>
            <a:pathLst>
              <a:path w="2208" h="869">
                <a:moveTo>
                  <a:pt x="7268" y="17140"/>
                </a:moveTo>
                <a:cubicBezTo>
                  <a:pt x="7345" y="17130"/>
                  <a:pt x="7413" y="17101"/>
                  <a:pt x="7491" y="17090"/>
                </a:cubicBezTo>
                <a:cubicBezTo>
                  <a:pt x="7508" y="17090"/>
                  <a:pt x="7524" y="17090"/>
                  <a:pt x="7541" y="17090"/>
                </a:cubicBezTo>
              </a:path>
              <a:path w="2208" h="869">
                <a:moveTo>
                  <a:pt x="8086" y="16942"/>
                </a:moveTo>
                <a:cubicBezTo>
                  <a:pt x="8005" y="16904"/>
                  <a:pt x="7967" y="16869"/>
                  <a:pt x="7888" y="16917"/>
                </a:cubicBezTo>
                <a:cubicBezTo>
                  <a:pt x="7845" y="16943"/>
                  <a:pt x="7823" y="16990"/>
                  <a:pt x="7838" y="17041"/>
                </a:cubicBezTo>
                <a:cubicBezTo>
                  <a:pt x="7860" y="17116"/>
                  <a:pt x="7942" y="17178"/>
                  <a:pt x="7987" y="17239"/>
                </a:cubicBezTo>
                <a:cubicBezTo>
                  <a:pt x="8033" y="17301"/>
                  <a:pt x="8108" y="17391"/>
                  <a:pt x="8136" y="17462"/>
                </a:cubicBezTo>
                <a:cubicBezTo>
                  <a:pt x="8136" y="17470"/>
                  <a:pt x="8136" y="17479"/>
                  <a:pt x="8136" y="17487"/>
                </a:cubicBezTo>
                <a:cubicBezTo>
                  <a:pt x="8106" y="17509"/>
                  <a:pt x="8055" y="17530"/>
                  <a:pt x="8012" y="17512"/>
                </a:cubicBezTo>
                <a:cubicBezTo>
                  <a:pt x="7983" y="17500"/>
                  <a:pt x="7884" y="17438"/>
                  <a:pt x="7863" y="17413"/>
                </a:cubicBezTo>
                <a:cubicBezTo>
                  <a:pt x="7843" y="17372"/>
                  <a:pt x="7834" y="17366"/>
                  <a:pt x="7838" y="17338"/>
                </a:cubicBezTo>
              </a:path>
              <a:path w="2208" h="869">
                <a:moveTo>
                  <a:pt x="8310" y="17314"/>
                </a:moveTo>
                <a:cubicBezTo>
                  <a:pt x="8310" y="17388"/>
                  <a:pt x="8310" y="17463"/>
                  <a:pt x="8310" y="17537"/>
                </a:cubicBezTo>
                <a:cubicBezTo>
                  <a:pt x="8343" y="17491"/>
                  <a:pt x="8352" y="17447"/>
                  <a:pt x="8359" y="17388"/>
                </a:cubicBezTo>
              </a:path>
              <a:path w="2208" h="869">
                <a:moveTo>
                  <a:pt x="8458" y="16818"/>
                </a:moveTo>
                <a:cubicBezTo>
                  <a:pt x="8533" y="16909"/>
                  <a:pt x="8547" y="16998"/>
                  <a:pt x="8582" y="17115"/>
                </a:cubicBezTo>
              </a:path>
              <a:path w="2208" h="869">
                <a:moveTo>
                  <a:pt x="8582" y="17438"/>
                </a:moveTo>
                <a:cubicBezTo>
                  <a:pt x="8582" y="17495"/>
                  <a:pt x="8599" y="17334"/>
                  <a:pt x="8607" y="17314"/>
                </a:cubicBezTo>
                <a:cubicBezTo>
                  <a:pt x="8633" y="17247"/>
                  <a:pt x="8668" y="17173"/>
                  <a:pt x="8706" y="17115"/>
                </a:cubicBezTo>
                <a:cubicBezTo>
                  <a:pt x="8763" y="17129"/>
                  <a:pt x="8784" y="17182"/>
                  <a:pt x="8806" y="17239"/>
                </a:cubicBezTo>
                <a:cubicBezTo>
                  <a:pt x="8857" y="17371"/>
                  <a:pt x="8872" y="17396"/>
                  <a:pt x="8979" y="17487"/>
                </a:cubicBezTo>
                <a:cubicBezTo>
                  <a:pt x="9043" y="17542"/>
                  <a:pt x="9037" y="17553"/>
                  <a:pt x="9103" y="17512"/>
                </a:cubicBezTo>
              </a:path>
              <a:path w="2208" h="869">
                <a:moveTo>
                  <a:pt x="9103" y="17066"/>
                </a:moveTo>
                <a:cubicBezTo>
                  <a:pt x="9133" y="17194"/>
                  <a:pt x="9168" y="17306"/>
                  <a:pt x="9252" y="17413"/>
                </a:cubicBezTo>
                <a:cubicBezTo>
                  <a:pt x="9307" y="17484"/>
                  <a:pt x="9373" y="17523"/>
                  <a:pt x="9451" y="17562"/>
                </a:cubicBezTo>
              </a:path>
              <a:path w="2208" h="869">
                <a:moveTo>
                  <a:pt x="9475" y="17264"/>
                </a:moveTo>
                <a:cubicBezTo>
                  <a:pt x="9322" y="17351"/>
                  <a:pt x="9148" y="17476"/>
                  <a:pt x="8979" y="17537"/>
                </a:cubicBezTo>
                <a:cubicBezTo>
                  <a:pt x="8946" y="17545"/>
                  <a:pt x="8913" y="17554"/>
                  <a:pt x="8880" y="17562"/>
                </a:cubicBezTo>
              </a:path>
              <a:path w="2208" h="869">
                <a:moveTo>
                  <a:pt x="7888" y="17636"/>
                </a:moveTo>
                <a:cubicBezTo>
                  <a:pt x="8107" y="17654"/>
                  <a:pt x="8314" y="17661"/>
                  <a:pt x="8533" y="17661"/>
                </a:cubicBezTo>
                <a:cubicBezTo>
                  <a:pt x="8720" y="17661"/>
                  <a:pt x="8957" y="17629"/>
                  <a:pt x="9128" y="17686"/>
                </a:cubicBezTo>
                <a:cubicBezTo>
                  <a:pt x="9136" y="17686"/>
                  <a:pt x="9145" y="17686"/>
                  <a:pt x="9153" y="176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880" y="1268280"/>
            <a:ext cx="4643280" cy="652680"/>
          </a:xfrm>
          <a:custGeom>
            <a:avLst/>
            <a:gdLst/>
            <a:ahLst/>
            <a:rect l="l" t="t" r="r" b="b"/>
            <a:pathLst>
              <a:path w="12899" h="1812">
                <a:moveTo>
                  <a:pt x="2480" y="4018"/>
                </a:moveTo>
                <a:cubicBezTo>
                  <a:pt x="2443" y="4104"/>
                  <a:pt x="2476" y="4093"/>
                  <a:pt x="2406" y="4093"/>
                </a:cubicBezTo>
                <a:cubicBezTo>
                  <a:pt x="2406" y="4034"/>
                  <a:pt x="2427" y="4041"/>
                  <a:pt x="2456" y="3994"/>
                </a:cubicBezTo>
                <a:cubicBezTo>
                  <a:pt x="2501" y="3924"/>
                  <a:pt x="2494" y="3919"/>
                  <a:pt x="2580" y="3919"/>
                </a:cubicBezTo>
                <a:cubicBezTo>
                  <a:pt x="2677" y="3919"/>
                  <a:pt x="2739" y="3978"/>
                  <a:pt x="2778" y="4068"/>
                </a:cubicBezTo>
                <a:cubicBezTo>
                  <a:pt x="2835" y="4199"/>
                  <a:pt x="2792" y="4311"/>
                  <a:pt x="2753" y="4440"/>
                </a:cubicBezTo>
                <a:cubicBezTo>
                  <a:pt x="2724" y="4535"/>
                  <a:pt x="2637" y="4629"/>
                  <a:pt x="2555" y="4688"/>
                </a:cubicBezTo>
                <a:cubicBezTo>
                  <a:pt x="2522" y="4712"/>
                  <a:pt x="2423" y="4731"/>
                  <a:pt x="2381" y="4713"/>
                </a:cubicBezTo>
                <a:cubicBezTo>
                  <a:pt x="2339" y="4696"/>
                  <a:pt x="2315" y="4630"/>
                  <a:pt x="2332" y="4589"/>
                </a:cubicBezTo>
                <a:cubicBezTo>
                  <a:pt x="2359" y="4522"/>
                  <a:pt x="2390" y="4514"/>
                  <a:pt x="2456" y="4514"/>
                </a:cubicBezTo>
                <a:cubicBezTo>
                  <a:pt x="2521" y="4514"/>
                  <a:pt x="2528" y="4546"/>
                  <a:pt x="2580" y="4564"/>
                </a:cubicBezTo>
                <a:cubicBezTo>
                  <a:pt x="2615" y="4576"/>
                  <a:pt x="2659" y="4608"/>
                  <a:pt x="2704" y="4589"/>
                </a:cubicBezTo>
                <a:cubicBezTo>
                  <a:pt x="2741" y="4574"/>
                  <a:pt x="2774" y="4519"/>
                  <a:pt x="2803" y="4490"/>
                </a:cubicBezTo>
              </a:path>
              <a:path w="12899" h="1812">
                <a:moveTo>
                  <a:pt x="3175" y="3969"/>
                </a:moveTo>
                <a:cubicBezTo>
                  <a:pt x="3193" y="3878"/>
                  <a:pt x="3235" y="3837"/>
                  <a:pt x="3175" y="3845"/>
                </a:cubicBezTo>
                <a:cubicBezTo>
                  <a:pt x="3123" y="3884"/>
                  <a:pt x="3096" y="3916"/>
                  <a:pt x="3051" y="3969"/>
                </a:cubicBezTo>
                <a:cubicBezTo>
                  <a:pt x="3035" y="3988"/>
                  <a:pt x="2962" y="4057"/>
                  <a:pt x="2977" y="4093"/>
                </a:cubicBezTo>
                <a:cubicBezTo>
                  <a:pt x="2990" y="4123"/>
                  <a:pt x="3042" y="4160"/>
                  <a:pt x="3076" y="4142"/>
                </a:cubicBezTo>
                <a:cubicBezTo>
                  <a:pt x="3122" y="4117"/>
                  <a:pt x="3153" y="4049"/>
                  <a:pt x="3175" y="4018"/>
                </a:cubicBezTo>
                <a:cubicBezTo>
                  <a:pt x="3204" y="3990"/>
                  <a:pt x="3212" y="3977"/>
                  <a:pt x="3200" y="3944"/>
                </a:cubicBezTo>
                <a:cubicBezTo>
                  <a:pt x="3173" y="3891"/>
                  <a:pt x="3155" y="4029"/>
                  <a:pt x="3150" y="4068"/>
                </a:cubicBezTo>
                <a:cubicBezTo>
                  <a:pt x="3134" y="4193"/>
                  <a:pt x="3117" y="4313"/>
                  <a:pt x="3101" y="4440"/>
                </a:cubicBezTo>
                <a:cubicBezTo>
                  <a:pt x="3095" y="4484"/>
                  <a:pt x="3120" y="4579"/>
                  <a:pt x="3101" y="4539"/>
                </a:cubicBezTo>
                <a:cubicBezTo>
                  <a:pt x="3101" y="4531"/>
                  <a:pt x="3101" y="4522"/>
                  <a:pt x="3101" y="4514"/>
                </a:cubicBezTo>
              </a:path>
              <a:path w="12899" h="1812">
                <a:moveTo>
                  <a:pt x="3225" y="3547"/>
                </a:moveTo>
                <a:cubicBezTo>
                  <a:pt x="3345" y="3622"/>
                  <a:pt x="3410" y="3683"/>
                  <a:pt x="3497" y="3795"/>
                </a:cubicBezTo>
                <a:cubicBezTo>
                  <a:pt x="3568" y="3887"/>
                  <a:pt x="3627" y="4052"/>
                  <a:pt x="3646" y="4167"/>
                </a:cubicBezTo>
                <a:cubicBezTo>
                  <a:pt x="3659" y="4247"/>
                  <a:pt x="3667" y="4422"/>
                  <a:pt x="3621" y="4490"/>
                </a:cubicBezTo>
                <a:cubicBezTo>
                  <a:pt x="3588" y="4538"/>
                  <a:pt x="3535" y="4595"/>
                  <a:pt x="3497" y="4638"/>
                </a:cubicBezTo>
                <a:cubicBezTo>
                  <a:pt x="3450" y="4691"/>
                  <a:pt x="3445" y="4649"/>
                  <a:pt x="3423" y="4638"/>
                </a:cubicBezTo>
                <a:cubicBezTo>
                  <a:pt x="3415" y="4638"/>
                  <a:pt x="3406" y="4638"/>
                  <a:pt x="3398" y="4638"/>
                </a:cubicBezTo>
              </a:path>
              <a:path w="12899" h="1812">
                <a:moveTo>
                  <a:pt x="4837" y="3919"/>
                </a:moveTo>
                <a:cubicBezTo>
                  <a:pt x="4870" y="3967"/>
                  <a:pt x="4866" y="4032"/>
                  <a:pt x="4911" y="4068"/>
                </a:cubicBezTo>
                <a:cubicBezTo>
                  <a:pt x="4919" y="4068"/>
                  <a:pt x="4928" y="4068"/>
                  <a:pt x="4936" y="4068"/>
                </a:cubicBezTo>
                <a:cubicBezTo>
                  <a:pt x="4936" y="4021"/>
                  <a:pt x="4942" y="4005"/>
                  <a:pt x="4911" y="3969"/>
                </a:cubicBezTo>
                <a:cubicBezTo>
                  <a:pt x="4888" y="3943"/>
                  <a:pt x="4862" y="3919"/>
                  <a:pt x="4837" y="3894"/>
                </a:cubicBezTo>
                <a:cubicBezTo>
                  <a:pt x="4781" y="3950"/>
                  <a:pt x="4758" y="3983"/>
                  <a:pt x="4713" y="4043"/>
                </a:cubicBezTo>
                <a:cubicBezTo>
                  <a:pt x="4656" y="4119"/>
                  <a:pt x="4582" y="4217"/>
                  <a:pt x="4564" y="4316"/>
                </a:cubicBezTo>
                <a:cubicBezTo>
                  <a:pt x="4555" y="4364"/>
                  <a:pt x="4542" y="4506"/>
                  <a:pt x="4589" y="4539"/>
                </a:cubicBezTo>
                <a:cubicBezTo>
                  <a:pt x="4678" y="4602"/>
                  <a:pt x="4751" y="4591"/>
                  <a:pt x="4837" y="4539"/>
                </a:cubicBezTo>
                <a:cubicBezTo>
                  <a:pt x="4925" y="4486"/>
                  <a:pt x="4948" y="4469"/>
                  <a:pt x="5011" y="4390"/>
                </a:cubicBezTo>
              </a:path>
              <a:path w="12899" h="1812">
                <a:moveTo>
                  <a:pt x="5333" y="4093"/>
                </a:moveTo>
                <a:cubicBezTo>
                  <a:pt x="5316" y="4162"/>
                  <a:pt x="5241" y="4355"/>
                  <a:pt x="5259" y="4440"/>
                </a:cubicBezTo>
                <a:cubicBezTo>
                  <a:pt x="5267" y="4457"/>
                  <a:pt x="5275" y="4473"/>
                  <a:pt x="5283" y="4490"/>
                </a:cubicBezTo>
                <a:cubicBezTo>
                  <a:pt x="5334" y="4490"/>
                  <a:pt x="5364" y="4472"/>
                  <a:pt x="5407" y="4440"/>
                </a:cubicBezTo>
                <a:cubicBezTo>
                  <a:pt x="5482" y="4383"/>
                  <a:pt x="5518" y="4322"/>
                  <a:pt x="5556" y="4242"/>
                </a:cubicBezTo>
                <a:cubicBezTo>
                  <a:pt x="5571" y="4210"/>
                  <a:pt x="5613" y="4075"/>
                  <a:pt x="5581" y="4043"/>
                </a:cubicBezTo>
                <a:cubicBezTo>
                  <a:pt x="5536" y="3998"/>
                  <a:pt x="5479" y="4031"/>
                  <a:pt x="5432" y="4043"/>
                </a:cubicBezTo>
                <a:cubicBezTo>
                  <a:pt x="5422" y="4045"/>
                  <a:pt x="5315" y="4043"/>
                  <a:pt x="5383" y="4043"/>
                </a:cubicBezTo>
                <a:cubicBezTo>
                  <a:pt x="5391" y="4043"/>
                  <a:pt x="5399" y="4043"/>
                  <a:pt x="5407" y="4043"/>
                </a:cubicBezTo>
              </a:path>
              <a:path w="12899" h="1812">
                <a:moveTo>
                  <a:pt x="6127" y="3870"/>
                </a:moveTo>
                <a:cubicBezTo>
                  <a:pt x="6054" y="3916"/>
                  <a:pt x="5981" y="3956"/>
                  <a:pt x="5904" y="3994"/>
                </a:cubicBezTo>
                <a:cubicBezTo>
                  <a:pt x="5863" y="4014"/>
                  <a:pt x="5846" y="4011"/>
                  <a:pt x="5854" y="4043"/>
                </a:cubicBezTo>
                <a:cubicBezTo>
                  <a:pt x="5879" y="4092"/>
                  <a:pt x="5943" y="4130"/>
                  <a:pt x="5978" y="4192"/>
                </a:cubicBezTo>
                <a:cubicBezTo>
                  <a:pt x="6002" y="4234"/>
                  <a:pt x="6068" y="4316"/>
                  <a:pt x="6052" y="4366"/>
                </a:cubicBezTo>
                <a:cubicBezTo>
                  <a:pt x="6041" y="4400"/>
                  <a:pt x="5958" y="4458"/>
                  <a:pt x="5928" y="4465"/>
                </a:cubicBezTo>
                <a:cubicBezTo>
                  <a:pt x="5852" y="4483"/>
                  <a:pt x="5776" y="4453"/>
                  <a:pt x="5705" y="4440"/>
                </a:cubicBezTo>
                <a:cubicBezTo>
                  <a:pt x="5670" y="4440"/>
                  <a:pt x="5666" y="4431"/>
                  <a:pt x="5705" y="4390"/>
                </a:cubicBezTo>
              </a:path>
              <a:path w="12899" h="1812">
                <a:moveTo>
                  <a:pt x="6722" y="3721"/>
                </a:moveTo>
                <a:cubicBezTo>
                  <a:pt x="6590" y="3915"/>
                  <a:pt x="6491" y="4054"/>
                  <a:pt x="6424" y="4266"/>
                </a:cubicBezTo>
                <a:cubicBezTo>
                  <a:pt x="6405" y="4327"/>
                  <a:pt x="6406" y="4387"/>
                  <a:pt x="6449" y="4440"/>
                </a:cubicBezTo>
                <a:cubicBezTo>
                  <a:pt x="6493" y="4495"/>
                  <a:pt x="6567" y="4452"/>
                  <a:pt x="6623" y="4440"/>
                </a:cubicBezTo>
              </a:path>
              <a:path w="12899" h="1812">
                <a:moveTo>
                  <a:pt x="7169" y="3845"/>
                </a:moveTo>
                <a:cubicBezTo>
                  <a:pt x="7083" y="3992"/>
                  <a:pt x="7061" y="4087"/>
                  <a:pt x="7020" y="4242"/>
                </a:cubicBezTo>
                <a:cubicBezTo>
                  <a:pt x="7011" y="4277"/>
                  <a:pt x="6988" y="4393"/>
                  <a:pt x="7045" y="4415"/>
                </a:cubicBezTo>
                <a:cubicBezTo>
                  <a:pt x="7122" y="4445"/>
                  <a:pt x="7235" y="4375"/>
                  <a:pt x="7293" y="4341"/>
                </a:cubicBezTo>
                <a:cubicBezTo>
                  <a:pt x="7394" y="4281"/>
                  <a:pt x="7457" y="4168"/>
                  <a:pt x="7516" y="4068"/>
                </a:cubicBezTo>
                <a:cubicBezTo>
                  <a:pt x="7556" y="4001"/>
                  <a:pt x="7592" y="3916"/>
                  <a:pt x="7541" y="3845"/>
                </a:cubicBezTo>
                <a:cubicBezTo>
                  <a:pt x="7504" y="3794"/>
                  <a:pt x="7429" y="3735"/>
                  <a:pt x="7367" y="3721"/>
                </a:cubicBezTo>
                <a:cubicBezTo>
                  <a:pt x="7338" y="3715"/>
                  <a:pt x="7245" y="3732"/>
                  <a:pt x="7218" y="3746"/>
                </a:cubicBezTo>
                <a:cubicBezTo>
                  <a:pt x="7210" y="3754"/>
                  <a:pt x="7201" y="3762"/>
                  <a:pt x="7193" y="3770"/>
                </a:cubicBezTo>
              </a:path>
              <a:path w="12899" h="1812">
                <a:moveTo>
                  <a:pt x="6623" y="4118"/>
                </a:moveTo>
                <a:cubicBezTo>
                  <a:pt x="6673" y="4106"/>
                  <a:pt x="6799" y="4111"/>
                  <a:pt x="6846" y="4093"/>
                </a:cubicBezTo>
                <a:cubicBezTo>
                  <a:pt x="6854" y="4085"/>
                  <a:pt x="6863" y="4076"/>
                  <a:pt x="6871" y="4068"/>
                </a:cubicBezTo>
              </a:path>
              <a:path w="12899" h="1812">
                <a:moveTo>
                  <a:pt x="6945" y="3994"/>
                </a:moveTo>
                <a:cubicBezTo>
                  <a:pt x="7040" y="4019"/>
                  <a:pt x="7119" y="4018"/>
                  <a:pt x="7218" y="4018"/>
                </a:cubicBezTo>
                <a:cubicBezTo>
                  <a:pt x="7355" y="4018"/>
                  <a:pt x="7479" y="4016"/>
                  <a:pt x="7615" y="3994"/>
                </a:cubicBezTo>
              </a:path>
              <a:path w="12899" h="1812">
                <a:moveTo>
                  <a:pt x="7863" y="3522"/>
                </a:moveTo>
                <a:cubicBezTo>
                  <a:pt x="7985" y="3690"/>
                  <a:pt x="8080" y="3807"/>
                  <a:pt x="8086" y="4018"/>
                </a:cubicBezTo>
                <a:cubicBezTo>
                  <a:pt x="8089" y="4139"/>
                  <a:pt x="8045" y="4301"/>
                  <a:pt x="7962" y="4390"/>
                </a:cubicBezTo>
                <a:cubicBezTo>
                  <a:pt x="7918" y="4437"/>
                  <a:pt x="7846" y="4468"/>
                  <a:pt x="7789" y="4490"/>
                </a:cubicBezTo>
                <a:cubicBezTo>
                  <a:pt x="7764" y="4500"/>
                  <a:pt x="7635" y="4514"/>
                  <a:pt x="7689" y="4514"/>
                </a:cubicBezTo>
              </a:path>
              <a:path w="12899" h="1812">
                <a:moveTo>
                  <a:pt x="8434" y="4093"/>
                </a:moveTo>
                <a:cubicBezTo>
                  <a:pt x="8550" y="4093"/>
                  <a:pt x="8665" y="4093"/>
                  <a:pt x="8781" y="4093"/>
                </a:cubicBezTo>
              </a:path>
              <a:path w="12899" h="1812">
                <a:moveTo>
                  <a:pt x="8359" y="4291"/>
                </a:moveTo>
                <a:cubicBezTo>
                  <a:pt x="8403" y="4324"/>
                  <a:pt x="8425" y="4316"/>
                  <a:pt x="8483" y="4316"/>
                </a:cubicBezTo>
                <a:cubicBezTo>
                  <a:pt x="8530" y="4316"/>
                  <a:pt x="8569" y="4331"/>
                  <a:pt x="8582" y="4291"/>
                </a:cubicBezTo>
              </a:path>
              <a:path w="12899" h="1812">
                <a:moveTo>
                  <a:pt x="9674" y="3795"/>
                </a:moveTo>
                <a:cubicBezTo>
                  <a:pt x="9596" y="3813"/>
                  <a:pt x="9513" y="3829"/>
                  <a:pt x="9451" y="3870"/>
                </a:cubicBezTo>
                <a:cubicBezTo>
                  <a:pt x="9443" y="3878"/>
                  <a:pt x="9434" y="3886"/>
                  <a:pt x="9426" y="3894"/>
                </a:cubicBezTo>
                <a:cubicBezTo>
                  <a:pt x="9468" y="3948"/>
                  <a:pt x="9500" y="3993"/>
                  <a:pt x="9550" y="4043"/>
                </a:cubicBezTo>
                <a:cubicBezTo>
                  <a:pt x="9622" y="4115"/>
                  <a:pt x="9673" y="4164"/>
                  <a:pt x="9699" y="4266"/>
                </a:cubicBezTo>
                <a:cubicBezTo>
                  <a:pt x="9709" y="4304"/>
                  <a:pt x="9648" y="4343"/>
                  <a:pt x="9624" y="4366"/>
                </a:cubicBezTo>
                <a:cubicBezTo>
                  <a:pt x="9584" y="4405"/>
                  <a:pt x="9530" y="4390"/>
                  <a:pt x="9475" y="4390"/>
                </a:cubicBezTo>
                <a:cubicBezTo>
                  <a:pt x="9373" y="4390"/>
                  <a:pt x="9475" y="4286"/>
                  <a:pt x="9500" y="4242"/>
                </a:cubicBezTo>
              </a:path>
              <a:path w="12899" h="1812">
                <a:moveTo>
                  <a:pt x="9897" y="4217"/>
                </a:moveTo>
                <a:cubicBezTo>
                  <a:pt x="10004" y="4186"/>
                  <a:pt x="10123" y="4148"/>
                  <a:pt x="10220" y="4093"/>
                </a:cubicBezTo>
                <a:cubicBezTo>
                  <a:pt x="10255" y="4073"/>
                  <a:pt x="10354" y="4000"/>
                  <a:pt x="10368" y="3969"/>
                </a:cubicBezTo>
                <a:cubicBezTo>
                  <a:pt x="10376" y="3952"/>
                  <a:pt x="10368" y="3893"/>
                  <a:pt x="10368" y="3870"/>
                </a:cubicBezTo>
                <a:cubicBezTo>
                  <a:pt x="10298" y="3870"/>
                  <a:pt x="10257" y="3881"/>
                  <a:pt x="10195" y="3919"/>
                </a:cubicBezTo>
                <a:cubicBezTo>
                  <a:pt x="10099" y="3978"/>
                  <a:pt x="10051" y="4046"/>
                  <a:pt x="9996" y="4142"/>
                </a:cubicBezTo>
                <a:cubicBezTo>
                  <a:pt x="9969" y="4189"/>
                  <a:pt x="9920" y="4285"/>
                  <a:pt x="9947" y="4341"/>
                </a:cubicBezTo>
                <a:cubicBezTo>
                  <a:pt x="9969" y="4388"/>
                  <a:pt x="10073" y="4423"/>
                  <a:pt x="10120" y="4415"/>
                </a:cubicBezTo>
                <a:cubicBezTo>
                  <a:pt x="10145" y="4407"/>
                  <a:pt x="10170" y="4398"/>
                  <a:pt x="10195" y="4390"/>
                </a:cubicBezTo>
              </a:path>
              <a:path w="12899" h="1812">
                <a:moveTo>
                  <a:pt x="10790" y="3870"/>
                </a:moveTo>
                <a:cubicBezTo>
                  <a:pt x="10684" y="3944"/>
                  <a:pt x="10556" y="4023"/>
                  <a:pt x="10492" y="4142"/>
                </a:cubicBezTo>
                <a:cubicBezTo>
                  <a:pt x="10456" y="4209"/>
                  <a:pt x="10453" y="4291"/>
                  <a:pt x="10517" y="4341"/>
                </a:cubicBezTo>
                <a:cubicBezTo>
                  <a:pt x="10586" y="4395"/>
                  <a:pt x="10677" y="4406"/>
                  <a:pt x="10765" y="4390"/>
                </a:cubicBezTo>
                <a:cubicBezTo>
                  <a:pt x="10790" y="4382"/>
                  <a:pt x="10815" y="4374"/>
                  <a:pt x="10840" y="4366"/>
                </a:cubicBezTo>
              </a:path>
              <a:path w="12899" h="1812">
                <a:moveTo>
                  <a:pt x="11336" y="3845"/>
                </a:moveTo>
                <a:cubicBezTo>
                  <a:pt x="11253" y="3960"/>
                  <a:pt x="11187" y="4059"/>
                  <a:pt x="11137" y="4192"/>
                </a:cubicBezTo>
                <a:cubicBezTo>
                  <a:pt x="11117" y="4246"/>
                  <a:pt x="11083" y="4337"/>
                  <a:pt x="11162" y="4366"/>
                </a:cubicBezTo>
                <a:cubicBezTo>
                  <a:pt x="11233" y="4392"/>
                  <a:pt x="11365" y="4385"/>
                  <a:pt x="11435" y="4341"/>
                </a:cubicBezTo>
                <a:cubicBezTo>
                  <a:pt x="11524" y="4286"/>
                  <a:pt x="11627" y="4213"/>
                  <a:pt x="11683" y="4118"/>
                </a:cubicBezTo>
                <a:cubicBezTo>
                  <a:pt x="11715" y="4063"/>
                  <a:pt x="11754" y="3924"/>
                  <a:pt x="11708" y="3870"/>
                </a:cubicBezTo>
                <a:cubicBezTo>
                  <a:pt x="11656" y="3809"/>
                  <a:pt x="11554" y="3820"/>
                  <a:pt x="11485" y="3820"/>
                </a:cubicBezTo>
                <a:cubicBezTo>
                  <a:pt x="11437" y="3820"/>
                  <a:pt x="11396" y="3838"/>
                  <a:pt x="11385" y="3870"/>
                </a:cubicBezTo>
              </a:path>
              <a:path w="12899" h="1812">
                <a:moveTo>
                  <a:pt x="11013" y="4093"/>
                </a:moveTo>
                <a:cubicBezTo>
                  <a:pt x="11078" y="4132"/>
                  <a:pt x="11157" y="4118"/>
                  <a:pt x="11237" y="4118"/>
                </a:cubicBezTo>
                <a:cubicBezTo>
                  <a:pt x="11465" y="4118"/>
                  <a:pt x="11710" y="4141"/>
                  <a:pt x="11931" y="4093"/>
                </a:cubicBezTo>
              </a:path>
              <a:path w="12899" h="1812">
                <a:moveTo>
                  <a:pt x="12353" y="3770"/>
                </a:moveTo>
                <a:cubicBezTo>
                  <a:pt x="12295" y="3943"/>
                  <a:pt x="12278" y="4002"/>
                  <a:pt x="12278" y="4167"/>
                </a:cubicBezTo>
                <a:cubicBezTo>
                  <a:pt x="12278" y="4207"/>
                  <a:pt x="12282" y="4304"/>
                  <a:pt x="12303" y="4341"/>
                </a:cubicBezTo>
                <a:cubicBezTo>
                  <a:pt x="12332" y="4394"/>
                  <a:pt x="12311" y="4366"/>
                  <a:pt x="12303" y="4341"/>
                </a:cubicBezTo>
              </a:path>
              <a:path w="12899" h="1812">
                <a:moveTo>
                  <a:pt x="12080" y="4118"/>
                </a:moveTo>
                <a:cubicBezTo>
                  <a:pt x="12169" y="4118"/>
                  <a:pt x="12241" y="4140"/>
                  <a:pt x="12328" y="4142"/>
                </a:cubicBezTo>
                <a:cubicBezTo>
                  <a:pt x="12458" y="4145"/>
                  <a:pt x="12576" y="4148"/>
                  <a:pt x="12700" y="4118"/>
                </a:cubicBezTo>
              </a:path>
              <a:path w="12899" h="1812">
                <a:moveTo>
                  <a:pt x="13271" y="3820"/>
                </a:moveTo>
                <a:cubicBezTo>
                  <a:pt x="13233" y="3982"/>
                  <a:pt x="13196" y="4105"/>
                  <a:pt x="13196" y="4266"/>
                </a:cubicBezTo>
                <a:cubicBezTo>
                  <a:pt x="13196" y="4319"/>
                  <a:pt x="13192" y="4415"/>
                  <a:pt x="13171" y="4366"/>
                </a:cubicBezTo>
                <a:cubicBezTo>
                  <a:pt x="13171" y="4338"/>
                  <a:pt x="13169" y="4327"/>
                  <a:pt x="13146" y="4316"/>
                </a:cubicBezTo>
              </a:path>
              <a:path w="12899" h="1812">
                <a:moveTo>
                  <a:pt x="12923" y="4093"/>
                </a:moveTo>
                <a:cubicBezTo>
                  <a:pt x="13043" y="4114"/>
                  <a:pt x="13152" y="4128"/>
                  <a:pt x="13271" y="4142"/>
                </a:cubicBezTo>
                <a:cubicBezTo>
                  <a:pt x="13413" y="4159"/>
                  <a:pt x="13558" y="4171"/>
                  <a:pt x="13692" y="4118"/>
                </a:cubicBezTo>
                <a:cubicBezTo>
                  <a:pt x="13741" y="4098"/>
                  <a:pt x="13775" y="4093"/>
                  <a:pt x="13816" y="4068"/>
                </a:cubicBezTo>
                <a:cubicBezTo>
                  <a:pt x="13788" y="4040"/>
                  <a:pt x="13707" y="4089"/>
                  <a:pt x="13667" y="4142"/>
                </a:cubicBezTo>
                <a:cubicBezTo>
                  <a:pt x="13624" y="4199"/>
                  <a:pt x="13565" y="4269"/>
                  <a:pt x="13543" y="4341"/>
                </a:cubicBezTo>
                <a:cubicBezTo>
                  <a:pt x="13530" y="4382"/>
                  <a:pt x="13588" y="4412"/>
                  <a:pt x="13618" y="4415"/>
                </a:cubicBezTo>
                <a:cubicBezTo>
                  <a:pt x="13697" y="4424"/>
                  <a:pt x="13692" y="4343"/>
                  <a:pt x="13692" y="4291"/>
                </a:cubicBezTo>
              </a:path>
              <a:path w="12899" h="1812">
                <a:moveTo>
                  <a:pt x="13717" y="4093"/>
                </a:moveTo>
                <a:cubicBezTo>
                  <a:pt x="13737" y="4146"/>
                  <a:pt x="13757" y="4218"/>
                  <a:pt x="13767" y="4266"/>
                </a:cubicBezTo>
                <a:cubicBezTo>
                  <a:pt x="13776" y="4312"/>
                  <a:pt x="13785" y="4366"/>
                  <a:pt x="13841" y="4390"/>
                </a:cubicBezTo>
                <a:cubicBezTo>
                  <a:pt x="13884" y="4390"/>
                  <a:pt x="13909" y="4385"/>
                  <a:pt x="13940" y="4366"/>
                </a:cubicBezTo>
              </a:path>
              <a:path w="12899" h="1812">
                <a:moveTo>
                  <a:pt x="14039" y="4192"/>
                </a:moveTo>
                <a:cubicBezTo>
                  <a:pt x="14039" y="4259"/>
                  <a:pt x="14019" y="4410"/>
                  <a:pt x="14064" y="4440"/>
                </a:cubicBezTo>
                <a:cubicBezTo>
                  <a:pt x="14064" y="4393"/>
                  <a:pt x="14081" y="4377"/>
                  <a:pt x="14089" y="4341"/>
                </a:cubicBezTo>
                <a:cubicBezTo>
                  <a:pt x="14102" y="4279"/>
                  <a:pt x="14100" y="4196"/>
                  <a:pt x="14139" y="4142"/>
                </a:cubicBezTo>
                <a:cubicBezTo>
                  <a:pt x="14177" y="4090"/>
                  <a:pt x="14234" y="4029"/>
                  <a:pt x="14288" y="4068"/>
                </a:cubicBezTo>
                <a:cubicBezTo>
                  <a:pt x="14338" y="4104"/>
                  <a:pt x="14321" y="4191"/>
                  <a:pt x="14337" y="4242"/>
                </a:cubicBezTo>
                <a:cubicBezTo>
                  <a:pt x="14348" y="4277"/>
                  <a:pt x="14404" y="4372"/>
                  <a:pt x="14436" y="4390"/>
                </a:cubicBezTo>
                <a:cubicBezTo>
                  <a:pt x="14500" y="4425"/>
                  <a:pt x="14499" y="4418"/>
                  <a:pt x="14560" y="4366"/>
                </a:cubicBezTo>
              </a:path>
              <a:path w="12899" h="1812">
                <a:moveTo>
                  <a:pt x="14908" y="3919"/>
                </a:moveTo>
                <a:cubicBezTo>
                  <a:pt x="14845" y="4060"/>
                  <a:pt x="14778" y="4170"/>
                  <a:pt x="14734" y="4316"/>
                </a:cubicBezTo>
                <a:cubicBezTo>
                  <a:pt x="14711" y="4393"/>
                  <a:pt x="14715" y="4465"/>
                  <a:pt x="14808" y="4490"/>
                </a:cubicBezTo>
                <a:cubicBezTo>
                  <a:pt x="14870" y="4507"/>
                  <a:pt x="14952" y="4488"/>
                  <a:pt x="15007" y="4465"/>
                </a:cubicBezTo>
                <a:cubicBezTo>
                  <a:pt x="15087" y="4431"/>
                  <a:pt x="15121" y="4340"/>
                  <a:pt x="15156" y="4266"/>
                </a:cubicBezTo>
                <a:cubicBezTo>
                  <a:pt x="15185" y="4204"/>
                  <a:pt x="15203" y="4122"/>
                  <a:pt x="15156" y="4068"/>
                </a:cubicBezTo>
                <a:cubicBezTo>
                  <a:pt x="15096" y="3998"/>
                  <a:pt x="15050" y="3974"/>
                  <a:pt x="14957" y="3969"/>
                </a:cubicBezTo>
                <a:cubicBezTo>
                  <a:pt x="14941" y="3969"/>
                  <a:pt x="14924" y="3969"/>
                  <a:pt x="14908" y="3969"/>
                </a:cubicBezTo>
              </a:path>
              <a:path w="12899" h="1812">
                <a:moveTo>
                  <a:pt x="14486" y="4192"/>
                </a:moveTo>
                <a:cubicBezTo>
                  <a:pt x="14559" y="4192"/>
                  <a:pt x="14614" y="4209"/>
                  <a:pt x="14684" y="4217"/>
                </a:cubicBezTo>
                <a:cubicBezTo>
                  <a:pt x="14800" y="4230"/>
                  <a:pt x="14915" y="4255"/>
                  <a:pt x="15032" y="4266"/>
                </a:cubicBezTo>
                <a:cubicBezTo>
                  <a:pt x="15111" y="4273"/>
                  <a:pt x="15157" y="4283"/>
                  <a:pt x="15230" y="4316"/>
                </a:cubicBezTo>
              </a:path>
              <a:path w="12899" h="1812">
                <a:moveTo>
                  <a:pt x="3894" y="5159"/>
                </a:moveTo>
                <a:cubicBezTo>
                  <a:pt x="3966" y="5174"/>
                  <a:pt x="4012" y="5181"/>
                  <a:pt x="4093" y="5184"/>
                </a:cubicBezTo>
                <a:cubicBezTo>
                  <a:pt x="4245" y="5190"/>
                  <a:pt x="4389" y="5168"/>
                  <a:pt x="4539" y="5159"/>
                </a:cubicBezTo>
                <a:cubicBezTo>
                  <a:pt x="4897" y="5139"/>
                  <a:pt x="5244" y="5135"/>
                  <a:pt x="5606" y="5135"/>
                </a:cubicBezTo>
                <a:cubicBezTo>
                  <a:pt x="5876" y="5135"/>
                  <a:pt x="6132" y="5168"/>
                  <a:pt x="6400" y="5184"/>
                </a:cubicBezTo>
                <a:cubicBezTo>
                  <a:pt x="6615" y="5197"/>
                  <a:pt x="6832" y="5210"/>
                  <a:pt x="7045" y="5234"/>
                </a:cubicBezTo>
                <a:cubicBezTo>
                  <a:pt x="7203" y="5252"/>
                  <a:pt x="7362" y="5264"/>
                  <a:pt x="7516" y="5308"/>
                </a:cubicBezTo>
                <a:cubicBezTo>
                  <a:pt x="7581" y="5330"/>
                  <a:pt x="7596" y="5338"/>
                  <a:pt x="7640" y="53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20840" y="2125800"/>
            <a:ext cx="28440" cy="36648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3746" y="5904"/>
                </a:moveTo>
                <a:cubicBezTo>
                  <a:pt x="3746" y="5984"/>
                  <a:pt x="3728" y="6048"/>
                  <a:pt x="3721" y="6127"/>
                </a:cubicBezTo>
                <a:cubicBezTo>
                  <a:pt x="3709" y="6267"/>
                  <a:pt x="3708" y="6410"/>
                  <a:pt x="3696" y="6548"/>
                </a:cubicBezTo>
                <a:cubicBezTo>
                  <a:pt x="3687" y="6654"/>
                  <a:pt x="3693" y="6745"/>
                  <a:pt x="3671" y="6846"/>
                </a:cubicBezTo>
                <a:cubicBezTo>
                  <a:pt x="3669" y="6854"/>
                  <a:pt x="3665" y="6956"/>
                  <a:pt x="3696" y="6921"/>
                </a:cubicBezTo>
                <a:cubicBezTo>
                  <a:pt x="3704" y="6904"/>
                  <a:pt x="3713" y="6888"/>
                  <a:pt x="3721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7120" y="219708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4440" y="6102"/>
                </a:moveTo>
                <a:cubicBezTo>
                  <a:pt x="4414" y="6282"/>
                  <a:pt x="4407" y="6400"/>
                  <a:pt x="4415" y="6573"/>
                </a:cubicBezTo>
                <a:cubicBezTo>
                  <a:pt x="4418" y="6640"/>
                  <a:pt x="4422" y="6694"/>
                  <a:pt x="4390" y="6747"/>
                </a:cubicBezTo>
                <a:cubicBezTo>
                  <a:pt x="4381" y="6701"/>
                  <a:pt x="4363" y="6666"/>
                  <a:pt x="4341" y="6623"/>
                </a:cubicBezTo>
              </a:path>
              <a:path w="348" h="646">
                <a:moveTo>
                  <a:pt x="4242" y="6400"/>
                </a:moveTo>
                <a:cubicBezTo>
                  <a:pt x="4347" y="6400"/>
                  <a:pt x="4438" y="6390"/>
                  <a:pt x="4539" y="6375"/>
                </a:cubicBezTo>
                <a:cubicBezTo>
                  <a:pt x="4556" y="6375"/>
                  <a:pt x="4572" y="6375"/>
                  <a:pt x="458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2960" y="20890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5432" y="6201"/>
                </a:moveTo>
                <a:cubicBezTo>
                  <a:pt x="5342" y="6254"/>
                  <a:pt x="5255" y="6284"/>
                  <a:pt x="5159" y="6325"/>
                </a:cubicBezTo>
                <a:cubicBezTo>
                  <a:pt x="5125" y="6340"/>
                  <a:pt x="5028" y="6367"/>
                  <a:pt x="5060" y="6424"/>
                </a:cubicBezTo>
                <a:cubicBezTo>
                  <a:pt x="5092" y="6481"/>
                  <a:pt x="5164" y="6510"/>
                  <a:pt x="5209" y="6548"/>
                </a:cubicBezTo>
                <a:cubicBezTo>
                  <a:pt x="5250" y="6582"/>
                  <a:pt x="5302" y="6646"/>
                  <a:pt x="5308" y="6697"/>
                </a:cubicBezTo>
                <a:cubicBezTo>
                  <a:pt x="5311" y="6724"/>
                  <a:pt x="5262" y="6788"/>
                  <a:pt x="5234" y="6796"/>
                </a:cubicBezTo>
                <a:cubicBezTo>
                  <a:pt x="5184" y="6810"/>
                  <a:pt x="5103" y="6800"/>
                  <a:pt x="5060" y="6772"/>
                </a:cubicBezTo>
                <a:cubicBezTo>
                  <a:pt x="5032" y="6744"/>
                  <a:pt x="5023" y="6730"/>
                  <a:pt x="5035" y="6697"/>
                </a:cubicBezTo>
              </a:path>
              <a:path w="3052" h="993">
                <a:moveTo>
                  <a:pt x="5531" y="6325"/>
                </a:moveTo>
                <a:cubicBezTo>
                  <a:pt x="5531" y="6474"/>
                  <a:pt x="5444" y="6843"/>
                  <a:pt x="5531" y="6722"/>
                </a:cubicBezTo>
                <a:cubicBezTo>
                  <a:pt x="5539" y="6714"/>
                  <a:pt x="5548" y="6705"/>
                  <a:pt x="5556" y="6697"/>
                </a:cubicBezTo>
              </a:path>
              <a:path w="3052" h="993">
                <a:moveTo>
                  <a:pt x="5680" y="6003"/>
                </a:moveTo>
                <a:cubicBezTo>
                  <a:pt x="5705" y="6003"/>
                  <a:pt x="5713" y="6003"/>
                  <a:pt x="5730" y="6003"/>
                </a:cubicBezTo>
              </a:path>
              <a:path w="3052" h="993">
                <a:moveTo>
                  <a:pt x="5779" y="6623"/>
                </a:moveTo>
                <a:cubicBezTo>
                  <a:pt x="5779" y="6673"/>
                  <a:pt x="5779" y="6722"/>
                  <a:pt x="5779" y="6772"/>
                </a:cubicBezTo>
                <a:cubicBezTo>
                  <a:pt x="5815" y="6725"/>
                  <a:pt x="5810" y="6678"/>
                  <a:pt x="5829" y="6623"/>
                </a:cubicBezTo>
                <a:cubicBezTo>
                  <a:pt x="5857" y="6540"/>
                  <a:pt x="5873" y="6460"/>
                  <a:pt x="5904" y="6375"/>
                </a:cubicBezTo>
                <a:cubicBezTo>
                  <a:pt x="5937" y="6284"/>
                  <a:pt x="5947" y="6213"/>
                  <a:pt x="6052" y="6201"/>
                </a:cubicBezTo>
                <a:cubicBezTo>
                  <a:pt x="6144" y="6191"/>
                  <a:pt x="6152" y="6280"/>
                  <a:pt x="6176" y="6350"/>
                </a:cubicBezTo>
                <a:cubicBezTo>
                  <a:pt x="6211" y="6450"/>
                  <a:pt x="6253" y="6549"/>
                  <a:pt x="6276" y="6648"/>
                </a:cubicBezTo>
                <a:cubicBezTo>
                  <a:pt x="6285" y="6688"/>
                  <a:pt x="6286" y="6687"/>
                  <a:pt x="6325" y="6697"/>
                </a:cubicBezTo>
              </a:path>
              <a:path w="3052" h="993">
                <a:moveTo>
                  <a:pt x="6672" y="6176"/>
                </a:moveTo>
                <a:cubicBezTo>
                  <a:pt x="6735" y="6153"/>
                  <a:pt x="6788" y="6147"/>
                  <a:pt x="6846" y="6127"/>
                </a:cubicBezTo>
                <a:cubicBezTo>
                  <a:pt x="6863" y="6119"/>
                  <a:pt x="6879" y="6110"/>
                  <a:pt x="6896" y="6102"/>
                </a:cubicBezTo>
              </a:path>
              <a:path w="3052" h="993">
                <a:moveTo>
                  <a:pt x="7317" y="5879"/>
                </a:moveTo>
                <a:cubicBezTo>
                  <a:pt x="7231" y="6032"/>
                  <a:pt x="7142" y="6173"/>
                  <a:pt x="7119" y="6350"/>
                </a:cubicBezTo>
                <a:cubicBezTo>
                  <a:pt x="7106" y="6451"/>
                  <a:pt x="7152" y="6493"/>
                  <a:pt x="7218" y="6548"/>
                </a:cubicBezTo>
                <a:cubicBezTo>
                  <a:pt x="7273" y="6593"/>
                  <a:pt x="7316" y="6530"/>
                  <a:pt x="7367" y="6499"/>
                </a:cubicBezTo>
                <a:cubicBezTo>
                  <a:pt x="7466" y="6440"/>
                  <a:pt x="7480" y="6384"/>
                  <a:pt x="7516" y="6276"/>
                </a:cubicBezTo>
                <a:cubicBezTo>
                  <a:pt x="7536" y="6215"/>
                  <a:pt x="7567" y="6094"/>
                  <a:pt x="7541" y="6028"/>
                </a:cubicBezTo>
                <a:cubicBezTo>
                  <a:pt x="7527" y="5992"/>
                  <a:pt x="7450" y="5939"/>
                  <a:pt x="7417" y="5928"/>
                </a:cubicBezTo>
                <a:cubicBezTo>
                  <a:pt x="7398" y="5922"/>
                  <a:pt x="7362" y="5928"/>
                  <a:pt x="7342" y="5928"/>
                </a:cubicBezTo>
              </a:path>
              <a:path w="3052" h="993">
                <a:moveTo>
                  <a:pt x="7119" y="6226"/>
                </a:moveTo>
                <a:cubicBezTo>
                  <a:pt x="7221" y="6217"/>
                  <a:pt x="7313" y="6201"/>
                  <a:pt x="7417" y="6201"/>
                </a:cubicBezTo>
                <a:cubicBezTo>
                  <a:pt x="7534" y="6201"/>
                  <a:pt x="7607" y="6199"/>
                  <a:pt x="7714" y="6152"/>
                </a:cubicBezTo>
              </a:path>
              <a:path w="3052" h="993">
                <a:moveTo>
                  <a:pt x="8012" y="5804"/>
                </a:moveTo>
                <a:cubicBezTo>
                  <a:pt x="8054" y="5993"/>
                  <a:pt x="8148" y="6178"/>
                  <a:pt x="8037" y="6350"/>
                </a:cubicBezTo>
                <a:cubicBezTo>
                  <a:pt x="7986" y="6430"/>
                  <a:pt x="7924" y="6445"/>
                  <a:pt x="7838" y="6449"/>
                </a:cubicBezTo>
                <a:cubicBezTo>
                  <a:pt x="7779" y="6449"/>
                  <a:pt x="7753" y="6446"/>
                  <a:pt x="7714" y="6424"/>
                </a:cubicBezTo>
              </a:path>
              <a:path w="3052" h="993">
                <a:moveTo>
                  <a:pt x="6672" y="5829"/>
                </a:moveTo>
                <a:cubicBezTo>
                  <a:pt x="6623" y="6136"/>
                  <a:pt x="6537" y="6277"/>
                  <a:pt x="6672" y="6524"/>
                </a:cubicBezTo>
                <a:cubicBezTo>
                  <a:pt x="6707" y="6588"/>
                  <a:pt x="6721" y="6614"/>
                  <a:pt x="6772" y="6648"/>
                </a:cubicBezTo>
                <a:cubicBezTo>
                  <a:pt x="6780" y="6656"/>
                  <a:pt x="6788" y="6664"/>
                  <a:pt x="6796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94000" y="2197080"/>
            <a:ext cx="14292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6796" y="6102"/>
                </a:moveTo>
                <a:cubicBezTo>
                  <a:pt x="6820" y="6138"/>
                  <a:pt x="6864" y="6127"/>
                  <a:pt x="6921" y="6127"/>
                </a:cubicBezTo>
                <a:cubicBezTo>
                  <a:pt x="6960" y="6127"/>
                  <a:pt x="6975" y="6152"/>
                  <a:pt x="7020" y="6152"/>
                </a:cubicBezTo>
                <a:cubicBezTo>
                  <a:pt x="7062" y="6152"/>
                  <a:pt x="6987" y="6152"/>
                  <a:pt x="6945" y="6152"/>
                </a:cubicBezTo>
                <a:cubicBezTo>
                  <a:pt x="6878" y="6152"/>
                  <a:pt x="6825" y="6166"/>
                  <a:pt x="6772" y="6176"/>
                </a:cubicBezTo>
                <a:cubicBezTo>
                  <a:pt x="6734" y="6183"/>
                  <a:pt x="6640" y="6198"/>
                  <a:pt x="6672" y="6176"/>
                </a:cubicBezTo>
                <a:cubicBezTo>
                  <a:pt x="6719" y="6143"/>
                  <a:pt x="6762" y="6152"/>
                  <a:pt x="6821" y="6152"/>
                </a:cubicBezTo>
                <a:cubicBezTo>
                  <a:pt x="6863" y="6152"/>
                  <a:pt x="6871" y="6152"/>
                  <a:pt x="6896" y="6152"/>
                </a:cubicBezTo>
                <a:cubicBezTo>
                  <a:pt x="6912" y="6152"/>
                  <a:pt x="6929" y="6152"/>
                  <a:pt x="6945" y="6152"/>
                </a:cubicBezTo>
                <a:cubicBezTo>
                  <a:pt x="6986" y="6152"/>
                  <a:pt x="6912" y="6152"/>
                  <a:pt x="6871" y="6152"/>
                </a:cubicBezTo>
                <a:cubicBezTo>
                  <a:pt x="6860" y="6152"/>
                  <a:pt x="6754" y="6152"/>
                  <a:pt x="6821" y="6152"/>
                </a:cubicBezTo>
                <a:cubicBezTo>
                  <a:pt x="6873" y="6152"/>
                  <a:pt x="7053" y="6152"/>
                  <a:pt x="7020" y="6152"/>
                </a:cubicBezTo>
                <a:cubicBezTo>
                  <a:pt x="6939" y="6152"/>
                  <a:pt x="6864" y="6141"/>
                  <a:pt x="6796" y="6127"/>
                </a:cubicBezTo>
                <a:cubicBezTo>
                  <a:pt x="6734" y="6114"/>
                  <a:pt x="6701" y="6110"/>
                  <a:pt x="6772" y="6152"/>
                </a:cubicBezTo>
                <a:cubicBezTo>
                  <a:pt x="6851" y="6152"/>
                  <a:pt x="6974" y="6162"/>
                  <a:pt x="6970" y="6152"/>
                </a:cubicBezTo>
                <a:cubicBezTo>
                  <a:pt x="6954" y="6112"/>
                  <a:pt x="6918" y="6127"/>
                  <a:pt x="6871" y="6127"/>
                </a:cubicBezTo>
                <a:cubicBezTo>
                  <a:pt x="6810" y="6127"/>
                  <a:pt x="6797" y="6139"/>
                  <a:pt x="6747" y="61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70000" y="2847960"/>
            <a:ext cx="2795400" cy="760320"/>
          </a:xfrm>
          <a:custGeom>
            <a:avLst/>
            <a:gdLst/>
            <a:ahLst/>
            <a:rect l="l" t="t" r="r" b="b"/>
            <a:pathLst>
              <a:path w="7765" h="2109">
                <a:moveTo>
                  <a:pt x="10368" y="7913"/>
                </a:moveTo>
                <a:cubicBezTo>
                  <a:pt x="10455" y="7921"/>
                  <a:pt x="10526" y="7938"/>
                  <a:pt x="10616" y="7938"/>
                </a:cubicBezTo>
                <a:cubicBezTo>
                  <a:pt x="10730" y="7938"/>
                  <a:pt x="10829" y="7942"/>
                  <a:pt x="10939" y="7962"/>
                </a:cubicBezTo>
                <a:cubicBezTo>
                  <a:pt x="10964" y="7962"/>
                  <a:pt x="10972" y="7962"/>
                  <a:pt x="10988" y="7962"/>
                </a:cubicBezTo>
              </a:path>
              <a:path w="7765" h="2109">
                <a:moveTo>
                  <a:pt x="10443" y="8235"/>
                </a:moveTo>
                <a:cubicBezTo>
                  <a:pt x="10577" y="8259"/>
                  <a:pt x="10616" y="8241"/>
                  <a:pt x="10740" y="8235"/>
                </a:cubicBezTo>
                <a:cubicBezTo>
                  <a:pt x="10794" y="8232"/>
                  <a:pt x="11018" y="8235"/>
                  <a:pt x="10988" y="8235"/>
                </a:cubicBezTo>
              </a:path>
              <a:path w="7765" h="2109">
                <a:moveTo>
                  <a:pt x="3448" y="8954"/>
                </a:moveTo>
                <a:cubicBezTo>
                  <a:pt x="3475" y="8919"/>
                  <a:pt x="3465" y="8916"/>
                  <a:pt x="3497" y="8905"/>
                </a:cubicBezTo>
                <a:cubicBezTo>
                  <a:pt x="3488" y="8978"/>
                  <a:pt x="3479" y="9085"/>
                  <a:pt x="3448" y="9153"/>
                </a:cubicBezTo>
                <a:cubicBezTo>
                  <a:pt x="3395" y="9271"/>
                  <a:pt x="3319" y="9376"/>
                  <a:pt x="3274" y="9500"/>
                </a:cubicBezTo>
                <a:cubicBezTo>
                  <a:pt x="3239" y="9598"/>
                  <a:pt x="3231" y="9725"/>
                  <a:pt x="3274" y="9823"/>
                </a:cubicBezTo>
                <a:cubicBezTo>
                  <a:pt x="3310" y="9905"/>
                  <a:pt x="3409" y="9963"/>
                  <a:pt x="3473" y="10021"/>
                </a:cubicBezTo>
              </a:path>
              <a:path w="7765" h="2109">
                <a:moveTo>
                  <a:pt x="7640" y="8682"/>
                </a:moveTo>
                <a:cubicBezTo>
                  <a:pt x="7899" y="8768"/>
                  <a:pt x="7901" y="8788"/>
                  <a:pt x="8037" y="9004"/>
                </a:cubicBezTo>
                <a:cubicBezTo>
                  <a:pt x="8153" y="9187"/>
                  <a:pt x="8161" y="9283"/>
                  <a:pt x="8161" y="95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1840" y="5126040"/>
            <a:ext cx="1876320" cy="1027080"/>
          </a:xfrm>
          <a:custGeom>
            <a:avLst/>
            <a:gdLst/>
            <a:ahLst/>
            <a:rect l="l" t="t" r="r" b="b"/>
            <a:pathLst>
              <a:path w="5210" h="2853">
                <a:moveTo>
                  <a:pt x="3894" y="15255"/>
                </a:moveTo>
                <a:cubicBezTo>
                  <a:pt x="4027" y="15255"/>
                  <a:pt x="4159" y="15264"/>
                  <a:pt x="4291" y="15280"/>
                </a:cubicBezTo>
                <a:cubicBezTo>
                  <a:pt x="4514" y="15307"/>
                  <a:pt x="4737" y="15309"/>
                  <a:pt x="4961" y="15329"/>
                </a:cubicBezTo>
                <a:cubicBezTo>
                  <a:pt x="5226" y="15353"/>
                  <a:pt x="5489" y="15376"/>
                  <a:pt x="5755" y="15379"/>
                </a:cubicBezTo>
                <a:cubicBezTo>
                  <a:pt x="6030" y="15383"/>
                  <a:pt x="6300" y="15340"/>
                  <a:pt x="6573" y="15329"/>
                </a:cubicBezTo>
                <a:cubicBezTo>
                  <a:pt x="6880" y="15317"/>
                  <a:pt x="7185" y="15274"/>
                  <a:pt x="7491" y="15255"/>
                </a:cubicBezTo>
                <a:cubicBezTo>
                  <a:pt x="7672" y="15244"/>
                  <a:pt x="7916" y="15224"/>
                  <a:pt x="8086" y="15280"/>
                </a:cubicBezTo>
                <a:cubicBezTo>
                  <a:pt x="8135" y="15296"/>
                  <a:pt x="8169" y="15329"/>
                  <a:pt x="8210" y="15354"/>
                </a:cubicBezTo>
              </a:path>
              <a:path w="5210" h="2853">
                <a:moveTo>
                  <a:pt x="5631" y="15875"/>
                </a:moveTo>
                <a:cubicBezTo>
                  <a:pt x="5658" y="15837"/>
                  <a:pt x="5655" y="15823"/>
                  <a:pt x="5655" y="15776"/>
                </a:cubicBezTo>
                <a:cubicBezTo>
                  <a:pt x="5655" y="15723"/>
                  <a:pt x="5623" y="15726"/>
                  <a:pt x="5581" y="15726"/>
                </a:cubicBezTo>
                <a:cubicBezTo>
                  <a:pt x="5516" y="15726"/>
                  <a:pt x="5435" y="15761"/>
                  <a:pt x="5383" y="15801"/>
                </a:cubicBezTo>
                <a:cubicBezTo>
                  <a:pt x="5317" y="15852"/>
                  <a:pt x="5286" y="15945"/>
                  <a:pt x="5283" y="16024"/>
                </a:cubicBezTo>
                <a:cubicBezTo>
                  <a:pt x="5277" y="16165"/>
                  <a:pt x="5345" y="16272"/>
                  <a:pt x="5457" y="16346"/>
                </a:cubicBezTo>
                <a:cubicBezTo>
                  <a:pt x="5512" y="16383"/>
                  <a:pt x="5568" y="16389"/>
                  <a:pt x="5631" y="16396"/>
                </a:cubicBezTo>
              </a:path>
              <a:path w="5210" h="2853">
                <a:moveTo>
                  <a:pt x="5854" y="15999"/>
                </a:moveTo>
                <a:cubicBezTo>
                  <a:pt x="5799" y="16062"/>
                  <a:pt x="5740" y="16129"/>
                  <a:pt x="5755" y="16222"/>
                </a:cubicBezTo>
                <a:cubicBezTo>
                  <a:pt x="5772" y="16329"/>
                  <a:pt x="5817" y="16352"/>
                  <a:pt x="5904" y="16396"/>
                </a:cubicBezTo>
                <a:cubicBezTo>
                  <a:pt x="5985" y="16437"/>
                  <a:pt x="6023" y="16422"/>
                  <a:pt x="6077" y="16346"/>
                </a:cubicBezTo>
                <a:cubicBezTo>
                  <a:pt x="6122" y="16283"/>
                  <a:pt x="6145" y="16175"/>
                  <a:pt x="6127" y="16098"/>
                </a:cubicBezTo>
                <a:cubicBezTo>
                  <a:pt x="6111" y="16031"/>
                  <a:pt x="6007" y="15939"/>
                  <a:pt x="5953" y="15900"/>
                </a:cubicBezTo>
                <a:cubicBezTo>
                  <a:pt x="5916" y="15873"/>
                  <a:pt x="5869" y="15835"/>
                  <a:pt x="5829" y="15825"/>
                </a:cubicBezTo>
              </a:path>
              <a:path w="5210" h="2853">
                <a:moveTo>
                  <a:pt x="6350" y="15825"/>
                </a:moveTo>
                <a:cubicBezTo>
                  <a:pt x="6332" y="15812"/>
                  <a:pt x="6246" y="15771"/>
                  <a:pt x="6226" y="15801"/>
                </a:cubicBezTo>
                <a:cubicBezTo>
                  <a:pt x="6179" y="15871"/>
                  <a:pt x="6241" y="15983"/>
                  <a:pt x="6276" y="16049"/>
                </a:cubicBezTo>
                <a:cubicBezTo>
                  <a:pt x="6325" y="16141"/>
                  <a:pt x="6369" y="16214"/>
                  <a:pt x="6375" y="16321"/>
                </a:cubicBezTo>
                <a:cubicBezTo>
                  <a:pt x="6377" y="16366"/>
                  <a:pt x="6363" y="16416"/>
                  <a:pt x="6325" y="16421"/>
                </a:cubicBezTo>
                <a:cubicBezTo>
                  <a:pt x="6253" y="16430"/>
                  <a:pt x="6236" y="16404"/>
                  <a:pt x="6201" y="16346"/>
                </a:cubicBezTo>
                <a:cubicBezTo>
                  <a:pt x="6193" y="16330"/>
                  <a:pt x="6184" y="16313"/>
                  <a:pt x="6176" y="16297"/>
                </a:cubicBezTo>
              </a:path>
              <a:path w="5210" h="2853">
                <a:moveTo>
                  <a:pt x="6722" y="15825"/>
                </a:moveTo>
                <a:cubicBezTo>
                  <a:pt x="6682" y="15911"/>
                  <a:pt x="6607" y="16023"/>
                  <a:pt x="6623" y="16123"/>
                </a:cubicBezTo>
                <a:cubicBezTo>
                  <a:pt x="6637" y="16212"/>
                  <a:pt x="6715" y="16338"/>
                  <a:pt x="6796" y="16371"/>
                </a:cubicBezTo>
                <a:cubicBezTo>
                  <a:pt x="6848" y="16392"/>
                  <a:pt x="6918" y="16338"/>
                  <a:pt x="6945" y="16297"/>
                </a:cubicBezTo>
                <a:cubicBezTo>
                  <a:pt x="6988" y="16230"/>
                  <a:pt x="7014" y="16128"/>
                  <a:pt x="6995" y="16049"/>
                </a:cubicBezTo>
                <a:cubicBezTo>
                  <a:pt x="6974" y="15961"/>
                  <a:pt x="6919" y="15936"/>
                  <a:pt x="6846" y="15900"/>
                </a:cubicBezTo>
              </a:path>
              <a:path w="5210" h="2853">
                <a:moveTo>
                  <a:pt x="6499" y="15974"/>
                </a:moveTo>
                <a:cubicBezTo>
                  <a:pt x="6594" y="16011"/>
                  <a:pt x="6740" y="16081"/>
                  <a:pt x="6846" y="16073"/>
                </a:cubicBezTo>
                <a:cubicBezTo>
                  <a:pt x="6912" y="16052"/>
                  <a:pt x="6927" y="16044"/>
                  <a:pt x="6970" y="16049"/>
                </a:cubicBezTo>
              </a:path>
              <a:path w="5210" h="2853">
                <a:moveTo>
                  <a:pt x="6400" y="15453"/>
                </a:moveTo>
                <a:cubicBezTo>
                  <a:pt x="6457" y="15460"/>
                  <a:pt x="6516" y="15460"/>
                  <a:pt x="6524" y="15528"/>
                </a:cubicBezTo>
                <a:cubicBezTo>
                  <a:pt x="6528" y="15562"/>
                  <a:pt x="6477" y="15631"/>
                  <a:pt x="6449" y="15652"/>
                </a:cubicBezTo>
                <a:cubicBezTo>
                  <a:pt x="6396" y="15690"/>
                  <a:pt x="6374" y="15712"/>
                  <a:pt x="6424" y="15776"/>
                </a:cubicBezTo>
                <a:cubicBezTo>
                  <a:pt x="6457" y="15818"/>
                  <a:pt x="6547" y="15859"/>
                  <a:pt x="6598" y="15875"/>
                </a:cubicBezTo>
                <a:cubicBezTo>
                  <a:pt x="6633" y="15875"/>
                  <a:pt x="6650" y="15870"/>
                  <a:pt x="6672" y="15850"/>
                </a:cubicBezTo>
              </a:path>
              <a:path w="5210" h="2853">
                <a:moveTo>
                  <a:pt x="7169" y="14957"/>
                </a:moveTo>
                <a:cubicBezTo>
                  <a:pt x="7231" y="14950"/>
                  <a:pt x="7278" y="14916"/>
                  <a:pt x="7342" y="14908"/>
                </a:cubicBezTo>
                <a:cubicBezTo>
                  <a:pt x="7425" y="14898"/>
                  <a:pt x="7537" y="14885"/>
                  <a:pt x="7615" y="14858"/>
                </a:cubicBezTo>
                <a:cubicBezTo>
                  <a:pt x="7738" y="14815"/>
                  <a:pt x="7862" y="14747"/>
                  <a:pt x="7987" y="14709"/>
                </a:cubicBezTo>
                <a:cubicBezTo>
                  <a:pt x="8159" y="14656"/>
                  <a:pt x="8314" y="14597"/>
                  <a:pt x="8483" y="14536"/>
                </a:cubicBezTo>
                <a:cubicBezTo>
                  <a:pt x="8589" y="14498"/>
                  <a:pt x="8713" y="14476"/>
                  <a:pt x="8806" y="14412"/>
                </a:cubicBezTo>
                <a:cubicBezTo>
                  <a:pt x="8886" y="14357"/>
                  <a:pt x="8944" y="14319"/>
                  <a:pt x="9029" y="14288"/>
                </a:cubicBezTo>
                <a:cubicBezTo>
                  <a:pt x="9065" y="14275"/>
                  <a:pt x="9062" y="14272"/>
                  <a:pt x="9079" y="14238"/>
                </a:cubicBezTo>
              </a:path>
              <a:path w="5210" h="2853">
                <a:moveTo>
                  <a:pt x="5184" y="16272"/>
                </a:moveTo>
                <a:cubicBezTo>
                  <a:pt x="5250" y="16272"/>
                  <a:pt x="5297" y="16257"/>
                  <a:pt x="5358" y="16247"/>
                </a:cubicBezTo>
                <a:cubicBezTo>
                  <a:pt x="5483" y="16227"/>
                  <a:pt x="5629" y="16178"/>
                  <a:pt x="5755" y="16148"/>
                </a:cubicBezTo>
                <a:cubicBezTo>
                  <a:pt x="5916" y="16110"/>
                  <a:pt x="6067" y="16040"/>
                  <a:pt x="6226" y="15999"/>
                </a:cubicBezTo>
                <a:cubicBezTo>
                  <a:pt x="6398" y="15955"/>
                  <a:pt x="6553" y="15909"/>
                  <a:pt x="6722" y="15850"/>
                </a:cubicBezTo>
                <a:cubicBezTo>
                  <a:pt x="6820" y="15816"/>
                  <a:pt x="6923" y="15791"/>
                  <a:pt x="7020" y="15776"/>
                </a:cubicBezTo>
                <a:cubicBezTo>
                  <a:pt x="7055" y="15771"/>
                  <a:pt x="7237" y="15776"/>
                  <a:pt x="7193" y="15776"/>
                </a:cubicBezTo>
                <a:cubicBezTo>
                  <a:pt x="7185" y="15776"/>
                  <a:pt x="7177" y="15776"/>
                  <a:pt x="7169" y="15776"/>
                </a:cubicBezTo>
              </a:path>
              <a:path w="5210" h="2853">
                <a:moveTo>
                  <a:pt x="6028" y="16694"/>
                </a:moveTo>
                <a:cubicBezTo>
                  <a:pt x="6014" y="16597"/>
                  <a:pt x="6008" y="16624"/>
                  <a:pt x="5928" y="16644"/>
                </a:cubicBezTo>
                <a:cubicBezTo>
                  <a:pt x="5892" y="16653"/>
                  <a:pt x="5852" y="16683"/>
                  <a:pt x="5829" y="16718"/>
                </a:cubicBezTo>
                <a:cubicBezTo>
                  <a:pt x="5805" y="16754"/>
                  <a:pt x="5791" y="16823"/>
                  <a:pt x="5804" y="16867"/>
                </a:cubicBezTo>
                <a:cubicBezTo>
                  <a:pt x="5827" y="16943"/>
                  <a:pt x="5909" y="16977"/>
                  <a:pt x="5978" y="16991"/>
                </a:cubicBezTo>
              </a:path>
              <a:path w="5210" h="2853">
                <a:moveTo>
                  <a:pt x="6251" y="16768"/>
                </a:moveTo>
                <a:cubicBezTo>
                  <a:pt x="6217" y="16793"/>
                  <a:pt x="6179" y="16794"/>
                  <a:pt x="6176" y="16842"/>
                </a:cubicBezTo>
                <a:cubicBezTo>
                  <a:pt x="6172" y="16898"/>
                  <a:pt x="6175" y="16955"/>
                  <a:pt x="6226" y="16991"/>
                </a:cubicBezTo>
                <a:cubicBezTo>
                  <a:pt x="6271" y="17023"/>
                  <a:pt x="6344" y="17040"/>
                  <a:pt x="6375" y="17016"/>
                </a:cubicBezTo>
                <a:cubicBezTo>
                  <a:pt x="6424" y="16978"/>
                  <a:pt x="6468" y="16944"/>
                  <a:pt x="6499" y="16892"/>
                </a:cubicBezTo>
                <a:cubicBezTo>
                  <a:pt x="6519" y="16858"/>
                  <a:pt x="6541" y="16784"/>
                  <a:pt x="6524" y="16743"/>
                </a:cubicBezTo>
                <a:cubicBezTo>
                  <a:pt x="6495" y="16674"/>
                  <a:pt x="6411" y="16669"/>
                  <a:pt x="6350" y="16669"/>
                </a:cubicBezTo>
                <a:cubicBezTo>
                  <a:pt x="6291" y="16669"/>
                  <a:pt x="6266" y="16659"/>
                  <a:pt x="6251" y="16718"/>
                </a:cubicBezTo>
              </a:path>
              <a:path w="5210" h="2853">
                <a:moveTo>
                  <a:pt x="6648" y="16619"/>
                </a:moveTo>
                <a:cubicBezTo>
                  <a:pt x="6609" y="16685"/>
                  <a:pt x="6619" y="16742"/>
                  <a:pt x="6648" y="16818"/>
                </a:cubicBezTo>
                <a:cubicBezTo>
                  <a:pt x="6682" y="16908"/>
                  <a:pt x="6696" y="16935"/>
                  <a:pt x="6672" y="17016"/>
                </a:cubicBezTo>
                <a:cubicBezTo>
                  <a:pt x="6660" y="17057"/>
                  <a:pt x="6646" y="17085"/>
                  <a:pt x="6598" y="17090"/>
                </a:cubicBezTo>
                <a:cubicBezTo>
                  <a:pt x="6566" y="17093"/>
                  <a:pt x="6536" y="17027"/>
                  <a:pt x="6548" y="16991"/>
                </a:cubicBezTo>
                <a:cubicBezTo>
                  <a:pt x="6556" y="16983"/>
                  <a:pt x="6565" y="16974"/>
                  <a:pt x="6573" y="16966"/>
                </a:cubicBezTo>
              </a:path>
              <a:path w="5210" h="2853">
                <a:moveTo>
                  <a:pt x="6995" y="16669"/>
                </a:moveTo>
                <a:cubicBezTo>
                  <a:pt x="6921" y="16751"/>
                  <a:pt x="6896" y="16764"/>
                  <a:pt x="6896" y="16867"/>
                </a:cubicBezTo>
                <a:cubicBezTo>
                  <a:pt x="6896" y="16930"/>
                  <a:pt x="6886" y="16978"/>
                  <a:pt x="6945" y="17016"/>
                </a:cubicBezTo>
                <a:cubicBezTo>
                  <a:pt x="6996" y="17049"/>
                  <a:pt x="7067" y="17040"/>
                  <a:pt x="7119" y="17016"/>
                </a:cubicBezTo>
                <a:cubicBezTo>
                  <a:pt x="7164" y="16995"/>
                  <a:pt x="7227" y="16915"/>
                  <a:pt x="7243" y="16867"/>
                </a:cubicBezTo>
                <a:cubicBezTo>
                  <a:pt x="7268" y="16792"/>
                  <a:pt x="7220" y="16775"/>
                  <a:pt x="7169" y="16743"/>
                </a:cubicBezTo>
                <a:cubicBezTo>
                  <a:pt x="7144" y="16727"/>
                  <a:pt x="7119" y="16710"/>
                  <a:pt x="7094" y="16694"/>
                </a:cubicBezTo>
              </a:path>
              <a:path w="5210" h="2853">
                <a:moveTo>
                  <a:pt x="6871" y="16793"/>
                </a:moveTo>
                <a:cubicBezTo>
                  <a:pt x="6953" y="16793"/>
                  <a:pt x="7040" y="16832"/>
                  <a:pt x="7119" y="16818"/>
                </a:cubicBezTo>
                <a:cubicBezTo>
                  <a:pt x="7174" y="16790"/>
                  <a:pt x="7197" y="16782"/>
                  <a:pt x="7243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920" y="2813040"/>
            <a:ext cx="1000080" cy="366840"/>
          </a:xfrm>
          <a:custGeom>
            <a:avLst/>
            <a:gdLst/>
            <a:ahLst/>
            <a:rect l="l" t="t" r="r" b="b"/>
            <a:pathLst>
              <a:path w="2779" h="1018">
                <a:moveTo>
                  <a:pt x="595" y="8830"/>
                </a:moveTo>
                <a:cubicBezTo>
                  <a:pt x="911" y="8830"/>
                  <a:pt x="1224" y="8823"/>
                  <a:pt x="1538" y="8806"/>
                </a:cubicBezTo>
                <a:cubicBezTo>
                  <a:pt x="1745" y="8795"/>
                  <a:pt x="1951" y="8781"/>
                  <a:pt x="2158" y="8781"/>
                </a:cubicBezTo>
                <a:cubicBezTo>
                  <a:pt x="2205" y="8781"/>
                  <a:pt x="2329" y="8801"/>
                  <a:pt x="2282" y="8731"/>
                </a:cubicBezTo>
                <a:cubicBezTo>
                  <a:pt x="2274" y="8723"/>
                  <a:pt x="2265" y="8714"/>
                  <a:pt x="2257" y="8706"/>
                </a:cubicBezTo>
              </a:path>
              <a:path w="2779" h="1018">
                <a:moveTo>
                  <a:pt x="670" y="7938"/>
                </a:moveTo>
                <a:cubicBezTo>
                  <a:pt x="628" y="8021"/>
                  <a:pt x="615" y="8074"/>
                  <a:pt x="595" y="8161"/>
                </a:cubicBezTo>
                <a:cubicBezTo>
                  <a:pt x="562" y="8310"/>
                  <a:pt x="475" y="8438"/>
                  <a:pt x="496" y="8582"/>
                </a:cubicBezTo>
                <a:cubicBezTo>
                  <a:pt x="502" y="8623"/>
                  <a:pt x="527" y="8654"/>
                  <a:pt x="571" y="8657"/>
                </a:cubicBezTo>
                <a:cubicBezTo>
                  <a:pt x="639" y="8657"/>
                  <a:pt x="669" y="8644"/>
                  <a:pt x="695" y="8582"/>
                </a:cubicBezTo>
              </a:path>
              <a:path w="2779" h="1018">
                <a:moveTo>
                  <a:pt x="893" y="7938"/>
                </a:moveTo>
                <a:cubicBezTo>
                  <a:pt x="919" y="8040"/>
                  <a:pt x="918" y="8129"/>
                  <a:pt x="918" y="8235"/>
                </a:cubicBezTo>
                <a:cubicBezTo>
                  <a:pt x="918" y="8329"/>
                  <a:pt x="893" y="8412"/>
                  <a:pt x="893" y="8508"/>
                </a:cubicBezTo>
                <a:cubicBezTo>
                  <a:pt x="893" y="8566"/>
                  <a:pt x="885" y="8588"/>
                  <a:pt x="918" y="8632"/>
                </a:cubicBezTo>
              </a:path>
              <a:path w="2779" h="1018">
                <a:moveTo>
                  <a:pt x="1191" y="8111"/>
                </a:moveTo>
                <a:cubicBezTo>
                  <a:pt x="1186" y="8241"/>
                  <a:pt x="1166" y="8336"/>
                  <a:pt x="1166" y="8458"/>
                </a:cubicBezTo>
                <a:cubicBezTo>
                  <a:pt x="1166" y="8483"/>
                  <a:pt x="1166" y="8491"/>
                  <a:pt x="1166" y="8508"/>
                </a:cubicBezTo>
              </a:path>
              <a:path w="2779" h="1018">
                <a:moveTo>
                  <a:pt x="1091" y="8334"/>
                </a:moveTo>
                <a:cubicBezTo>
                  <a:pt x="1146" y="8334"/>
                  <a:pt x="1196" y="8316"/>
                  <a:pt x="1240" y="8310"/>
                </a:cubicBezTo>
                <a:cubicBezTo>
                  <a:pt x="1265" y="8310"/>
                  <a:pt x="1290" y="8310"/>
                  <a:pt x="1315" y="8310"/>
                </a:cubicBezTo>
              </a:path>
              <a:path w="2779" h="1018">
                <a:moveTo>
                  <a:pt x="1513" y="8186"/>
                </a:moveTo>
                <a:cubicBezTo>
                  <a:pt x="1399" y="8252"/>
                  <a:pt x="1397" y="8231"/>
                  <a:pt x="1414" y="8334"/>
                </a:cubicBezTo>
                <a:cubicBezTo>
                  <a:pt x="1419" y="8363"/>
                  <a:pt x="1450" y="8433"/>
                  <a:pt x="1463" y="8458"/>
                </a:cubicBezTo>
                <a:cubicBezTo>
                  <a:pt x="1483" y="8498"/>
                  <a:pt x="1508" y="8525"/>
                  <a:pt x="1439" y="8533"/>
                </a:cubicBezTo>
                <a:cubicBezTo>
                  <a:pt x="1417" y="8536"/>
                  <a:pt x="1350" y="8505"/>
                  <a:pt x="1339" y="8483"/>
                </a:cubicBezTo>
                <a:cubicBezTo>
                  <a:pt x="1339" y="8455"/>
                  <a:pt x="1341" y="8444"/>
                  <a:pt x="1364" y="8434"/>
                </a:cubicBezTo>
              </a:path>
              <a:path w="2779" h="1018">
                <a:moveTo>
                  <a:pt x="1662" y="8310"/>
                </a:moveTo>
                <a:cubicBezTo>
                  <a:pt x="1662" y="8393"/>
                  <a:pt x="1662" y="8475"/>
                  <a:pt x="1662" y="8558"/>
                </a:cubicBezTo>
                <a:cubicBezTo>
                  <a:pt x="1634" y="8530"/>
                  <a:pt x="1625" y="8516"/>
                  <a:pt x="1637" y="8483"/>
                </a:cubicBezTo>
              </a:path>
              <a:path w="2779" h="1018">
                <a:moveTo>
                  <a:pt x="1687" y="8086"/>
                </a:moveTo>
                <a:cubicBezTo>
                  <a:pt x="1695" y="8086"/>
                  <a:pt x="1704" y="8086"/>
                  <a:pt x="1712" y="8086"/>
                </a:cubicBezTo>
              </a:path>
              <a:path w="2779" h="1018">
                <a:moveTo>
                  <a:pt x="1811" y="8285"/>
                </a:moveTo>
                <a:cubicBezTo>
                  <a:pt x="1811" y="8368"/>
                  <a:pt x="1811" y="8450"/>
                  <a:pt x="1811" y="8533"/>
                </a:cubicBezTo>
                <a:cubicBezTo>
                  <a:pt x="1811" y="8459"/>
                  <a:pt x="1804" y="8395"/>
                  <a:pt x="1836" y="8334"/>
                </a:cubicBezTo>
                <a:cubicBezTo>
                  <a:pt x="1860" y="8288"/>
                  <a:pt x="1881" y="8241"/>
                  <a:pt x="1935" y="8235"/>
                </a:cubicBezTo>
                <a:cubicBezTo>
                  <a:pt x="1943" y="8235"/>
                  <a:pt x="1952" y="8235"/>
                  <a:pt x="1960" y="8235"/>
                </a:cubicBezTo>
                <a:cubicBezTo>
                  <a:pt x="1966" y="8287"/>
                  <a:pt x="1967" y="8360"/>
                  <a:pt x="1984" y="8409"/>
                </a:cubicBezTo>
                <a:cubicBezTo>
                  <a:pt x="1999" y="8452"/>
                  <a:pt x="2009" y="8475"/>
                  <a:pt x="2034" y="8508"/>
                </a:cubicBezTo>
                <a:cubicBezTo>
                  <a:pt x="2076" y="8466"/>
                  <a:pt x="2104" y="8436"/>
                  <a:pt x="2133" y="8384"/>
                </a:cubicBezTo>
              </a:path>
              <a:path w="2779" h="1018">
                <a:moveTo>
                  <a:pt x="2282" y="8062"/>
                </a:moveTo>
                <a:cubicBezTo>
                  <a:pt x="2258" y="8164"/>
                  <a:pt x="2228" y="8260"/>
                  <a:pt x="2208" y="8359"/>
                </a:cubicBezTo>
                <a:cubicBezTo>
                  <a:pt x="2202" y="8388"/>
                  <a:pt x="2248" y="8449"/>
                  <a:pt x="2282" y="8434"/>
                </a:cubicBezTo>
                <a:cubicBezTo>
                  <a:pt x="2316" y="8419"/>
                  <a:pt x="2373" y="8344"/>
                  <a:pt x="2381" y="8310"/>
                </a:cubicBezTo>
                <a:cubicBezTo>
                  <a:pt x="2394" y="8256"/>
                  <a:pt x="2428" y="8129"/>
                  <a:pt x="2381" y="8086"/>
                </a:cubicBezTo>
                <a:cubicBezTo>
                  <a:pt x="2335" y="8044"/>
                  <a:pt x="2318" y="8060"/>
                  <a:pt x="2282" y="8086"/>
                </a:cubicBezTo>
              </a:path>
              <a:path w="2779" h="1018">
                <a:moveTo>
                  <a:pt x="2084" y="8186"/>
                </a:moveTo>
                <a:cubicBezTo>
                  <a:pt x="2166" y="8220"/>
                  <a:pt x="2200" y="8193"/>
                  <a:pt x="2282" y="8186"/>
                </a:cubicBezTo>
                <a:cubicBezTo>
                  <a:pt x="2421" y="8174"/>
                  <a:pt x="2471" y="8171"/>
                  <a:pt x="2580" y="8086"/>
                </a:cubicBezTo>
              </a:path>
              <a:path w="2779" h="1018">
                <a:moveTo>
                  <a:pt x="2654" y="7813"/>
                </a:moveTo>
                <a:cubicBezTo>
                  <a:pt x="2726" y="8037"/>
                  <a:pt x="2782" y="8175"/>
                  <a:pt x="2729" y="8409"/>
                </a:cubicBezTo>
                <a:cubicBezTo>
                  <a:pt x="2712" y="8484"/>
                  <a:pt x="2665" y="8548"/>
                  <a:pt x="2629" y="8607"/>
                </a:cubicBezTo>
                <a:cubicBezTo>
                  <a:pt x="2621" y="8624"/>
                  <a:pt x="2612" y="8640"/>
                  <a:pt x="2604" y="8657"/>
                </a:cubicBezTo>
              </a:path>
              <a:path w="2779" h="1018">
                <a:moveTo>
                  <a:pt x="3249" y="8285"/>
                </a:moveTo>
                <a:cubicBezTo>
                  <a:pt x="3225" y="8285"/>
                  <a:pt x="3216" y="8285"/>
                  <a:pt x="3200" y="82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4760" y="2687760"/>
            <a:ext cx="1322280" cy="366480"/>
          </a:xfrm>
          <a:custGeom>
            <a:avLst/>
            <a:gdLst/>
            <a:ahLst/>
            <a:rect l="l" t="t" r="r" b="b"/>
            <a:pathLst>
              <a:path w="3672" h="1018">
                <a:moveTo>
                  <a:pt x="4688" y="7888"/>
                </a:moveTo>
                <a:cubicBezTo>
                  <a:pt x="4708" y="7914"/>
                  <a:pt x="4713" y="7981"/>
                  <a:pt x="4713" y="7938"/>
                </a:cubicBezTo>
                <a:cubicBezTo>
                  <a:pt x="4713" y="7901"/>
                  <a:pt x="4662" y="7841"/>
                  <a:pt x="4638" y="7838"/>
                </a:cubicBezTo>
                <a:cubicBezTo>
                  <a:pt x="4577" y="7830"/>
                  <a:pt x="4538" y="7852"/>
                  <a:pt x="4490" y="7888"/>
                </a:cubicBezTo>
                <a:cubicBezTo>
                  <a:pt x="4426" y="7936"/>
                  <a:pt x="4377" y="8044"/>
                  <a:pt x="4341" y="8111"/>
                </a:cubicBezTo>
                <a:cubicBezTo>
                  <a:pt x="4292" y="8201"/>
                  <a:pt x="4294" y="8217"/>
                  <a:pt x="4316" y="8310"/>
                </a:cubicBezTo>
                <a:cubicBezTo>
                  <a:pt x="4325" y="8349"/>
                  <a:pt x="4373" y="8420"/>
                  <a:pt x="4415" y="8434"/>
                </a:cubicBezTo>
                <a:cubicBezTo>
                  <a:pt x="4478" y="8455"/>
                  <a:pt x="4590" y="8439"/>
                  <a:pt x="4638" y="8409"/>
                </a:cubicBezTo>
              </a:path>
              <a:path w="3672" h="1018">
                <a:moveTo>
                  <a:pt x="5011" y="8012"/>
                </a:moveTo>
                <a:cubicBezTo>
                  <a:pt x="4979" y="8103"/>
                  <a:pt x="4927" y="8216"/>
                  <a:pt x="4911" y="8310"/>
                </a:cubicBezTo>
                <a:cubicBezTo>
                  <a:pt x="4902" y="8363"/>
                  <a:pt x="4935" y="8405"/>
                  <a:pt x="4986" y="8409"/>
                </a:cubicBezTo>
                <a:cubicBezTo>
                  <a:pt x="5057" y="8414"/>
                  <a:pt x="5103" y="8405"/>
                  <a:pt x="5159" y="8359"/>
                </a:cubicBezTo>
                <a:cubicBezTo>
                  <a:pt x="5245" y="8288"/>
                  <a:pt x="5289" y="8223"/>
                  <a:pt x="5308" y="8111"/>
                </a:cubicBezTo>
                <a:cubicBezTo>
                  <a:pt x="5324" y="8015"/>
                  <a:pt x="5293" y="8042"/>
                  <a:pt x="5234" y="8012"/>
                </a:cubicBezTo>
                <a:cubicBezTo>
                  <a:pt x="5199" y="7994"/>
                  <a:pt x="5131" y="7964"/>
                  <a:pt x="5085" y="7987"/>
                </a:cubicBezTo>
                <a:cubicBezTo>
                  <a:pt x="5060" y="8000"/>
                  <a:pt x="4979" y="8030"/>
                  <a:pt x="5035" y="8062"/>
                </a:cubicBezTo>
                <a:cubicBezTo>
                  <a:pt x="5043" y="8062"/>
                  <a:pt x="5052" y="8062"/>
                  <a:pt x="5060" y="8062"/>
                </a:cubicBezTo>
              </a:path>
              <a:path w="3672" h="1018">
                <a:moveTo>
                  <a:pt x="5829" y="7962"/>
                </a:moveTo>
                <a:cubicBezTo>
                  <a:pt x="5782" y="7962"/>
                  <a:pt x="5719" y="7968"/>
                  <a:pt x="5680" y="7987"/>
                </a:cubicBezTo>
                <a:cubicBezTo>
                  <a:pt x="5653" y="8000"/>
                  <a:pt x="5610" y="8023"/>
                  <a:pt x="5631" y="8062"/>
                </a:cubicBezTo>
                <a:cubicBezTo>
                  <a:pt x="5662" y="8118"/>
                  <a:pt x="5734" y="8188"/>
                  <a:pt x="5779" y="8235"/>
                </a:cubicBezTo>
                <a:cubicBezTo>
                  <a:pt x="5835" y="8294"/>
                  <a:pt x="5839" y="8349"/>
                  <a:pt x="5829" y="8384"/>
                </a:cubicBezTo>
                <a:cubicBezTo>
                  <a:pt x="5812" y="8444"/>
                  <a:pt x="5702" y="8390"/>
                  <a:pt x="5655" y="8384"/>
                </a:cubicBezTo>
                <a:cubicBezTo>
                  <a:pt x="5597" y="8376"/>
                  <a:pt x="5579" y="8388"/>
                  <a:pt x="5531" y="8359"/>
                </a:cubicBezTo>
              </a:path>
              <a:path w="3672" h="1018">
                <a:moveTo>
                  <a:pt x="6573" y="7640"/>
                </a:moveTo>
                <a:cubicBezTo>
                  <a:pt x="6505" y="7745"/>
                  <a:pt x="6405" y="7848"/>
                  <a:pt x="6350" y="7962"/>
                </a:cubicBezTo>
                <a:cubicBezTo>
                  <a:pt x="6290" y="8087"/>
                  <a:pt x="6280" y="8225"/>
                  <a:pt x="6276" y="8359"/>
                </a:cubicBezTo>
                <a:cubicBezTo>
                  <a:pt x="6274" y="8417"/>
                  <a:pt x="6332" y="8487"/>
                  <a:pt x="6400" y="8483"/>
                </a:cubicBezTo>
                <a:cubicBezTo>
                  <a:pt x="6440" y="8481"/>
                  <a:pt x="6509" y="8448"/>
                  <a:pt x="6548" y="8434"/>
                </a:cubicBezTo>
              </a:path>
              <a:path w="3672" h="1018">
                <a:moveTo>
                  <a:pt x="6995" y="7913"/>
                </a:moveTo>
                <a:cubicBezTo>
                  <a:pt x="6892" y="8057"/>
                  <a:pt x="6783" y="8159"/>
                  <a:pt x="6772" y="8334"/>
                </a:cubicBezTo>
                <a:cubicBezTo>
                  <a:pt x="6768" y="8402"/>
                  <a:pt x="6771" y="8429"/>
                  <a:pt x="6846" y="8434"/>
                </a:cubicBezTo>
                <a:cubicBezTo>
                  <a:pt x="6919" y="8439"/>
                  <a:pt x="7007" y="8426"/>
                  <a:pt x="7069" y="8384"/>
                </a:cubicBezTo>
                <a:cubicBezTo>
                  <a:pt x="7159" y="8324"/>
                  <a:pt x="7229" y="8261"/>
                  <a:pt x="7268" y="8161"/>
                </a:cubicBezTo>
                <a:cubicBezTo>
                  <a:pt x="7298" y="8085"/>
                  <a:pt x="7348" y="7989"/>
                  <a:pt x="7293" y="7913"/>
                </a:cubicBezTo>
                <a:cubicBezTo>
                  <a:pt x="7241" y="7841"/>
                  <a:pt x="7182" y="7818"/>
                  <a:pt x="7094" y="7813"/>
                </a:cubicBezTo>
                <a:cubicBezTo>
                  <a:pt x="7045" y="7813"/>
                  <a:pt x="7028" y="7813"/>
                  <a:pt x="6995" y="7813"/>
                </a:cubicBezTo>
              </a:path>
              <a:path w="3672" h="1018">
                <a:moveTo>
                  <a:pt x="6722" y="8086"/>
                </a:moveTo>
                <a:cubicBezTo>
                  <a:pt x="6797" y="8114"/>
                  <a:pt x="6863" y="8133"/>
                  <a:pt x="6945" y="8136"/>
                </a:cubicBezTo>
                <a:cubicBezTo>
                  <a:pt x="7099" y="8141"/>
                  <a:pt x="7244" y="8127"/>
                  <a:pt x="7392" y="8111"/>
                </a:cubicBezTo>
                <a:cubicBezTo>
                  <a:pt x="7460" y="8111"/>
                  <a:pt x="7479" y="8114"/>
                  <a:pt x="7516" y="8086"/>
                </a:cubicBezTo>
              </a:path>
              <a:path w="3672" h="1018">
                <a:moveTo>
                  <a:pt x="7640" y="7466"/>
                </a:moveTo>
                <a:cubicBezTo>
                  <a:pt x="7769" y="7590"/>
                  <a:pt x="7920" y="7723"/>
                  <a:pt x="7962" y="7913"/>
                </a:cubicBezTo>
                <a:cubicBezTo>
                  <a:pt x="7976" y="7978"/>
                  <a:pt x="7957" y="8183"/>
                  <a:pt x="7913" y="8235"/>
                </a:cubicBezTo>
                <a:cubicBezTo>
                  <a:pt x="7886" y="8267"/>
                  <a:pt x="7806" y="8361"/>
                  <a:pt x="7764" y="8384"/>
                </a:cubicBezTo>
                <a:cubicBezTo>
                  <a:pt x="7700" y="8419"/>
                  <a:pt x="7610" y="8435"/>
                  <a:pt x="7541" y="84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280" y="3259080"/>
            <a:ext cx="911520" cy="330120"/>
          </a:xfrm>
          <a:custGeom>
            <a:avLst/>
            <a:gdLst/>
            <a:ahLst/>
            <a:rect l="l" t="t" r="r" b="b"/>
            <a:pathLst>
              <a:path w="2531" h="918">
                <a:moveTo>
                  <a:pt x="719" y="9054"/>
                </a:moveTo>
                <a:cubicBezTo>
                  <a:pt x="677" y="9086"/>
                  <a:pt x="660" y="9118"/>
                  <a:pt x="620" y="9153"/>
                </a:cubicBezTo>
                <a:cubicBezTo>
                  <a:pt x="556" y="9209"/>
                  <a:pt x="500" y="9278"/>
                  <a:pt x="446" y="9351"/>
                </a:cubicBezTo>
                <a:cubicBezTo>
                  <a:pt x="379" y="9441"/>
                  <a:pt x="351" y="9539"/>
                  <a:pt x="347" y="9649"/>
                </a:cubicBezTo>
                <a:cubicBezTo>
                  <a:pt x="344" y="9723"/>
                  <a:pt x="326" y="9833"/>
                  <a:pt x="372" y="9897"/>
                </a:cubicBezTo>
                <a:cubicBezTo>
                  <a:pt x="425" y="9971"/>
                  <a:pt x="465" y="9964"/>
                  <a:pt x="546" y="9971"/>
                </a:cubicBezTo>
              </a:path>
              <a:path w="2531" h="918">
                <a:moveTo>
                  <a:pt x="992" y="9203"/>
                </a:moveTo>
                <a:cubicBezTo>
                  <a:pt x="976" y="9322"/>
                  <a:pt x="969" y="9459"/>
                  <a:pt x="943" y="9575"/>
                </a:cubicBezTo>
                <a:cubicBezTo>
                  <a:pt x="924" y="9659"/>
                  <a:pt x="911" y="9741"/>
                  <a:pt x="893" y="9823"/>
                </a:cubicBezTo>
                <a:cubicBezTo>
                  <a:pt x="885" y="9858"/>
                  <a:pt x="872" y="9902"/>
                  <a:pt x="893" y="9872"/>
                </a:cubicBezTo>
                <a:cubicBezTo>
                  <a:pt x="926" y="9826"/>
                  <a:pt x="944" y="9776"/>
                  <a:pt x="967" y="9723"/>
                </a:cubicBezTo>
              </a:path>
              <a:path w="2531" h="918">
                <a:moveTo>
                  <a:pt x="1339" y="9178"/>
                </a:moveTo>
                <a:cubicBezTo>
                  <a:pt x="1339" y="9266"/>
                  <a:pt x="1338" y="9368"/>
                  <a:pt x="1315" y="9451"/>
                </a:cubicBezTo>
                <a:cubicBezTo>
                  <a:pt x="1292" y="9536"/>
                  <a:pt x="1290" y="9608"/>
                  <a:pt x="1290" y="9699"/>
                </a:cubicBezTo>
                <a:cubicBezTo>
                  <a:pt x="1290" y="9716"/>
                  <a:pt x="1312" y="9850"/>
                  <a:pt x="1315" y="9847"/>
                </a:cubicBezTo>
                <a:cubicBezTo>
                  <a:pt x="1321" y="9841"/>
                  <a:pt x="1315" y="9783"/>
                  <a:pt x="1315" y="9773"/>
                </a:cubicBezTo>
              </a:path>
              <a:path w="2531" h="918">
                <a:moveTo>
                  <a:pt x="1191" y="9550"/>
                </a:moveTo>
                <a:cubicBezTo>
                  <a:pt x="1293" y="9550"/>
                  <a:pt x="1366" y="9530"/>
                  <a:pt x="1463" y="9525"/>
                </a:cubicBezTo>
                <a:cubicBezTo>
                  <a:pt x="1480" y="9525"/>
                  <a:pt x="1496" y="9525"/>
                  <a:pt x="1513" y="9525"/>
                </a:cubicBezTo>
              </a:path>
              <a:path w="2531" h="918">
                <a:moveTo>
                  <a:pt x="1786" y="9475"/>
                </a:moveTo>
                <a:cubicBezTo>
                  <a:pt x="1737" y="9486"/>
                  <a:pt x="1639" y="9490"/>
                  <a:pt x="1612" y="9550"/>
                </a:cubicBezTo>
                <a:cubicBezTo>
                  <a:pt x="1595" y="9588"/>
                  <a:pt x="1670" y="9623"/>
                  <a:pt x="1687" y="9649"/>
                </a:cubicBezTo>
                <a:cubicBezTo>
                  <a:pt x="1718" y="9697"/>
                  <a:pt x="1747" y="9750"/>
                  <a:pt x="1761" y="9798"/>
                </a:cubicBezTo>
                <a:cubicBezTo>
                  <a:pt x="1761" y="9806"/>
                  <a:pt x="1761" y="9815"/>
                  <a:pt x="1761" y="9823"/>
                </a:cubicBezTo>
                <a:cubicBezTo>
                  <a:pt x="1722" y="9832"/>
                  <a:pt x="1706" y="9847"/>
                  <a:pt x="1662" y="9847"/>
                </a:cubicBezTo>
                <a:cubicBezTo>
                  <a:pt x="1621" y="9847"/>
                  <a:pt x="1554" y="9853"/>
                  <a:pt x="1538" y="9798"/>
                </a:cubicBezTo>
                <a:cubicBezTo>
                  <a:pt x="1538" y="9781"/>
                  <a:pt x="1538" y="9765"/>
                  <a:pt x="1538" y="9748"/>
                </a:cubicBezTo>
              </a:path>
              <a:path w="2531" h="918">
                <a:moveTo>
                  <a:pt x="1885" y="9550"/>
                </a:moveTo>
                <a:cubicBezTo>
                  <a:pt x="1885" y="9555"/>
                  <a:pt x="1886" y="9796"/>
                  <a:pt x="1860" y="9823"/>
                </a:cubicBezTo>
                <a:cubicBezTo>
                  <a:pt x="1831" y="9854"/>
                  <a:pt x="1836" y="9842"/>
                  <a:pt x="1836" y="9798"/>
                </a:cubicBezTo>
              </a:path>
              <a:path w="2531" h="918">
                <a:moveTo>
                  <a:pt x="1910" y="9302"/>
                </a:moveTo>
                <a:cubicBezTo>
                  <a:pt x="1927" y="9302"/>
                  <a:pt x="1943" y="9302"/>
                  <a:pt x="1960" y="9302"/>
                </a:cubicBezTo>
              </a:path>
              <a:path w="2531" h="918">
                <a:moveTo>
                  <a:pt x="2009" y="9723"/>
                </a:moveTo>
                <a:cubicBezTo>
                  <a:pt x="2009" y="9798"/>
                  <a:pt x="1984" y="9831"/>
                  <a:pt x="2034" y="9823"/>
                </a:cubicBezTo>
                <a:cubicBezTo>
                  <a:pt x="2034" y="9779"/>
                  <a:pt x="2043" y="9738"/>
                  <a:pt x="2059" y="9699"/>
                </a:cubicBezTo>
                <a:cubicBezTo>
                  <a:pt x="2085" y="9634"/>
                  <a:pt x="2089" y="9583"/>
                  <a:pt x="2133" y="9525"/>
                </a:cubicBezTo>
                <a:cubicBezTo>
                  <a:pt x="2157" y="9493"/>
                  <a:pt x="2174" y="9483"/>
                  <a:pt x="2208" y="9475"/>
                </a:cubicBezTo>
                <a:cubicBezTo>
                  <a:pt x="2241" y="9520"/>
                  <a:pt x="2252" y="9565"/>
                  <a:pt x="2257" y="9624"/>
                </a:cubicBezTo>
                <a:cubicBezTo>
                  <a:pt x="2261" y="9677"/>
                  <a:pt x="2282" y="9716"/>
                  <a:pt x="2282" y="9773"/>
                </a:cubicBezTo>
                <a:cubicBezTo>
                  <a:pt x="2282" y="9789"/>
                  <a:pt x="2311" y="9834"/>
                  <a:pt x="2332" y="9823"/>
                </a:cubicBezTo>
                <a:cubicBezTo>
                  <a:pt x="2354" y="9800"/>
                  <a:pt x="2362" y="9795"/>
                  <a:pt x="2356" y="9773"/>
                </a:cubicBezTo>
              </a:path>
              <a:path w="2531" h="918">
                <a:moveTo>
                  <a:pt x="2505" y="9327"/>
                </a:moveTo>
                <a:cubicBezTo>
                  <a:pt x="2476" y="9435"/>
                  <a:pt x="2449" y="9546"/>
                  <a:pt x="2406" y="9649"/>
                </a:cubicBezTo>
                <a:cubicBezTo>
                  <a:pt x="2382" y="9708"/>
                  <a:pt x="2362" y="9748"/>
                  <a:pt x="2406" y="9798"/>
                </a:cubicBezTo>
                <a:cubicBezTo>
                  <a:pt x="2450" y="9848"/>
                  <a:pt x="2488" y="9811"/>
                  <a:pt x="2530" y="9773"/>
                </a:cubicBezTo>
                <a:cubicBezTo>
                  <a:pt x="2595" y="9714"/>
                  <a:pt x="2616" y="9659"/>
                  <a:pt x="2629" y="9575"/>
                </a:cubicBezTo>
                <a:cubicBezTo>
                  <a:pt x="2637" y="9524"/>
                  <a:pt x="2628" y="9464"/>
                  <a:pt x="2604" y="9426"/>
                </a:cubicBezTo>
                <a:cubicBezTo>
                  <a:pt x="2576" y="9383"/>
                  <a:pt x="2552" y="9376"/>
                  <a:pt x="2505" y="9376"/>
                </a:cubicBezTo>
              </a:path>
              <a:path w="2531" h="918">
                <a:moveTo>
                  <a:pt x="2307" y="9525"/>
                </a:moveTo>
                <a:cubicBezTo>
                  <a:pt x="2357" y="9555"/>
                  <a:pt x="2394" y="9550"/>
                  <a:pt x="2456" y="9550"/>
                </a:cubicBezTo>
                <a:cubicBezTo>
                  <a:pt x="2547" y="9550"/>
                  <a:pt x="2599" y="9515"/>
                  <a:pt x="2679" y="9475"/>
                </a:cubicBezTo>
              </a:path>
              <a:path w="2531" h="918">
                <a:moveTo>
                  <a:pt x="2778" y="9153"/>
                </a:moveTo>
                <a:cubicBezTo>
                  <a:pt x="2853" y="9362"/>
                  <a:pt x="2873" y="9422"/>
                  <a:pt x="2853" y="9624"/>
                </a:cubicBezTo>
                <a:cubicBezTo>
                  <a:pt x="2845" y="9707"/>
                  <a:pt x="2828" y="9775"/>
                  <a:pt x="2778" y="9847"/>
                </a:cubicBezTo>
                <a:cubicBezTo>
                  <a:pt x="2746" y="9893"/>
                  <a:pt x="2658" y="9932"/>
                  <a:pt x="2604" y="9922"/>
                </a:cubicBezTo>
                <a:cubicBezTo>
                  <a:pt x="2579" y="9914"/>
                  <a:pt x="2555" y="9905"/>
                  <a:pt x="253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6120" y="3268800"/>
            <a:ext cx="9720" cy="268200"/>
          </a:xfrm>
          <a:custGeom>
            <a:avLst/>
            <a:gdLst/>
            <a:ahLst/>
            <a:rect l="l" t="t" r="r" b="b"/>
            <a:pathLst>
              <a:path w="26" h="745">
                <a:moveTo>
                  <a:pt x="4043" y="9079"/>
                </a:moveTo>
                <a:cubicBezTo>
                  <a:pt x="4043" y="9208"/>
                  <a:pt x="4036" y="9326"/>
                  <a:pt x="4018" y="9451"/>
                </a:cubicBezTo>
                <a:cubicBezTo>
                  <a:pt x="4007" y="9528"/>
                  <a:pt x="4005" y="9823"/>
                  <a:pt x="4043" y="97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89040" y="3411360"/>
            <a:ext cx="169920" cy="1800"/>
          </a:xfrm>
          <a:custGeom>
            <a:avLst/>
            <a:gdLst/>
            <a:ahLst/>
            <a:rect l="l" t="t" r="r" b="b"/>
            <a:pathLst>
              <a:path w="473" h="1">
                <a:moveTo>
                  <a:pt x="4415" y="9475"/>
                </a:moveTo>
                <a:cubicBezTo>
                  <a:pt x="4581" y="9475"/>
                  <a:pt x="5028" y="9475"/>
                  <a:pt x="4862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9160" y="3259080"/>
            <a:ext cx="795600" cy="285840"/>
          </a:xfrm>
          <a:custGeom>
            <a:avLst/>
            <a:gdLst/>
            <a:ahLst/>
            <a:rect l="l" t="t" r="r" b="b"/>
            <a:pathLst>
              <a:path w="2209" h="794">
                <a:moveTo>
                  <a:pt x="5556" y="9302"/>
                </a:moveTo>
                <a:cubicBezTo>
                  <a:pt x="5507" y="9317"/>
                  <a:pt x="5424" y="9330"/>
                  <a:pt x="5383" y="9351"/>
                </a:cubicBezTo>
                <a:cubicBezTo>
                  <a:pt x="5357" y="9364"/>
                  <a:pt x="5311" y="9386"/>
                  <a:pt x="5333" y="9426"/>
                </a:cubicBezTo>
                <a:cubicBezTo>
                  <a:pt x="5362" y="9477"/>
                  <a:pt x="5434" y="9501"/>
                  <a:pt x="5482" y="9525"/>
                </a:cubicBezTo>
                <a:cubicBezTo>
                  <a:pt x="5557" y="9563"/>
                  <a:pt x="5606" y="9614"/>
                  <a:pt x="5655" y="9674"/>
                </a:cubicBezTo>
                <a:cubicBezTo>
                  <a:pt x="5692" y="9719"/>
                  <a:pt x="5691" y="9756"/>
                  <a:pt x="5655" y="9798"/>
                </a:cubicBezTo>
                <a:cubicBezTo>
                  <a:pt x="5611" y="9849"/>
                  <a:pt x="5568" y="9847"/>
                  <a:pt x="5507" y="9847"/>
                </a:cubicBezTo>
                <a:cubicBezTo>
                  <a:pt x="5443" y="9847"/>
                  <a:pt x="5433" y="9839"/>
                  <a:pt x="5383" y="9823"/>
                </a:cubicBezTo>
                <a:cubicBezTo>
                  <a:pt x="5355" y="9823"/>
                  <a:pt x="5349" y="9821"/>
                  <a:pt x="5383" y="9798"/>
                </a:cubicBezTo>
              </a:path>
              <a:path w="2209" h="794">
                <a:moveTo>
                  <a:pt x="5854" y="9426"/>
                </a:moveTo>
                <a:cubicBezTo>
                  <a:pt x="5882" y="9500"/>
                  <a:pt x="5901" y="9595"/>
                  <a:pt x="5904" y="9674"/>
                </a:cubicBezTo>
                <a:cubicBezTo>
                  <a:pt x="5907" y="9744"/>
                  <a:pt x="5897" y="9768"/>
                  <a:pt x="5928" y="9823"/>
                </a:cubicBezTo>
                <a:cubicBezTo>
                  <a:pt x="5977" y="9807"/>
                  <a:pt x="5948" y="9771"/>
                  <a:pt x="5928" y="9723"/>
                </a:cubicBezTo>
              </a:path>
              <a:path w="2209" h="794">
                <a:moveTo>
                  <a:pt x="5953" y="9252"/>
                </a:moveTo>
                <a:lnTo>
                  <a:pt x="5953" y="9252"/>
                </a:lnTo>
              </a:path>
              <a:path w="2209" h="794">
                <a:moveTo>
                  <a:pt x="6201" y="9550"/>
                </a:moveTo>
                <a:cubicBezTo>
                  <a:pt x="6197" y="9622"/>
                  <a:pt x="6161" y="9719"/>
                  <a:pt x="6201" y="9773"/>
                </a:cubicBezTo>
                <a:cubicBezTo>
                  <a:pt x="6201" y="9836"/>
                  <a:pt x="6201" y="9719"/>
                  <a:pt x="6201" y="9699"/>
                </a:cubicBezTo>
                <a:cubicBezTo>
                  <a:pt x="6201" y="9628"/>
                  <a:pt x="6215" y="9589"/>
                  <a:pt x="6226" y="9525"/>
                </a:cubicBezTo>
                <a:cubicBezTo>
                  <a:pt x="6238" y="9456"/>
                  <a:pt x="6269" y="9405"/>
                  <a:pt x="6350" y="9376"/>
                </a:cubicBezTo>
                <a:cubicBezTo>
                  <a:pt x="6431" y="9347"/>
                  <a:pt x="6473" y="9400"/>
                  <a:pt x="6524" y="9451"/>
                </a:cubicBezTo>
                <a:cubicBezTo>
                  <a:pt x="6558" y="9485"/>
                  <a:pt x="6589" y="9574"/>
                  <a:pt x="6598" y="9624"/>
                </a:cubicBezTo>
                <a:cubicBezTo>
                  <a:pt x="6608" y="9682"/>
                  <a:pt x="6609" y="9716"/>
                  <a:pt x="6623" y="9773"/>
                </a:cubicBezTo>
                <a:cubicBezTo>
                  <a:pt x="6623" y="9798"/>
                  <a:pt x="6623" y="9806"/>
                  <a:pt x="6623" y="9773"/>
                </a:cubicBezTo>
              </a:path>
              <a:path w="2209" h="794">
                <a:moveTo>
                  <a:pt x="7169" y="9054"/>
                </a:moveTo>
                <a:cubicBezTo>
                  <a:pt x="7169" y="9129"/>
                  <a:pt x="7141" y="9159"/>
                  <a:pt x="7119" y="9227"/>
                </a:cubicBezTo>
                <a:cubicBezTo>
                  <a:pt x="7086" y="9328"/>
                  <a:pt x="7057" y="9426"/>
                  <a:pt x="7020" y="9525"/>
                </a:cubicBezTo>
                <a:cubicBezTo>
                  <a:pt x="6984" y="9621"/>
                  <a:pt x="6999" y="9658"/>
                  <a:pt x="7020" y="9748"/>
                </a:cubicBezTo>
                <a:cubicBezTo>
                  <a:pt x="7033" y="9805"/>
                  <a:pt x="7085" y="9837"/>
                  <a:pt x="7144" y="9847"/>
                </a:cubicBezTo>
                <a:cubicBezTo>
                  <a:pt x="7207" y="9858"/>
                  <a:pt x="7340" y="9808"/>
                  <a:pt x="7392" y="9773"/>
                </a:cubicBezTo>
                <a:cubicBezTo>
                  <a:pt x="7474" y="9718"/>
                  <a:pt x="7511" y="9645"/>
                  <a:pt x="7516" y="9550"/>
                </a:cubicBezTo>
                <a:cubicBezTo>
                  <a:pt x="7521" y="9459"/>
                  <a:pt x="7504" y="9399"/>
                  <a:pt x="7441" y="9327"/>
                </a:cubicBezTo>
                <a:cubicBezTo>
                  <a:pt x="7403" y="9283"/>
                  <a:pt x="7333" y="9223"/>
                  <a:pt x="7293" y="9203"/>
                </a:cubicBezTo>
                <a:cubicBezTo>
                  <a:pt x="7276" y="9195"/>
                  <a:pt x="7260" y="9186"/>
                  <a:pt x="7243" y="9178"/>
                </a:cubicBezTo>
              </a:path>
              <a:path w="2209" h="794">
                <a:moveTo>
                  <a:pt x="6896" y="9376"/>
                </a:moveTo>
                <a:cubicBezTo>
                  <a:pt x="6992" y="9413"/>
                  <a:pt x="7088" y="9401"/>
                  <a:pt x="7193" y="9401"/>
                </a:cubicBezTo>
                <a:cubicBezTo>
                  <a:pt x="7277" y="9401"/>
                  <a:pt x="7338" y="9422"/>
                  <a:pt x="7417" y="9426"/>
                </a:cubicBezTo>
                <a:cubicBezTo>
                  <a:pt x="7466" y="9429"/>
                  <a:pt x="7528" y="9440"/>
                  <a:pt x="7541" y="94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4880" y="3894120"/>
            <a:ext cx="98280" cy="428760"/>
          </a:xfrm>
          <a:custGeom>
            <a:avLst/>
            <a:gdLst/>
            <a:ahLst/>
            <a:rect l="l" t="t" r="r" b="b"/>
            <a:pathLst>
              <a:path w="273" h="1191">
                <a:moveTo>
                  <a:pt x="2232" y="10815"/>
                </a:moveTo>
                <a:cubicBezTo>
                  <a:pt x="2163" y="10928"/>
                  <a:pt x="2117" y="11043"/>
                  <a:pt x="2059" y="11162"/>
                </a:cubicBezTo>
                <a:cubicBezTo>
                  <a:pt x="1961" y="11363"/>
                  <a:pt x="1964" y="11504"/>
                  <a:pt x="1960" y="11733"/>
                </a:cubicBezTo>
                <a:cubicBezTo>
                  <a:pt x="1958" y="11860"/>
                  <a:pt x="1972" y="11919"/>
                  <a:pt x="2084" y="11981"/>
                </a:cubicBezTo>
                <a:cubicBezTo>
                  <a:pt x="2124" y="12001"/>
                  <a:pt x="2131" y="12009"/>
                  <a:pt x="2158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3848040"/>
            <a:ext cx="2090880" cy="492120"/>
          </a:xfrm>
          <a:custGeom>
            <a:avLst/>
            <a:gdLst/>
            <a:ahLst/>
            <a:rect l="l" t="t" r="r" b="b"/>
            <a:pathLst>
              <a:path w="5806" h="1365">
                <a:moveTo>
                  <a:pt x="2629" y="11013"/>
                </a:moveTo>
                <a:cubicBezTo>
                  <a:pt x="2629" y="11215"/>
                  <a:pt x="2628" y="11412"/>
                  <a:pt x="2654" y="11609"/>
                </a:cubicBezTo>
                <a:cubicBezTo>
                  <a:pt x="2659" y="11645"/>
                  <a:pt x="2654" y="11851"/>
                  <a:pt x="2654" y="11807"/>
                </a:cubicBezTo>
                <a:cubicBezTo>
                  <a:pt x="2654" y="11779"/>
                  <a:pt x="2656" y="11768"/>
                  <a:pt x="2679" y="11757"/>
                </a:cubicBezTo>
              </a:path>
              <a:path w="5806" h="1365">
                <a:moveTo>
                  <a:pt x="3125" y="11038"/>
                </a:moveTo>
                <a:cubicBezTo>
                  <a:pt x="3144" y="11216"/>
                  <a:pt x="3131" y="11338"/>
                  <a:pt x="3125" y="11509"/>
                </a:cubicBezTo>
                <a:cubicBezTo>
                  <a:pt x="3122" y="11594"/>
                  <a:pt x="3144" y="11653"/>
                  <a:pt x="3150" y="11733"/>
                </a:cubicBezTo>
                <a:cubicBezTo>
                  <a:pt x="3153" y="11776"/>
                  <a:pt x="3137" y="11769"/>
                  <a:pt x="3175" y="11782"/>
                </a:cubicBezTo>
              </a:path>
              <a:path w="5806" h="1365">
                <a:moveTo>
                  <a:pt x="2952" y="11435"/>
                </a:moveTo>
                <a:cubicBezTo>
                  <a:pt x="3030" y="11409"/>
                  <a:pt x="3116" y="11389"/>
                  <a:pt x="3200" y="11385"/>
                </a:cubicBezTo>
                <a:cubicBezTo>
                  <a:pt x="3225" y="11385"/>
                  <a:pt x="3249" y="11385"/>
                  <a:pt x="3274" y="11385"/>
                </a:cubicBezTo>
              </a:path>
              <a:path w="5806" h="1365">
                <a:moveTo>
                  <a:pt x="3671" y="11311"/>
                </a:moveTo>
                <a:cubicBezTo>
                  <a:pt x="3619" y="11334"/>
                  <a:pt x="3576" y="11368"/>
                  <a:pt x="3522" y="11385"/>
                </a:cubicBezTo>
                <a:cubicBezTo>
                  <a:pt x="3494" y="11385"/>
                  <a:pt x="3483" y="11387"/>
                  <a:pt x="3473" y="11410"/>
                </a:cubicBezTo>
                <a:cubicBezTo>
                  <a:pt x="3488" y="11487"/>
                  <a:pt x="3506" y="11496"/>
                  <a:pt x="3547" y="11559"/>
                </a:cubicBezTo>
                <a:cubicBezTo>
                  <a:pt x="3585" y="11618"/>
                  <a:pt x="3628" y="11677"/>
                  <a:pt x="3671" y="11733"/>
                </a:cubicBezTo>
                <a:cubicBezTo>
                  <a:pt x="3694" y="11755"/>
                  <a:pt x="3702" y="11760"/>
                  <a:pt x="3696" y="11782"/>
                </a:cubicBezTo>
                <a:cubicBezTo>
                  <a:pt x="3638" y="11817"/>
                  <a:pt x="3605" y="11813"/>
                  <a:pt x="3547" y="11782"/>
                </a:cubicBezTo>
                <a:cubicBezTo>
                  <a:pt x="3494" y="11753"/>
                  <a:pt x="3484" y="11728"/>
                  <a:pt x="3448" y="11683"/>
                </a:cubicBezTo>
              </a:path>
              <a:path w="5806" h="1365">
                <a:moveTo>
                  <a:pt x="3845" y="11410"/>
                </a:moveTo>
                <a:cubicBezTo>
                  <a:pt x="3867" y="11518"/>
                  <a:pt x="3894" y="11623"/>
                  <a:pt x="3894" y="11733"/>
                </a:cubicBezTo>
                <a:cubicBezTo>
                  <a:pt x="3894" y="11787"/>
                  <a:pt x="3894" y="11787"/>
                  <a:pt x="3894" y="11733"/>
                </a:cubicBezTo>
              </a:path>
              <a:path w="5806" h="1365">
                <a:moveTo>
                  <a:pt x="3894" y="11063"/>
                </a:moveTo>
                <a:cubicBezTo>
                  <a:pt x="3894" y="11018"/>
                  <a:pt x="3891" y="10998"/>
                  <a:pt x="3919" y="11038"/>
                </a:cubicBezTo>
              </a:path>
              <a:path w="5806" h="1365">
                <a:moveTo>
                  <a:pt x="4018" y="11534"/>
                </a:moveTo>
                <a:cubicBezTo>
                  <a:pt x="4018" y="11645"/>
                  <a:pt x="3991" y="11668"/>
                  <a:pt x="4043" y="11708"/>
                </a:cubicBezTo>
                <a:cubicBezTo>
                  <a:pt x="4043" y="11750"/>
                  <a:pt x="4043" y="11675"/>
                  <a:pt x="4043" y="11633"/>
                </a:cubicBezTo>
                <a:cubicBezTo>
                  <a:pt x="4043" y="11570"/>
                  <a:pt x="4033" y="11516"/>
                  <a:pt x="4068" y="11460"/>
                </a:cubicBezTo>
                <a:cubicBezTo>
                  <a:pt x="4100" y="11408"/>
                  <a:pt x="4154" y="11368"/>
                  <a:pt x="4217" y="11385"/>
                </a:cubicBezTo>
                <a:cubicBezTo>
                  <a:pt x="4264" y="11398"/>
                  <a:pt x="4333" y="11513"/>
                  <a:pt x="4341" y="11559"/>
                </a:cubicBezTo>
                <a:cubicBezTo>
                  <a:pt x="4353" y="11627"/>
                  <a:pt x="4361" y="11694"/>
                  <a:pt x="4366" y="11757"/>
                </a:cubicBezTo>
                <a:cubicBezTo>
                  <a:pt x="4370" y="11802"/>
                  <a:pt x="4381" y="11784"/>
                  <a:pt x="4390" y="11757"/>
                </a:cubicBezTo>
              </a:path>
              <a:path w="5806" h="1365">
                <a:moveTo>
                  <a:pt x="4663" y="11112"/>
                </a:moveTo>
                <a:cubicBezTo>
                  <a:pt x="4656" y="11295"/>
                  <a:pt x="4610" y="11500"/>
                  <a:pt x="4638" y="11683"/>
                </a:cubicBezTo>
                <a:cubicBezTo>
                  <a:pt x="4646" y="11734"/>
                  <a:pt x="4715" y="11777"/>
                  <a:pt x="4762" y="11782"/>
                </a:cubicBezTo>
                <a:cubicBezTo>
                  <a:pt x="4833" y="11789"/>
                  <a:pt x="4868" y="11769"/>
                  <a:pt x="4911" y="11708"/>
                </a:cubicBezTo>
                <a:cubicBezTo>
                  <a:pt x="4952" y="11649"/>
                  <a:pt x="5000" y="11558"/>
                  <a:pt x="4986" y="11485"/>
                </a:cubicBezTo>
                <a:cubicBezTo>
                  <a:pt x="4970" y="11401"/>
                  <a:pt x="4949" y="11363"/>
                  <a:pt x="4887" y="11311"/>
                </a:cubicBezTo>
                <a:cubicBezTo>
                  <a:pt x="4833" y="11265"/>
                  <a:pt x="4840" y="11267"/>
                  <a:pt x="4762" y="11237"/>
                </a:cubicBezTo>
              </a:path>
              <a:path w="5806" h="1365">
                <a:moveTo>
                  <a:pt x="4440" y="11410"/>
                </a:moveTo>
                <a:cubicBezTo>
                  <a:pt x="4579" y="11427"/>
                  <a:pt x="4727" y="11463"/>
                  <a:pt x="4862" y="11410"/>
                </a:cubicBezTo>
                <a:cubicBezTo>
                  <a:pt x="4955" y="11364"/>
                  <a:pt x="4982" y="11352"/>
                  <a:pt x="5035" y="11311"/>
                </a:cubicBezTo>
              </a:path>
              <a:path w="5806" h="1365">
                <a:moveTo>
                  <a:pt x="5110" y="10691"/>
                </a:moveTo>
                <a:cubicBezTo>
                  <a:pt x="5223" y="10857"/>
                  <a:pt x="5305" y="10994"/>
                  <a:pt x="5358" y="11187"/>
                </a:cubicBezTo>
                <a:cubicBezTo>
                  <a:pt x="5404" y="11354"/>
                  <a:pt x="5394" y="11543"/>
                  <a:pt x="5358" y="11708"/>
                </a:cubicBezTo>
                <a:cubicBezTo>
                  <a:pt x="5338" y="11799"/>
                  <a:pt x="5307" y="11918"/>
                  <a:pt x="5234" y="11981"/>
                </a:cubicBezTo>
                <a:cubicBezTo>
                  <a:pt x="5203" y="12007"/>
                  <a:pt x="5146" y="12034"/>
                  <a:pt x="5110" y="12055"/>
                </a:cubicBezTo>
              </a:path>
              <a:path w="5806" h="1365">
                <a:moveTo>
                  <a:pt x="5854" y="10815"/>
                </a:moveTo>
                <a:cubicBezTo>
                  <a:pt x="5802" y="10948"/>
                  <a:pt x="5756" y="11080"/>
                  <a:pt x="5705" y="11212"/>
                </a:cubicBezTo>
                <a:cubicBezTo>
                  <a:pt x="5658" y="11333"/>
                  <a:pt x="5634" y="11456"/>
                  <a:pt x="5631" y="11584"/>
                </a:cubicBezTo>
                <a:cubicBezTo>
                  <a:pt x="5629" y="11661"/>
                  <a:pt x="5609" y="11790"/>
                  <a:pt x="5655" y="11857"/>
                </a:cubicBezTo>
                <a:cubicBezTo>
                  <a:pt x="5689" y="11907"/>
                  <a:pt x="5728" y="11909"/>
                  <a:pt x="5779" y="11931"/>
                </a:cubicBezTo>
              </a:path>
              <a:path w="5806" h="1365">
                <a:moveTo>
                  <a:pt x="6201" y="11485"/>
                </a:moveTo>
                <a:cubicBezTo>
                  <a:pt x="6239" y="11529"/>
                  <a:pt x="6251" y="11571"/>
                  <a:pt x="6251" y="11534"/>
                </a:cubicBezTo>
                <a:cubicBezTo>
                  <a:pt x="6221" y="11504"/>
                  <a:pt x="6206" y="11464"/>
                  <a:pt x="6176" y="11460"/>
                </a:cubicBezTo>
                <a:cubicBezTo>
                  <a:pt x="6113" y="11452"/>
                  <a:pt x="6065" y="11487"/>
                  <a:pt x="6028" y="11534"/>
                </a:cubicBezTo>
                <a:cubicBezTo>
                  <a:pt x="5969" y="11608"/>
                  <a:pt x="5902" y="11704"/>
                  <a:pt x="5928" y="11807"/>
                </a:cubicBezTo>
                <a:cubicBezTo>
                  <a:pt x="5937" y="11842"/>
                  <a:pt x="6070" y="11899"/>
                  <a:pt x="6102" y="11906"/>
                </a:cubicBezTo>
                <a:cubicBezTo>
                  <a:pt x="6179" y="11923"/>
                  <a:pt x="6286" y="11904"/>
                  <a:pt x="6350" y="11857"/>
                </a:cubicBezTo>
                <a:cubicBezTo>
                  <a:pt x="6400" y="11807"/>
                  <a:pt x="6416" y="11791"/>
                  <a:pt x="6449" y="11757"/>
                </a:cubicBezTo>
              </a:path>
              <a:path w="5806" h="1365">
                <a:moveTo>
                  <a:pt x="6573" y="11633"/>
                </a:moveTo>
                <a:cubicBezTo>
                  <a:pt x="6555" y="11686"/>
                  <a:pt x="6477" y="11826"/>
                  <a:pt x="6548" y="11881"/>
                </a:cubicBezTo>
                <a:cubicBezTo>
                  <a:pt x="6607" y="11926"/>
                  <a:pt x="6687" y="11936"/>
                  <a:pt x="6747" y="11906"/>
                </a:cubicBezTo>
                <a:cubicBezTo>
                  <a:pt x="6808" y="11875"/>
                  <a:pt x="6818" y="11765"/>
                  <a:pt x="6821" y="11708"/>
                </a:cubicBezTo>
                <a:cubicBezTo>
                  <a:pt x="6826" y="11611"/>
                  <a:pt x="6773" y="11597"/>
                  <a:pt x="6697" y="11559"/>
                </a:cubicBezTo>
                <a:cubicBezTo>
                  <a:pt x="6633" y="11526"/>
                  <a:pt x="6596" y="11509"/>
                  <a:pt x="6524" y="11509"/>
                </a:cubicBezTo>
              </a:path>
              <a:path w="5806" h="1365">
                <a:moveTo>
                  <a:pt x="7193" y="11460"/>
                </a:moveTo>
                <a:cubicBezTo>
                  <a:pt x="7101" y="11481"/>
                  <a:pt x="7074" y="11466"/>
                  <a:pt x="7045" y="11534"/>
                </a:cubicBezTo>
                <a:cubicBezTo>
                  <a:pt x="7014" y="11607"/>
                  <a:pt x="7052" y="11685"/>
                  <a:pt x="7094" y="11757"/>
                </a:cubicBezTo>
                <a:cubicBezTo>
                  <a:pt x="7122" y="11804"/>
                  <a:pt x="7202" y="11889"/>
                  <a:pt x="7169" y="11956"/>
                </a:cubicBezTo>
                <a:cubicBezTo>
                  <a:pt x="7125" y="12044"/>
                  <a:pt x="6991" y="11941"/>
                  <a:pt x="6945" y="11906"/>
                </a:cubicBezTo>
                <a:cubicBezTo>
                  <a:pt x="6911" y="11871"/>
                  <a:pt x="6898" y="11848"/>
                  <a:pt x="6896" y="11807"/>
                </a:cubicBezTo>
              </a:path>
              <a:path w="5806" h="1365">
                <a:moveTo>
                  <a:pt x="7441" y="11410"/>
                </a:moveTo>
                <a:cubicBezTo>
                  <a:pt x="7416" y="11506"/>
                  <a:pt x="7322" y="11687"/>
                  <a:pt x="7417" y="11782"/>
                </a:cubicBezTo>
                <a:cubicBezTo>
                  <a:pt x="7510" y="11876"/>
                  <a:pt x="7568" y="11881"/>
                  <a:pt x="7689" y="11881"/>
                </a:cubicBezTo>
                <a:cubicBezTo>
                  <a:pt x="7782" y="11881"/>
                  <a:pt x="7822" y="11793"/>
                  <a:pt x="7838" y="11708"/>
                </a:cubicBezTo>
                <a:cubicBezTo>
                  <a:pt x="7855" y="11620"/>
                  <a:pt x="7837" y="11540"/>
                  <a:pt x="7764" y="11485"/>
                </a:cubicBezTo>
                <a:cubicBezTo>
                  <a:pt x="7694" y="11432"/>
                  <a:pt x="7624" y="11435"/>
                  <a:pt x="7541" y="11435"/>
                </a:cubicBezTo>
                <a:cubicBezTo>
                  <a:pt x="7533" y="11435"/>
                  <a:pt x="7524" y="11435"/>
                  <a:pt x="7516" y="11435"/>
                </a:cubicBezTo>
              </a:path>
              <a:path w="5806" h="1365">
                <a:moveTo>
                  <a:pt x="7243" y="11584"/>
                </a:moveTo>
                <a:cubicBezTo>
                  <a:pt x="7356" y="11612"/>
                  <a:pt x="7428" y="11612"/>
                  <a:pt x="7541" y="11584"/>
                </a:cubicBezTo>
                <a:cubicBezTo>
                  <a:pt x="7648" y="11557"/>
                  <a:pt x="7737" y="11529"/>
                  <a:pt x="7838" y="11485"/>
                </a:cubicBezTo>
              </a:path>
              <a:path w="5806" h="1365">
                <a:moveTo>
                  <a:pt x="8161" y="10815"/>
                </a:moveTo>
                <a:cubicBezTo>
                  <a:pt x="8313" y="11038"/>
                  <a:pt x="8407" y="11235"/>
                  <a:pt x="8434" y="11509"/>
                </a:cubicBezTo>
                <a:cubicBezTo>
                  <a:pt x="8445" y="11619"/>
                  <a:pt x="8397" y="11754"/>
                  <a:pt x="8359" y="11857"/>
                </a:cubicBezTo>
                <a:cubicBezTo>
                  <a:pt x="8330" y="11937"/>
                  <a:pt x="8244" y="11996"/>
                  <a:pt x="8186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38160" y="4537080"/>
            <a:ext cx="7920" cy="436680"/>
          </a:xfrm>
          <a:custGeom>
            <a:avLst/>
            <a:gdLst/>
            <a:ahLst/>
            <a:rect l="l" t="t" r="r" b="b"/>
            <a:pathLst>
              <a:path w="26" h="1216">
                <a:moveTo>
                  <a:pt x="2604" y="12601"/>
                </a:moveTo>
                <a:cubicBezTo>
                  <a:pt x="2636" y="12684"/>
                  <a:pt x="2629" y="12758"/>
                  <a:pt x="2629" y="12849"/>
                </a:cubicBezTo>
                <a:cubicBezTo>
                  <a:pt x="2629" y="13058"/>
                  <a:pt x="2629" y="13268"/>
                  <a:pt x="2604" y="13469"/>
                </a:cubicBezTo>
                <a:cubicBezTo>
                  <a:pt x="2590" y="13579"/>
                  <a:pt x="2603" y="13689"/>
                  <a:pt x="2629" y="13791"/>
                </a:cubicBezTo>
                <a:cubicBezTo>
                  <a:pt x="2629" y="13799"/>
                  <a:pt x="2629" y="13808"/>
                  <a:pt x="2629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768920"/>
            <a:ext cx="16056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3597" y="13246"/>
                </a:moveTo>
                <a:cubicBezTo>
                  <a:pt x="3670" y="13246"/>
                  <a:pt x="3725" y="13263"/>
                  <a:pt x="3795" y="13271"/>
                </a:cubicBezTo>
                <a:cubicBezTo>
                  <a:pt x="3883" y="13281"/>
                  <a:pt x="3957" y="13293"/>
                  <a:pt x="4043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2760" y="4626000"/>
            <a:ext cx="1160280" cy="401760"/>
          </a:xfrm>
          <a:custGeom>
            <a:avLst/>
            <a:gdLst/>
            <a:ahLst/>
            <a:rect l="l" t="t" r="r" b="b"/>
            <a:pathLst>
              <a:path w="3225" h="1117">
                <a:moveTo>
                  <a:pt x="4862" y="13171"/>
                </a:moveTo>
                <a:cubicBezTo>
                  <a:pt x="4778" y="13171"/>
                  <a:pt x="4738" y="13177"/>
                  <a:pt x="4663" y="13196"/>
                </a:cubicBezTo>
                <a:cubicBezTo>
                  <a:pt x="4638" y="13196"/>
                  <a:pt x="4630" y="13196"/>
                  <a:pt x="4614" y="13196"/>
                </a:cubicBezTo>
                <a:cubicBezTo>
                  <a:pt x="4614" y="13258"/>
                  <a:pt x="4659" y="13284"/>
                  <a:pt x="4713" y="13320"/>
                </a:cubicBezTo>
                <a:cubicBezTo>
                  <a:pt x="4803" y="13380"/>
                  <a:pt x="4894" y="13429"/>
                  <a:pt x="4961" y="13519"/>
                </a:cubicBezTo>
                <a:cubicBezTo>
                  <a:pt x="4990" y="13558"/>
                  <a:pt x="5028" y="13633"/>
                  <a:pt x="4986" y="13667"/>
                </a:cubicBezTo>
                <a:cubicBezTo>
                  <a:pt x="4919" y="13721"/>
                  <a:pt x="4833" y="13699"/>
                  <a:pt x="4762" y="13692"/>
                </a:cubicBezTo>
                <a:cubicBezTo>
                  <a:pt x="4699" y="13686"/>
                  <a:pt x="4665" y="13684"/>
                  <a:pt x="4614" y="13667"/>
                </a:cubicBezTo>
                <a:cubicBezTo>
                  <a:pt x="4573" y="13653"/>
                  <a:pt x="4586" y="13655"/>
                  <a:pt x="4614" y="13618"/>
                </a:cubicBezTo>
              </a:path>
              <a:path w="3225" h="1117">
                <a:moveTo>
                  <a:pt x="5283" y="13271"/>
                </a:moveTo>
                <a:cubicBezTo>
                  <a:pt x="5277" y="13384"/>
                  <a:pt x="5259" y="13479"/>
                  <a:pt x="5259" y="13593"/>
                </a:cubicBezTo>
                <a:cubicBezTo>
                  <a:pt x="5259" y="13645"/>
                  <a:pt x="5240" y="13702"/>
                  <a:pt x="5283" y="13717"/>
                </a:cubicBezTo>
              </a:path>
              <a:path w="3225" h="1117">
                <a:moveTo>
                  <a:pt x="5333" y="13022"/>
                </a:moveTo>
                <a:cubicBezTo>
                  <a:pt x="5333" y="12971"/>
                  <a:pt x="5360" y="13006"/>
                  <a:pt x="5383" y="13022"/>
                </a:cubicBezTo>
              </a:path>
              <a:path w="3225" h="1117">
                <a:moveTo>
                  <a:pt x="5531" y="13494"/>
                </a:moveTo>
                <a:cubicBezTo>
                  <a:pt x="5531" y="13517"/>
                  <a:pt x="5501" y="13798"/>
                  <a:pt x="5556" y="13816"/>
                </a:cubicBezTo>
                <a:cubicBezTo>
                  <a:pt x="5556" y="13875"/>
                  <a:pt x="5578" y="13755"/>
                  <a:pt x="5581" y="13742"/>
                </a:cubicBezTo>
                <a:cubicBezTo>
                  <a:pt x="5598" y="13674"/>
                  <a:pt x="5603" y="13590"/>
                  <a:pt x="5606" y="13519"/>
                </a:cubicBezTo>
                <a:cubicBezTo>
                  <a:pt x="5609" y="13452"/>
                  <a:pt x="5627" y="13375"/>
                  <a:pt x="5655" y="13320"/>
                </a:cubicBezTo>
                <a:cubicBezTo>
                  <a:pt x="5704" y="13221"/>
                  <a:pt x="5737" y="13253"/>
                  <a:pt x="5804" y="13295"/>
                </a:cubicBezTo>
                <a:cubicBezTo>
                  <a:pt x="5889" y="13349"/>
                  <a:pt x="5896" y="13423"/>
                  <a:pt x="5928" y="13519"/>
                </a:cubicBezTo>
                <a:cubicBezTo>
                  <a:pt x="5957" y="13606"/>
                  <a:pt x="6009" y="13703"/>
                  <a:pt x="6028" y="13791"/>
                </a:cubicBezTo>
                <a:cubicBezTo>
                  <a:pt x="6040" y="13849"/>
                  <a:pt x="6006" y="13850"/>
                  <a:pt x="6052" y="13866"/>
                </a:cubicBezTo>
              </a:path>
              <a:path w="3225" h="1117">
                <a:moveTo>
                  <a:pt x="6127" y="12973"/>
                </a:moveTo>
                <a:cubicBezTo>
                  <a:pt x="6175" y="12894"/>
                  <a:pt x="6193" y="12825"/>
                  <a:pt x="6300" y="12849"/>
                </a:cubicBezTo>
                <a:cubicBezTo>
                  <a:pt x="6384" y="12868"/>
                  <a:pt x="6486" y="12912"/>
                  <a:pt x="6449" y="13022"/>
                </a:cubicBezTo>
                <a:cubicBezTo>
                  <a:pt x="6410" y="13136"/>
                  <a:pt x="6326" y="13085"/>
                  <a:pt x="6276" y="13146"/>
                </a:cubicBezTo>
                <a:cubicBezTo>
                  <a:pt x="6276" y="13154"/>
                  <a:pt x="6276" y="13163"/>
                  <a:pt x="6276" y="13171"/>
                </a:cubicBezTo>
                <a:cubicBezTo>
                  <a:pt x="6309" y="13182"/>
                  <a:pt x="6343" y="13211"/>
                  <a:pt x="6400" y="13221"/>
                </a:cubicBezTo>
                <a:cubicBezTo>
                  <a:pt x="6462" y="13231"/>
                  <a:pt x="6535" y="13221"/>
                  <a:pt x="6598" y="13221"/>
                </a:cubicBezTo>
              </a:path>
              <a:path w="3225" h="1117">
                <a:moveTo>
                  <a:pt x="7069" y="13221"/>
                </a:moveTo>
                <a:cubicBezTo>
                  <a:pt x="6997" y="13349"/>
                  <a:pt x="6874" y="13512"/>
                  <a:pt x="6846" y="13667"/>
                </a:cubicBezTo>
                <a:cubicBezTo>
                  <a:pt x="6830" y="13756"/>
                  <a:pt x="6847" y="13835"/>
                  <a:pt x="6921" y="13891"/>
                </a:cubicBezTo>
                <a:cubicBezTo>
                  <a:pt x="6986" y="13941"/>
                  <a:pt x="7066" y="13962"/>
                  <a:pt x="7144" y="13965"/>
                </a:cubicBezTo>
                <a:cubicBezTo>
                  <a:pt x="7256" y="13969"/>
                  <a:pt x="7322" y="13890"/>
                  <a:pt x="7392" y="13816"/>
                </a:cubicBezTo>
                <a:cubicBezTo>
                  <a:pt x="7472" y="13731"/>
                  <a:pt x="7518" y="13613"/>
                  <a:pt x="7491" y="13494"/>
                </a:cubicBezTo>
                <a:cubicBezTo>
                  <a:pt x="7473" y="13413"/>
                  <a:pt x="7408" y="13335"/>
                  <a:pt x="7342" y="13295"/>
                </a:cubicBezTo>
                <a:cubicBezTo>
                  <a:pt x="7275" y="13254"/>
                  <a:pt x="7249" y="13246"/>
                  <a:pt x="7169" y="13246"/>
                </a:cubicBezTo>
              </a:path>
              <a:path w="3225" h="1117">
                <a:moveTo>
                  <a:pt x="6747" y="13444"/>
                </a:moveTo>
                <a:cubicBezTo>
                  <a:pt x="6921" y="13493"/>
                  <a:pt x="7068" y="13519"/>
                  <a:pt x="7243" y="13543"/>
                </a:cubicBezTo>
                <a:cubicBezTo>
                  <a:pt x="7411" y="13566"/>
                  <a:pt x="7575" y="13591"/>
                  <a:pt x="7739" y="13543"/>
                </a:cubicBezTo>
                <a:cubicBezTo>
                  <a:pt x="7764" y="13535"/>
                  <a:pt x="7788" y="13527"/>
                  <a:pt x="7813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51160" y="4527720"/>
            <a:ext cx="1602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9029" y="12576"/>
                </a:moveTo>
                <a:cubicBezTo>
                  <a:pt x="9162" y="12598"/>
                  <a:pt x="9293" y="12637"/>
                  <a:pt x="9426" y="12650"/>
                </a:cubicBezTo>
              </a:path>
              <a:path w="447" h="472">
                <a:moveTo>
                  <a:pt x="9103" y="12874"/>
                </a:moveTo>
                <a:cubicBezTo>
                  <a:pt x="9253" y="12974"/>
                  <a:pt x="9313" y="13052"/>
                  <a:pt x="9475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11200" y="5037120"/>
            <a:ext cx="98640" cy="330120"/>
          </a:xfrm>
          <a:custGeom>
            <a:avLst/>
            <a:gdLst/>
            <a:ahLst/>
            <a:rect l="l" t="t" r="r" b="b"/>
            <a:pathLst>
              <a:path w="274" h="919">
                <a:moveTo>
                  <a:pt x="4192" y="13990"/>
                </a:moveTo>
                <a:cubicBezTo>
                  <a:pt x="4180" y="14048"/>
                  <a:pt x="4146" y="14086"/>
                  <a:pt x="4118" y="14139"/>
                </a:cubicBezTo>
                <a:cubicBezTo>
                  <a:pt x="4078" y="14215"/>
                  <a:pt x="4027" y="14285"/>
                  <a:pt x="3994" y="14362"/>
                </a:cubicBezTo>
                <a:cubicBezTo>
                  <a:pt x="3960" y="14441"/>
                  <a:pt x="3923" y="14524"/>
                  <a:pt x="3919" y="14610"/>
                </a:cubicBezTo>
                <a:cubicBezTo>
                  <a:pt x="3914" y="14721"/>
                  <a:pt x="3933" y="14785"/>
                  <a:pt x="3994" y="14883"/>
                </a:cubicBezTo>
                <a:cubicBezTo>
                  <a:pt x="4002" y="14891"/>
                  <a:pt x="4010" y="14900"/>
                  <a:pt x="4018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8120" y="5116680"/>
            <a:ext cx="27000" cy="258480"/>
          </a:xfrm>
          <a:custGeom>
            <a:avLst/>
            <a:gdLst/>
            <a:ahLst/>
            <a:rect l="l" t="t" r="r" b="b"/>
            <a:pathLst>
              <a:path w="75" h="720">
                <a:moveTo>
                  <a:pt x="4539" y="14213"/>
                </a:moveTo>
                <a:cubicBezTo>
                  <a:pt x="4519" y="14333"/>
                  <a:pt x="4515" y="14468"/>
                  <a:pt x="4490" y="14585"/>
                </a:cubicBezTo>
                <a:cubicBezTo>
                  <a:pt x="4473" y="14666"/>
                  <a:pt x="4465" y="14724"/>
                  <a:pt x="4465" y="14808"/>
                </a:cubicBezTo>
                <a:cubicBezTo>
                  <a:pt x="4465" y="14863"/>
                  <a:pt x="4484" y="14891"/>
                  <a:pt x="4514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8320" y="5081760"/>
            <a:ext cx="1598760" cy="384120"/>
          </a:xfrm>
          <a:custGeom>
            <a:avLst/>
            <a:gdLst/>
            <a:ahLst/>
            <a:rect l="l" t="t" r="r" b="b"/>
            <a:pathLst>
              <a:path w="4441" h="1067">
                <a:moveTo>
                  <a:pt x="5085" y="14312"/>
                </a:moveTo>
                <a:cubicBezTo>
                  <a:pt x="5064" y="14417"/>
                  <a:pt x="5060" y="14504"/>
                  <a:pt x="5060" y="14610"/>
                </a:cubicBezTo>
                <a:cubicBezTo>
                  <a:pt x="5060" y="14696"/>
                  <a:pt x="5067" y="14754"/>
                  <a:pt x="5085" y="14833"/>
                </a:cubicBezTo>
                <a:cubicBezTo>
                  <a:pt x="5095" y="14876"/>
                  <a:pt x="5107" y="14898"/>
                  <a:pt x="5135" y="14932"/>
                </a:cubicBezTo>
              </a:path>
              <a:path w="4441" h="1067">
                <a:moveTo>
                  <a:pt x="4911" y="14560"/>
                </a:moveTo>
                <a:cubicBezTo>
                  <a:pt x="4990" y="14560"/>
                  <a:pt x="5059" y="14575"/>
                  <a:pt x="5135" y="14585"/>
                </a:cubicBezTo>
                <a:cubicBezTo>
                  <a:pt x="5193" y="14585"/>
                  <a:pt x="5218" y="14585"/>
                  <a:pt x="5259" y="14585"/>
                </a:cubicBezTo>
              </a:path>
              <a:path w="4441" h="1067">
                <a:moveTo>
                  <a:pt x="5631" y="14536"/>
                </a:moveTo>
                <a:cubicBezTo>
                  <a:pt x="5595" y="14525"/>
                  <a:pt x="5510" y="14480"/>
                  <a:pt x="5482" y="14536"/>
                </a:cubicBezTo>
                <a:cubicBezTo>
                  <a:pt x="5463" y="14573"/>
                  <a:pt x="5485" y="14635"/>
                  <a:pt x="5507" y="14660"/>
                </a:cubicBezTo>
                <a:cubicBezTo>
                  <a:pt x="5559" y="14721"/>
                  <a:pt x="5606" y="14803"/>
                  <a:pt x="5631" y="14883"/>
                </a:cubicBezTo>
                <a:cubicBezTo>
                  <a:pt x="5637" y="14902"/>
                  <a:pt x="5631" y="14937"/>
                  <a:pt x="5631" y="14957"/>
                </a:cubicBezTo>
                <a:cubicBezTo>
                  <a:pt x="5522" y="14957"/>
                  <a:pt x="5537" y="14965"/>
                  <a:pt x="5432" y="14833"/>
                </a:cubicBezTo>
                <a:cubicBezTo>
                  <a:pt x="5432" y="14825"/>
                  <a:pt x="5432" y="14816"/>
                  <a:pt x="5432" y="14808"/>
                </a:cubicBezTo>
              </a:path>
              <a:path w="4441" h="1067">
                <a:moveTo>
                  <a:pt x="5779" y="14585"/>
                </a:moveTo>
                <a:cubicBezTo>
                  <a:pt x="5795" y="14693"/>
                  <a:pt x="5804" y="14777"/>
                  <a:pt x="5804" y="14883"/>
                </a:cubicBezTo>
                <a:cubicBezTo>
                  <a:pt x="5804" y="14891"/>
                  <a:pt x="5804" y="14900"/>
                  <a:pt x="5804" y="14908"/>
                </a:cubicBezTo>
              </a:path>
              <a:path w="4441" h="1067">
                <a:moveTo>
                  <a:pt x="5904" y="14288"/>
                </a:moveTo>
                <a:cubicBezTo>
                  <a:pt x="5932" y="14288"/>
                  <a:pt x="5942" y="14290"/>
                  <a:pt x="5953" y="14312"/>
                </a:cubicBezTo>
              </a:path>
              <a:path w="4441" h="1067">
                <a:moveTo>
                  <a:pt x="6003" y="14759"/>
                </a:moveTo>
                <a:cubicBezTo>
                  <a:pt x="6019" y="14830"/>
                  <a:pt x="6028" y="14848"/>
                  <a:pt x="6028" y="14908"/>
                </a:cubicBezTo>
                <a:cubicBezTo>
                  <a:pt x="6076" y="14892"/>
                  <a:pt x="6036" y="14878"/>
                  <a:pt x="6052" y="14833"/>
                </a:cubicBezTo>
                <a:cubicBezTo>
                  <a:pt x="6074" y="14771"/>
                  <a:pt x="6059" y="14719"/>
                  <a:pt x="6077" y="14660"/>
                </a:cubicBezTo>
                <a:cubicBezTo>
                  <a:pt x="6092" y="14608"/>
                  <a:pt x="6129" y="14572"/>
                  <a:pt x="6176" y="14560"/>
                </a:cubicBezTo>
                <a:cubicBezTo>
                  <a:pt x="6211" y="14619"/>
                  <a:pt x="6205" y="14692"/>
                  <a:pt x="6226" y="14759"/>
                </a:cubicBezTo>
                <a:cubicBezTo>
                  <a:pt x="6241" y="14807"/>
                  <a:pt x="6254" y="14934"/>
                  <a:pt x="6300" y="14957"/>
                </a:cubicBezTo>
                <a:cubicBezTo>
                  <a:pt x="6308" y="14957"/>
                  <a:pt x="6317" y="14957"/>
                  <a:pt x="6325" y="14957"/>
                </a:cubicBezTo>
              </a:path>
              <a:path w="4441" h="1067">
                <a:moveTo>
                  <a:pt x="6548" y="14436"/>
                </a:moveTo>
                <a:cubicBezTo>
                  <a:pt x="6487" y="14529"/>
                  <a:pt x="6449" y="14574"/>
                  <a:pt x="6449" y="14684"/>
                </a:cubicBezTo>
                <a:cubicBezTo>
                  <a:pt x="6449" y="14774"/>
                  <a:pt x="6476" y="14810"/>
                  <a:pt x="6548" y="14833"/>
                </a:cubicBezTo>
                <a:cubicBezTo>
                  <a:pt x="6654" y="14867"/>
                  <a:pt x="6656" y="14833"/>
                  <a:pt x="6722" y="14759"/>
                </a:cubicBezTo>
                <a:cubicBezTo>
                  <a:pt x="6790" y="14682"/>
                  <a:pt x="6816" y="14640"/>
                  <a:pt x="6821" y="14536"/>
                </a:cubicBezTo>
                <a:cubicBezTo>
                  <a:pt x="6825" y="14452"/>
                  <a:pt x="6771" y="14440"/>
                  <a:pt x="6697" y="14436"/>
                </a:cubicBezTo>
                <a:cubicBezTo>
                  <a:pt x="6681" y="14436"/>
                  <a:pt x="6664" y="14436"/>
                  <a:pt x="6648" y="14436"/>
                </a:cubicBezTo>
              </a:path>
              <a:path w="4441" h="1067">
                <a:moveTo>
                  <a:pt x="6350" y="14560"/>
                </a:moveTo>
                <a:cubicBezTo>
                  <a:pt x="6452" y="14594"/>
                  <a:pt x="6609" y="14677"/>
                  <a:pt x="6722" y="14660"/>
                </a:cubicBezTo>
                <a:cubicBezTo>
                  <a:pt x="6747" y="14652"/>
                  <a:pt x="6771" y="14643"/>
                  <a:pt x="6796" y="14635"/>
                </a:cubicBezTo>
              </a:path>
              <a:path w="4441" h="1067">
                <a:moveTo>
                  <a:pt x="6995" y="14188"/>
                </a:moveTo>
                <a:cubicBezTo>
                  <a:pt x="7043" y="14337"/>
                  <a:pt x="7159" y="14571"/>
                  <a:pt x="7144" y="14734"/>
                </a:cubicBezTo>
                <a:cubicBezTo>
                  <a:pt x="7135" y="14829"/>
                  <a:pt x="7079" y="14938"/>
                  <a:pt x="7020" y="15007"/>
                </a:cubicBezTo>
                <a:cubicBezTo>
                  <a:pt x="6993" y="15039"/>
                  <a:pt x="6961" y="15076"/>
                  <a:pt x="6921" y="15081"/>
                </a:cubicBezTo>
                <a:cubicBezTo>
                  <a:pt x="6879" y="15086"/>
                  <a:pt x="6879" y="15063"/>
                  <a:pt x="6871" y="15032"/>
                </a:cubicBezTo>
              </a:path>
              <a:path w="4441" h="1067">
                <a:moveTo>
                  <a:pt x="7590" y="14163"/>
                </a:moveTo>
                <a:cubicBezTo>
                  <a:pt x="7517" y="14257"/>
                  <a:pt x="7434" y="14349"/>
                  <a:pt x="7392" y="14461"/>
                </a:cubicBezTo>
                <a:cubicBezTo>
                  <a:pt x="7354" y="14562"/>
                  <a:pt x="7321" y="14678"/>
                  <a:pt x="7317" y="14784"/>
                </a:cubicBezTo>
                <a:cubicBezTo>
                  <a:pt x="7314" y="14876"/>
                  <a:pt x="7361" y="15031"/>
                  <a:pt x="7441" y="15081"/>
                </a:cubicBezTo>
                <a:cubicBezTo>
                  <a:pt x="7458" y="15081"/>
                  <a:pt x="7474" y="15081"/>
                  <a:pt x="7491" y="15081"/>
                </a:cubicBezTo>
              </a:path>
              <a:path w="4441" h="1067">
                <a:moveTo>
                  <a:pt x="7863" y="14610"/>
                </a:moveTo>
                <a:cubicBezTo>
                  <a:pt x="7848" y="14654"/>
                  <a:pt x="7808" y="14626"/>
                  <a:pt x="7764" y="14660"/>
                </a:cubicBezTo>
                <a:cubicBezTo>
                  <a:pt x="7665" y="14738"/>
                  <a:pt x="7670" y="14755"/>
                  <a:pt x="7665" y="14883"/>
                </a:cubicBezTo>
                <a:cubicBezTo>
                  <a:pt x="7662" y="14971"/>
                  <a:pt x="7721" y="15010"/>
                  <a:pt x="7789" y="15056"/>
                </a:cubicBezTo>
                <a:cubicBezTo>
                  <a:pt x="7837" y="15080"/>
                  <a:pt x="7851" y="15089"/>
                  <a:pt x="7888" y="15081"/>
                </a:cubicBezTo>
              </a:path>
              <a:path w="4441" h="1067">
                <a:moveTo>
                  <a:pt x="8062" y="14709"/>
                </a:moveTo>
                <a:cubicBezTo>
                  <a:pt x="7982" y="14772"/>
                  <a:pt x="7937" y="14790"/>
                  <a:pt x="7987" y="14883"/>
                </a:cubicBezTo>
                <a:cubicBezTo>
                  <a:pt x="8013" y="14931"/>
                  <a:pt x="8078" y="14993"/>
                  <a:pt x="8136" y="15007"/>
                </a:cubicBezTo>
                <a:cubicBezTo>
                  <a:pt x="8211" y="15025"/>
                  <a:pt x="8225" y="14954"/>
                  <a:pt x="8260" y="14908"/>
                </a:cubicBezTo>
                <a:cubicBezTo>
                  <a:pt x="8304" y="14850"/>
                  <a:pt x="8276" y="14794"/>
                  <a:pt x="8235" y="14734"/>
                </a:cubicBezTo>
                <a:cubicBezTo>
                  <a:pt x="8204" y="14689"/>
                  <a:pt x="8135" y="14669"/>
                  <a:pt x="8086" y="14660"/>
                </a:cubicBezTo>
              </a:path>
              <a:path w="4441" h="1067">
                <a:moveTo>
                  <a:pt x="8434" y="14660"/>
                </a:moveTo>
                <a:cubicBezTo>
                  <a:pt x="8377" y="14697"/>
                  <a:pt x="8367" y="14729"/>
                  <a:pt x="8384" y="14808"/>
                </a:cubicBezTo>
                <a:cubicBezTo>
                  <a:pt x="8408" y="14918"/>
                  <a:pt x="8501" y="14992"/>
                  <a:pt x="8508" y="15106"/>
                </a:cubicBezTo>
                <a:cubicBezTo>
                  <a:pt x="8508" y="15151"/>
                  <a:pt x="8512" y="15164"/>
                  <a:pt x="8483" y="15180"/>
                </a:cubicBezTo>
                <a:cubicBezTo>
                  <a:pt x="8449" y="15155"/>
                  <a:pt x="8410" y="15146"/>
                  <a:pt x="8384" y="15106"/>
                </a:cubicBezTo>
                <a:cubicBezTo>
                  <a:pt x="8376" y="15089"/>
                  <a:pt x="8367" y="15073"/>
                  <a:pt x="8359" y="15056"/>
                </a:cubicBezTo>
              </a:path>
              <a:path w="4441" h="1067">
                <a:moveTo>
                  <a:pt x="8731" y="14684"/>
                </a:moveTo>
                <a:cubicBezTo>
                  <a:pt x="8689" y="14757"/>
                  <a:pt x="8613" y="14865"/>
                  <a:pt x="8632" y="14957"/>
                </a:cubicBezTo>
                <a:cubicBezTo>
                  <a:pt x="8651" y="15047"/>
                  <a:pt x="8736" y="15111"/>
                  <a:pt x="8830" y="15106"/>
                </a:cubicBezTo>
                <a:cubicBezTo>
                  <a:pt x="8859" y="15104"/>
                  <a:pt x="8943" y="14958"/>
                  <a:pt x="8954" y="14932"/>
                </a:cubicBezTo>
                <a:cubicBezTo>
                  <a:pt x="8991" y="14847"/>
                  <a:pt x="9004" y="14748"/>
                  <a:pt x="8930" y="14684"/>
                </a:cubicBezTo>
                <a:cubicBezTo>
                  <a:pt x="8867" y="14630"/>
                  <a:pt x="8805" y="14613"/>
                  <a:pt x="8731" y="14585"/>
                </a:cubicBezTo>
              </a:path>
              <a:path w="4441" h="1067">
                <a:moveTo>
                  <a:pt x="8508" y="14759"/>
                </a:moveTo>
                <a:cubicBezTo>
                  <a:pt x="8631" y="14781"/>
                  <a:pt x="8690" y="14795"/>
                  <a:pt x="8806" y="14759"/>
                </a:cubicBezTo>
                <a:cubicBezTo>
                  <a:pt x="8831" y="14751"/>
                  <a:pt x="8855" y="14742"/>
                  <a:pt x="8880" y="14734"/>
                </a:cubicBezTo>
              </a:path>
              <a:path w="4441" h="1067">
                <a:moveTo>
                  <a:pt x="9153" y="14114"/>
                </a:moveTo>
                <a:cubicBezTo>
                  <a:pt x="9257" y="14345"/>
                  <a:pt x="9281" y="14471"/>
                  <a:pt x="9327" y="14709"/>
                </a:cubicBezTo>
                <a:cubicBezTo>
                  <a:pt x="9350" y="14828"/>
                  <a:pt x="9374" y="15097"/>
                  <a:pt x="9227" y="15156"/>
                </a:cubicBezTo>
                <a:cubicBezTo>
                  <a:pt x="9186" y="15164"/>
                  <a:pt x="9144" y="15172"/>
                  <a:pt x="9103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4840" y="6027840"/>
            <a:ext cx="1125360" cy="608040"/>
          </a:xfrm>
          <a:custGeom>
            <a:avLst/>
            <a:gdLst/>
            <a:ahLst/>
            <a:rect l="l" t="t" r="r" b="b"/>
            <a:pathLst>
              <a:path w="3126" h="1688">
                <a:moveTo>
                  <a:pt x="4093" y="16818"/>
                </a:moveTo>
                <a:cubicBezTo>
                  <a:pt x="4115" y="16767"/>
                  <a:pt x="4107" y="16755"/>
                  <a:pt x="4142" y="16743"/>
                </a:cubicBezTo>
                <a:cubicBezTo>
                  <a:pt x="4142" y="16800"/>
                  <a:pt x="4127" y="16846"/>
                  <a:pt x="4118" y="16892"/>
                </a:cubicBezTo>
                <a:cubicBezTo>
                  <a:pt x="4100" y="16984"/>
                  <a:pt x="4118" y="17096"/>
                  <a:pt x="4118" y="17190"/>
                </a:cubicBezTo>
              </a:path>
              <a:path w="3126" h="1688">
                <a:moveTo>
                  <a:pt x="3820" y="17314"/>
                </a:moveTo>
                <a:cubicBezTo>
                  <a:pt x="3909" y="17281"/>
                  <a:pt x="3932" y="17300"/>
                  <a:pt x="4018" y="17314"/>
                </a:cubicBezTo>
                <a:cubicBezTo>
                  <a:pt x="4152" y="17336"/>
                  <a:pt x="4304" y="17314"/>
                  <a:pt x="4440" y="17314"/>
                </a:cubicBezTo>
              </a:path>
              <a:path w="3126" h="1688">
                <a:moveTo>
                  <a:pt x="4118" y="17611"/>
                </a:moveTo>
                <a:cubicBezTo>
                  <a:pt x="4138" y="17584"/>
                  <a:pt x="4167" y="17537"/>
                  <a:pt x="4118" y="17512"/>
                </a:cubicBezTo>
                <a:cubicBezTo>
                  <a:pt x="4063" y="17484"/>
                  <a:pt x="4068" y="17495"/>
                  <a:pt x="4018" y="17512"/>
                </a:cubicBezTo>
                <a:cubicBezTo>
                  <a:pt x="3987" y="17522"/>
                  <a:pt x="3940" y="17532"/>
                  <a:pt x="3919" y="17562"/>
                </a:cubicBezTo>
                <a:cubicBezTo>
                  <a:pt x="3893" y="17599"/>
                  <a:pt x="3875" y="17692"/>
                  <a:pt x="3894" y="17735"/>
                </a:cubicBezTo>
                <a:cubicBezTo>
                  <a:pt x="3928" y="17812"/>
                  <a:pt x="3964" y="17877"/>
                  <a:pt x="4043" y="17884"/>
                </a:cubicBezTo>
                <a:cubicBezTo>
                  <a:pt x="4051" y="17884"/>
                  <a:pt x="4060" y="17884"/>
                  <a:pt x="4068" y="17884"/>
                </a:cubicBezTo>
              </a:path>
              <a:path w="3126" h="1688">
                <a:moveTo>
                  <a:pt x="4242" y="17587"/>
                </a:moveTo>
                <a:cubicBezTo>
                  <a:pt x="4179" y="17638"/>
                  <a:pt x="4192" y="17651"/>
                  <a:pt x="4192" y="17735"/>
                </a:cubicBezTo>
                <a:cubicBezTo>
                  <a:pt x="4192" y="17773"/>
                  <a:pt x="4221" y="17868"/>
                  <a:pt x="4266" y="17884"/>
                </a:cubicBezTo>
                <a:cubicBezTo>
                  <a:pt x="4309" y="17899"/>
                  <a:pt x="4361" y="17885"/>
                  <a:pt x="4390" y="17859"/>
                </a:cubicBezTo>
                <a:cubicBezTo>
                  <a:pt x="4430" y="17824"/>
                  <a:pt x="4452" y="17788"/>
                  <a:pt x="4465" y="17735"/>
                </a:cubicBezTo>
                <a:cubicBezTo>
                  <a:pt x="4480" y="17675"/>
                  <a:pt x="4454" y="17649"/>
                  <a:pt x="4415" y="17611"/>
                </a:cubicBezTo>
                <a:cubicBezTo>
                  <a:pt x="4376" y="17573"/>
                  <a:pt x="4338" y="17551"/>
                  <a:pt x="4291" y="17537"/>
                </a:cubicBezTo>
                <a:cubicBezTo>
                  <a:pt x="4252" y="17525"/>
                  <a:pt x="4250" y="17536"/>
                  <a:pt x="4242" y="17562"/>
                </a:cubicBezTo>
              </a:path>
              <a:path w="3126" h="1688">
                <a:moveTo>
                  <a:pt x="4539" y="17537"/>
                </a:moveTo>
                <a:cubicBezTo>
                  <a:pt x="4539" y="17617"/>
                  <a:pt x="4552" y="17686"/>
                  <a:pt x="4564" y="17760"/>
                </a:cubicBezTo>
                <a:cubicBezTo>
                  <a:pt x="4576" y="17834"/>
                  <a:pt x="4555" y="17892"/>
                  <a:pt x="4539" y="17959"/>
                </a:cubicBezTo>
                <a:cubicBezTo>
                  <a:pt x="4532" y="17989"/>
                  <a:pt x="4508" y="18032"/>
                  <a:pt x="4465" y="18008"/>
                </a:cubicBezTo>
                <a:cubicBezTo>
                  <a:pt x="4425" y="17986"/>
                  <a:pt x="4440" y="17946"/>
                  <a:pt x="4440" y="17909"/>
                </a:cubicBezTo>
              </a:path>
              <a:path w="3126" h="1688">
                <a:moveTo>
                  <a:pt x="4713" y="17636"/>
                </a:moveTo>
                <a:cubicBezTo>
                  <a:pt x="4686" y="17686"/>
                  <a:pt x="4623" y="17774"/>
                  <a:pt x="4638" y="17835"/>
                </a:cubicBezTo>
                <a:cubicBezTo>
                  <a:pt x="4647" y="17871"/>
                  <a:pt x="4674" y="17942"/>
                  <a:pt x="4713" y="17959"/>
                </a:cubicBezTo>
                <a:cubicBezTo>
                  <a:pt x="4766" y="17982"/>
                  <a:pt x="4771" y="17933"/>
                  <a:pt x="4787" y="17909"/>
                </a:cubicBezTo>
                <a:cubicBezTo>
                  <a:pt x="4827" y="17849"/>
                  <a:pt x="4837" y="17833"/>
                  <a:pt x="4837" y="17760"/>
                </a:cubicBezTo>
                <a:cubicBezTo>
                  <a:pt x="4837" y="17685"/>
                  <a:pt x="4799" y="17671"/>
                  <a:pt x="4738" y="17636"/>
                </a:cubicBezTo>
              </a:path>
              <a:path w="3126" h="1688">
                <a:moveTo>
                  <a:pt x="4614" y="17636"/>
                </a:moveTo>
                <a:cubicBezTo>
                  <a:pt x="4737" y="17716"/>
                  <a:pt x="4787" y="17725"/>
                  <a:pt x="4936" y="17735"/>
                </a:cubicBezTo>
              </a:path>
              <a:path w="3126" h="1688">
                <a:moveTo>
                  <a:pt x="5184" y="17289"/>
                </a:moveTo>
                <a:cubicBezTo>
                  <a:pt x="5151" y="17405"/>
                  <a:pt x="5116" y="17516"/>
                  <a:pt x="5110" y="17636"/>
                </a:cubicBezTo>
                <a:cubicBezTo>
                  <a:pt x="5110" y="17688"/>
                  <a:pt x="5109" y="17706"/>
                  <a:pt x="5085" y="17735"/>
                </a:cubicBezTo>
              </a:path>
              <a:path w="3126" h="1688">
                <a:moveTo>
                  <a:pt x="4961" y="17487"/>
                </a:moveTo>
                <a:cubicBezTo>
                  <a:pt x="5063" y="17487"/>
                  <a:pt x="5142" y="17477"/>
                  <a:pt x="5234" y="17512"/>
                </a:cubicBezTo>
              </a:path>
              <a:path w="3126" h="1688">
                <a:moveTo>
                  <a:pt x="5581" y="17190"/>
                </a:moveTo>
                <a:cubicBezTo>
                  <a:pt x="5564" y="17182"/>
                  <a:pt x="5548" y="17173"/>
                  <a:pt x="5531" y="17165"/>
                </a:cubicBezTo>
                <a:cubicBezTo>
                  <a:pt x="5531" y="17222"/>
                  <a:pt x="5547" y="17261"/>
                  <a:pt x="5556" y="17314"/>
                </a:cubicBezTo>
                <a:cubicBezTo>
                  <a:pt x="5569" y="17393"/>
                  <a:pt x="5606" y="17454"/>
                  <a:pt x="5606" y="17537"/>
                </a:cubicBezTo>
                <a:cubicBezTo>
                  <a:pt x="5606" y="17545"/>
                  <a:pt x="5606" y="17554"/>
                  <a:pt x="5606" y="17562"/>
                </a:cubicBezTo>
                <a:cubicBezTo>
                  <a:pt x="5542" y="17562"/>
                  <a:pt x="5526" y="17526"/>
                  <a:pt x="5507" y="17462"/>
                </a:cubicBezTo>
                <a:cubicBezTo>
                  <a:pt x="5507" y="17454"/>
                  <a:pt x="5507" y="17446"/>
                  <a:pt x="5507" y="17438"/>
                </a:cubicBezTo>
              </a:path>
              <a:path w="3126" h="1688">
                <a:moveTo>
                  <a:pt x="5779" y="17289"/>
                </a:moveTo>
                <a:cubicBezTo>
                  <a:pt x="5785" y="17320"/>
                  <a:pt x="5828" y="17454"/>
                  <a:pt x="5779" y="17487"/>
                </a:cubicBezTo>
                <a:cubicBezTo>
                  <a:pt x="5771" y="17487"/>
                  <a:pt x="5763" y="17487"/>
                  <a:pt x="5755" y="17487"/>
                </a:cubicBezTo>
              </a:path>
              <a:path w="3126" h="1688">
                <a:moveTo>
                  <a:pt x="5829" y="17190"/>
                </a:moveTo>
                <a:cubicBezTo>
                  <a:pt x="5870" y="17170"/>
                  <a:pt x="5886" y="17151"/>
                  <a:pt x="5879" y="17190"/>
                </a:cubicBezTo>
              </a:path>
              <a:path w="3126" h="1688">
                <a:moveTo>
                  <a:pt x="5953" y="17487"/>
                </a:moveTo>
                <a:cubicBezTo>
                  <a:pt x="5934" y="17545"/>
                  <a:pt x="5907" y="17570"/>
                  <a:pt x="5953" y="17562"/>
                </a:cubicBezTo>
                <a:cubicBezTo>
                  <a:pt x="5972" y="17488"/>
                  <a:pt x="6025" y="17429"/>
                  <a:pt x="6077" y="17363"/>
                </a:cubicBezTo>
                <a:cubicBezTo>
                  <a:pt x="6111" y="17320"/>
                  <a:pt x="6112" y="17356"/>
                  <a:pt x="6127" y="17314"/>
                </a:cubicBezTo>
                <a:cubicBezTo>
                  <a:pt x="6166" y="17365"/>
                  <a:pt x="6134" y="17376"/>
                  <a:pt x="6152" y="17438"/>
                </a:cubicBezTo>
                <a:cubicBezTo>
                  <a:pt x="6166" y="17487"/>
                  <a:pt x="6174" y="17583"/>
                  <a:pt x="6226" y="17611"/>
                </a:cubicBezTo>
                <a:cubicBezTo>
                  <a:pt x="6234" y="17611"/>
                  <a:pt x="6243" y="17611"/>
                  <a:pt x="6251" y="17611"/>
                </a:cubicBezTo>
              </a:path>
              <a:path w="3126" h="1688">
                <a:moveTo>
                  <a:pt x="6499" y="17314"/>
                </a:moveTo>
                <a:cubicBezTo>
                  <a:pt x="6475" y="17355"/>
                  <a:pt x="6411" y="17420"/>
                  <a:pt x="6400" y="17462"/>
                </a:cubicBezTo>
                <a:cubicBezTo>
                  <a:pt x="6389" y="17506"/>
                  <a:pt x="6396" y="17556"/>
                  <a:pt x="6424" y="17587"/>
                </a:cubicBezTo>
                <a:cubicBezTo>
                  <a:pt x="6458" y="17625"/>
                  <a:pt x="6490" y="17618"/>
                  <a:pt x="6524" y="17587"/>
                </a:cubicBezTo>
                <a:cubicBezTo>
                  <a:pt x="6581" y="17536"/>
                  <a:pt x="6612" y="17487"/>
                  <a:pt x="6623" y="17413"/>
                </a:cubicBezTo>
                <a:cubicBezTo>
                  <a:pt x="6633" y="17340"/>
                  <a:pt x="6606" y="17324"/>
                  <a:pt x="6548" y="17289"/>
                </a:cubicBezTo>
                <a:cubicBezTo>
                  <a:pt x="6508" y="17269"/>
                  <a:pt x="6502" y="17260"/>
                  <a:pt x="6474" y="17264"/>
                </a:cubicBezTo>
              </a:path>
              <a:path w="3126" h="1688">
                <a:moveTo>
                  <a:pt x="6300" y="17314"/>
                </a:moveTo>
                <a:cubicBezTo>
                  <a:pt x="6314" y="17370"/>
                  <a:pt x="6368" y="17391"/>
                  <a:pt x="6424" y="17413"/>
                </a:cubicBezTo>
                <a:cubicBezTo>
                  <a:pt x="6544" y="17460"/>
                  <a:pt x="6669" y="17501"/>
                  <a:pt x="6796" y="17512"/>
                </a:cubicBezTo>
              </a:path>
              <a:path w="3126" h="1688">
                <a:moveTo>
                  <a:pt x="5631" y="17810"/>
                </a:moveTo>
                <a:cubicBezTo>
                  <a:pt x="5772" y="17840"/>
                  <a:pt x="5912" y="17861"/>
                  <a:pt x="6052" y="17884"/>
                </a:cubicBezTo>
                <a:cubicBezTo>
                  <a:pt x="6191" y="17907"/>
                  <a:pt x="6289" y="17902"/>
                  <a:pt x="6424" y="17884"/>
                </a:cubicBezTo>
                <a:cubicBezTo>
                  <a:pt x="6469" y="17884"/>
                  <a:pt x="6482" y="17887"/>
                  <a:pt x="6499" y="17859"/>
                </a:cubicBezTo>
              </a:path>
              <a:path w="3126" h="1688">
                <a:moveTo>
                  <a:pt x="6127" y="18033"/>
                </a:moveTo>
                <a:cubicBezTo>
                  <a:pt x="6134" y="18004"/>
                  <a:pt x="6144" y="17988"/>
                  <a:pt x="6152" y="17959"/>
                </a:cubicBezTo>
                <a:cubicBezTo>
                  <a:pt x="6091" y="17913"/>
                  <a:pt x="6072" y="17950"/>
                  <a:pt x="6003" y="17959"/>
                </a:cubicBezTo>
                <a:cubicBezTo>
                  <a:pt x="5919" y="17970"/>
                  <a:pt x="5870" y="17973"/>
                  <a:pt x="5804" y="18033"/>
                </a:cubicBezTo>
                <a:cubicBezTo>
                  <a:pt x="5757" y="18075"/>
                  <a:pt x="5773" y="18157"/>
                  <a:pt x="5804" y="18207"/>
                </a:cubicBezTo>
                <a:cubicBezTo>
                  <a:pt x="5838" y="18262"/>
                  <a:pt x="5905" y="18292"/>
                  <a:pt x="5953" y="18331"/>
                </a:cubicBezTo>
              </a:path>
              <a:path w="3126" h="1688">
                <a:moveTo>
                  <a:pt x="6201" y="18132"/>
                </a:moveTo>
                <a:cubicBezTo>
                  <a:pt x="6148" y="18186"/>
                  <a:pt x="6079" y="18218"/>
                  <a:pt x="6127" y="18281"/>
                </a:cubicBezTo>
                <a:cubicBezTo>
                  <a:pt x="6168" y="18334"/>
                  <a:pt x="6218" y="18365"/>
                  <a:pt x="6276" y="18331"/>
                </a:cubicBezTo>
                <a:cubicBezTo>
                  <a:pt x="6333" y="18298"/>
                  <a:pt x="6333" y="18256"/>
                  <a:pt x="6350" y="18207"/>
                </a:cubicBezTo>
                <a:cubicBezTo>
                  <a:pt x="6379" y="18126"/>
                  <a:pt x="6358" y="18102"/>
                  <a:pt x="6350" y="18033"/>
                </a:cubicBezTo>
                <a:cubicBezTo>
                  <a:pt x="6350" y="18025"/>
                  <a:pt x="6350" y="18016"/>
                  <a:pt x="6350" y="18008"/>
                </a:cubicBezTo>
              </a:path>
              <a:path w="3126" h="1688">
                <a:moveTo>
                  <a:pt x="6499" y="18008"/>
                </a:moveTo>
                <a:cubicBezTo>
                  <a:pt x="6490" y="18092"/>
                  <a:pt x="6459" y="18176"/>
                  <a:pt x="6449" y="18256"/>
                </a:cubicBezTo>
                <a:cubicBezTo>
                  <a:pt x="6442" y="18316"/>
                  <a:pt x="6472" y="18397"/>
                  <a:pt x="6400" y="18430"/>
                </a:cubicBezTo>
                <a:cubicBezTo>
                  <a:pt x="6375" y="18430"/>
                  <a:pt x="6367" y="18430"/>
                  <a:pt x="6350" y="18430"/>
                </a:cubicBezTo>
                <a:cubicBezTo>
                  <a:pt x="6350" y="18355"/>
                  <a:pt x="6333" y="18324"/>
                  <a:pt x="6350" y="18256"/>
                </a:cubicBezTo>
              </a:path>
              <a:path w="3126" h="1688">
                <a:moveTo>
                  <a:pt x="6722" y="18008"/>
                </a:moveTo>
                <a:cubicBezTo>
                  <a:pt x="6636" y="18129"/>
                  <a:pt x="6592" y="18181"/>
                  <a:pt x="6648" y="18331"/>
                </a:cubicBezTo>
                <a:cubicBezTo>
                  <a:pt x="6661" y="18365"/>
                  <a:pt x="6697" y="18433"/>
                  <a:pt x="6747" y="18405"/>
                </a:cubicBezTo>
                <a:cubicBezTo>
                  <a:pt x="6802" y="18375"/>
                  <a:pt x="6817" y="18284"/>
                  <a:pt x="6821" y="18231"/>
                </a:cubicBezTo>
                <a:cubicBezTo>
                  <a:pt x="6821" y="18196"/>
                  <a:pt x="6816" y="18179"/>
                  <a:pt x="6796" y="18157"/>
                </a:cubicBezTo>
              </a:path>
              <a:path w="3126" h="1688">
                <a:moveTo>
                  <a:pt x="6623" y="18058"/>
                </a:moveTo>
                <a:cubicBezTo>
                  <a:pt x="6561" y="18058"/>
                  <a:pt x="6546" y="18048"/>
                  <a:pt x="6524" y="18083"/>
                </a:cubicBezTo>
                <a:cubicBezTo>
                  <a:pt x="6541" y="18169"/>
                  <a:pt x="6578" y="18165"/>
                  <a:pt x="6648" y="18207"/>
                </a:cubicBezTo>
                <a:cubicBezTo>
                  <a:pt x="6750" y="18269"/>
                  <a:pt x="6827" y="18296"/>
                  <a:pt x="6945" y="183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3062160"/>
            <a:ext cx="2054520" cy="108000"/>
          </a:xfrm>
          <a:custGeom>
            <a:avLst/>
            <a:gdLst/>
            <a:ahLst/>
            <a:rect l="l" t="t" r="r" b="b"/>
            <a:pathLst>
              <a:path w="5706" h="299">
                <a:moveTo>
                  <a:pt x="3125" y="8781"/>
                </a:moveTo>
                <a:cubicBezTo>
                  <a:pt x="3347" y="8781"/>
                  <a:pt x="3553" y="8788"/>
                  <a:pt x="3770" y="8806"/>
                </a:cubicBezTo>
                <a:cubicBezTo>
                  <a:pt x="4018" y="8827"/>
                  <a:pt x="4269" y="8795"/>
                  <a:pt x="4514" y="8781"/>
                </a:cubicBezTo>
                <a:cubicBezTo>
                  <a:pt x="4723" y="8769"/>
                  <a:pt x="4927" y="8745"/>
                  <a:pt x="5135" y="8731"/>
                </a:cubicBezTo>
                <a:cubicBezTo>
                  <a:pt x="5440" y="8711"/>
                  <a:pt x="5747" y="8673"/>
                  <a:pt x="6052" y="8657"/>
                </a:cubicBezTo>
                <a:cubicBezTo>
                  <a:pt x="6317" y="8643"/>
                  <a:pt x="6582" y="8618"/>
                  <a:pt x="6846" y="8607"/>
                </a:cubicBezTo>
                <a:cubicBezTo>
                  <a:pt x="7351" y="8586"/>
                  <a:pt x="7856" y="8614"/>
                  <a:pt x="8359" y="8582"/>
                </a:cubicBezTo>
                <a:cubicBezTo>
                  <a:pt x="8484" y="8574"/>
                  <a:pt x="8636" y="8597"/>
                  <a:pt x="8756" y="8558"/>
                </a:cubicBezTo>
                <a:cubicBezTo>
                  <a:pt x="8793" y="8546"/>
                  <a:pt x="8820" y="8512"/>
                  <a:pt x="8830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7040" y="4330800"/>
            <a:ext cx="2401920" cy="214200"/>
          </a:xfrm>
          <a:custGeom>
            <a:avLst/>
            <a:gdLst/>
            <a:ahLst/>
            <a:rect l="l" t="t" r="r" b="b"/>
            <a:pathLst>
              <a:path w="6674" h="597">
                <a:moveTo>
                  <a:pt x="1488" y="12030"/>
                </a:moveTo>
                <a:cubicBezTo>
                  <a:pt x="1522" y="12052"/>
                  <a:pt x="1500" y="12066"/>
                  <a:pt x="1538" y="12080"/>
                </a:cubicBezTo>
                <a:cubicBezTo>
                  <a:pt x="1615" y="12108"/>
                  <a:pt x="1754" y="12124"/>
                  <a:pt x="1836" y="12129"/>
                </a:cubicBezTo>
                <a:cubicBezTo>
                  <a:pt x="2002" y="12138"/>
                  <a:pt x="2167" y="12135"/>
                  <a:pt x="2332" y="12154"/>
                </a:cubicBezTo>
                <a:cubicBezTo>
                  <a:pt x="2637" y="12189"/>
                  <a:pt x="2943" y="12220"/>
                  <a:pt x="3249" y="12254"/>
                </a:cubicBezTo>
                <a:cubicBezTo>
                  <a:pt x="3680" y="12302"/>
                  <a:pt x="4109" y="12360"/>
                  <a:pt x="4539" y="12402"/>
                </a:cubicBezTo>
                <a:cubicBezTo>
                  <a:pt x="5027" y="12450"/>
                  <a:pt x="5514" y="12474"/>
                  <a:pt x="6003" y="12502"/>
                </a:cubicBezTo>
                <a:cubicBezTo>
                  <a:pt x="6350" y="12522"/>
                  <a:pt x="6700" y="12542"/>
                  <a:pt x="7045" y="12576"/>
                </a:cubicBezTo>
                <a:cubicBezTo>
                  <a:pt x="7300" y="12601"/>
                  <a:pt x="7557" y="12621"/>
                  <a:pt x="7813" y="12626"/>
                </a:cubicBezTo>
                <a:cubicBezTo>
                  <a:pt x="7939" y="12629"/>
                  <a:pt x="8026" y="12634"/>
                  <a:pt x="8136" y="12576"/>
                </a:cubicBezTo>
                <a:cubicBezTo>
                  <a:pt x="8136" y="12568"/>
                  <a:pt x="8136" y="12559"/>
                  <a:pt x="8136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4:01:00Z</dcterms:created>
  <dc:creator>abeason</dc:creator>
  <dc:description/>
  <dc:language>en-US</dc:language>
  <cp:lastModifiedBy>abeason</cp:lastModifiedBy>
  <dcterms:modified xsi:type="dcterms:W3CDTF">2008-11-26T16:41:53Z</dcterms:modified>
  <cp:revision>2</cp:revision>
  <dc:subject/>
  <dc:title>Happy Thanksgiving!!!!</dc:title>
</cp:coreProperties>
</file>